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86E-4AC0-417A-92CF-FC9BD158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605-B86F-477C-88BA-759A7670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EAB-6D51-4CCB-94C0-F26E67A9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A78-2A62-4004-B671-3C4418B4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344D-47A2-412C-B68C-AC484546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C083-6BDB-418B-B0D4-99266280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B81C-2B68-491F-ABD8-90935E3D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827A-406A-4D92-989E-A5171EE5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E6A4-94C2-4405-93F6-2B6C6A76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B07B-0C6D-46B5-8BC0-62EA6B53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52C4-3C9D-4D43-9377-58DB32CF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D0B-F41E-4E34-B585-3D331786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A75B-3283-4F6E-A56B-6F390EE8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A686-DFC5-4564-854C-BAE9D4D1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61D3-4F49-452A-8D92-538AF34A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2E08-D417-42BF-A07E-90B9B4A2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F3C5-9030-4C27-AA92-1C1F8961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31C0F-7787-43E1-93D8-71507FBD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5757-FEAB-4BBC-9A69-7771FB81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BFF14-940F-463D-8B91-F5C85BD6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56C14-F0DB-4750-809B-E762715D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A8202-41EB-4EE1-9FBC-A294260F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D225-5996-4C24-A9C5-584887E1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6E590-768E-446D-B6C4-1ECCBCF4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6ABAA-A209-4C37-9136-FEAC39D3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92029-837B-4C3A-BFA6-6776BEBB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6430A-0E8F-46C5-81F3-56E2071F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5FCE-707C-4C1D-ADAC-B28F4354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F5C8-E084-4CEF-B764-3DB645B3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5C35C-83B4-424E-8973-2BB834195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B0E45-B1DD-46A9-AEAF-03FCB368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AD2A-7895-4DD4-8229-8BE86EE1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C212B-99A6-41D3-8F40-18B31A3B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437-2974-4B86-80BD-B7D0BD14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3D71-3831-48AA-A659-87E4A702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347E4-D2C5-4C76-9403-2E32874F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6A439-F6A5-4A97-BB20-990ABAB8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3EB3C-CD90-4451-8756-713A86D5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0909-9276-42A3-96BB-A0710F3D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523B0-1FA8-4AD1-B5F6-CA5BF45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D5701-43C2-4D57-9BC3-2FA2B453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7C0AC-553E-4EE8-AA22-12D4C7D7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552AC-8E99-4319-8508-5395FAA2C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300-3CC7-4078-9C05-CC7A9410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B08-33D5-4498-91A8-BCB8D83C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5FA-9FB6-46CC-992B-2EC1EADC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7CB-0285-4811-A4CE-E4693A5E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73E-9718-4B92-A11E-8EC85777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FED3-C119-41B7-81AA-0BBEEED8631F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761E-6164-401A-93C6-6B1775CFC548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4EFE-BB83-4BE0-A0EC-411393DCB332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A29F-E072-45D9-8E47-CE001313BF1F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679B-5D51-46B6-AE71-5A071DDEC992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E0EA-C934-4304-A22E-773FAEBF6346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AA1E-CA22-47DD-B0E7-4E775A01E7F0}" type="datetime">
              <a:rPr b="0" lang="es-SV" sz="9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14E0-9C67-4082-AC2A-4E80B8F72724}" type="slidenum">
              <a:rPr b="0" lang="es-SV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4900" spc="-1" strike="noStrike">
                <a:solidFill>
                  <a:srgbClr val="90c226"/>
                </a:solidFill>
                <a:latin typeface="Trebuchet MS"/>
              </a:rPr>
              <a:t>Tema 4: </a:t>
            </a:r>
            <a:r>
              <a:rPr b="0" lang="es-SV" sz="4900" spc="-1" strike="noStrike">
                <a:solidFill>
                  <a:srgbClr val="90c226"/>
                </a:solidFill>
                <a:latin typeface="Trebuchet MS"/>
              </a:rPr>
              <a:t>Certificaciones y acreditaciones del auditor Forense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magen 1" descr=""/>
          <p:cNvPicPr/>
          <p:nvPr/>
        </p:nvPicPr>
        <p:blipFill>
          <a:blip r:embed="rId1"/>
          <a:stretch/>
        </p:blipFill>
        <p:spPr>
          <a:xfrm>
            <a:off x="36360" y="66600"/>
            <a:ext cx="1652760" cy="1212840"/>
          </a:xfrm>
          <a:prstGeom prst="rect">
            <a:avLst/>
          </a:prstGeom>
          <a:ln w="0">
            <a:noFill/>
          </a:ln>
        </p:spPr>
      </p:pic>
      <p:pic>
        <p:nvPicPr>
          <p:cNvPr id="214" name="Imagen 1" descr=""/>
          <p:cNvPicPr/>
          <p:nvPr/>
        </p:nvPicPr>
        <p:blipFill>
          <a:blip r:embed="rId2"/>
          <a:stretch/>
        </p:blipFill>
        <p:spPr>
          <a:xfrm>
            <a:off x="10094760" y="268200"/>
            <a:ext cx="1560600" cy="1176480"/>
          </a:xfrm>
          <a:prstGeom prst="rect">
            <a:avLst/>
          </a:prstGeom>
          <a:ln w="0">
            <a:noFill/>
          </a:ln>
        </p:spPr>
      </p:pic>
      <p:sp>
        <p:nvSpPr>
          <p:cNvPr id="215" name="1 Marcador de pie de página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77520" y="378000"/>
            <a:ext cx="859644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200" spc="-1" strike="noStrike">
                <a:solidFill>
                  <a:srgbClr val="90c226"/>
                </a:solidFill>
                <a:latin typeface="Trebuchet MS"/>
              </a:rPr>
              <a:t>Figura 1: Detalle de los registros de CIAS por países.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magen 1" descr=""/>
          <p:cNvPicPr/>
          <p:nvPr/>
        </p:nvPicPr>
        <p:blipFill>
          <a:blip r:embed="rId1"/>
          <a:srcRect l="21895" t="19849" r="33835" b="36334"/>
          <a:stretch/>
        </p:blipFill>
        <p:spPr>
          <a:xfrm>
            <a:off x="677880" y="1698480"/>
            <a:ext cx="8817120" cy="5113440"/>
          </a:xfrm>
          <a:prstGeom prst="rect">
            <a:avLst/>
          </a:prstGeom>
          <a:ln w="0">
            <a:noFill/>
          </a:ln>
        </p:spPr>
      </p:pic>
      <p:pic>
        <p:nvPicPr>
          <p:cNvPr id="253" name="Imagen 1" descr=""/>
          <p:cNvPicPr/>
          <p:nvPr/>
        </p:nvPicPr>
        <p:blipFill>
          <a:blip r:embed="rId2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54" name="Imagen 1" descr=""/>
          <p:cNvPicPr/>
          <p:nvPr/>
        </p:nvPicPr>
        <p:blipFill>
          <a:blip r:embed="rId3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  <p:sp>
        <p:nvSpPr>
          <p:cNvPr id="255" name="2 Marcador de pie de página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3600" spc="-1" strike="noStrike">
                <a:solidFill>
                  <a:srgbClr val="90c226"/>
                </a:solidFill>
                <a:latin typeface="Trebuchet MS"/>
              </a:rPr>
              <a:t>Otras Certificación y Acreditació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2160360"/>
            <a:ext cx="94294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Sistema Judicial de Cortes Civiles y Penales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Instituciones de Investigación, a nivel local o naciona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Departamentos de Policí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Tarjeta profesional para el ejercicio de sus funciones o licencia del gobiern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Asociación Profesional o Colegiad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Certificación y Acreditación de organizaciones internacionales (opcional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90c226"/>
                </a:solidFill>
                <a:latin typeface="Trebuchet MS"/>
              </a:rPr>
              <a:t>Definició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25600" y="1781280"/>
            <a:ext cx="960912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Es un componente de la contabilidad forense, a través del cual los profesionales investigan fraudes financieros en las empresas, Un Auditor Forense para poder ejercer su función, debe estar certificado y acreditado, además de calificado para el procedimiento que le sea asignado. Si sus funciones son a nivel de investigación forense, su auditoria será cuestionada en una Corte, debe estar entonces certificado por la Corte., o por el sistema Judicial de las Cortes</a:t>
            </a:r>
            <a:r>
              <a:rPr b="0" lang="es-ES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¹</a:t>
            </a: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Imagen 1" descr=""/>
          <p:cNvPicPr/>
          <p:nvPr/>
        </p:nvPicPr>
        <p:blipFill>
          <a:blip r:embed="rId1"/>
          <a:stretch/>
        </p:blipFill>
        <p:spPr>
          <a:xfrm>
            <a:off x="10449000" y="543708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19" name="Imagen 1" descr=""/>
          <p:cNvPicPr/>
          <p:nvPr/>
        </p:nvPicPr>
        <p:blipFill>
          <a:blip r:embed="rId2"/>
          <a:stretch/>
        </p:blipFill>
        <p:spPr>
          <a:xfrm>
            <a:off x="10534680" y="237960"/>
            <a:ext cx="1565280" cy="1176480"/>
          </a:xfrm>
          <a:prstGeom prst="rect">
            <a:avLst/>
          </a:prstGeom>
          <a:ln w="0">
            <a:noFill/>
          </a:ln>
        </p:spPr>
      </p:pic>
      <p:sp>
        <p:nvSpPr>
          <p:cNvPr id="220" name="1 Marcador de pie de página"/>
          <p:cNvSpPr/>
          <p:nvPr/>
        </p:nvSpPr>
        <p:spPr>
          <a:xfrm>
            <a:off x="677880" y="6041880"/>
            <a:ext cx="6297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9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¹</a:t>
            </a:r>
            <a:r>
              <a:rPr b="0" lang="es-ES" sz="900" spc="-1" strike="noStrike">
                <a:solidFill>
                  <a:srgbClr val="898989"/>
                </a:solidFill>
                <a:latin typeface="Trebuchet MS"/>
              </a:rPr>
              <a:t>Ibídem, p. 33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90c226"/>
                </a:solidFill>
                <a:latin typeface="Trebuchet MS"/>
              </a:rPr>
              <a:t>¿Quién podrán ejercer la Contaduría Pública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520" y="2160360"/>
            <a:ext cx="991404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SV" sz="2400" spc="-1" strike="noStrike">
                <a:solidFill>
                  <a:srgbClr val="404040"/>
                </a:solidFill>
                <a:latin typeface="Trebuchet MS"/>
              </a:rPr>
              <a:t>Según Art 2: Ley del Ejercicio Reguladora de Contaduría Pública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400" spc="-1" strike="noStrike">
                <a:solidFill>
                  <a:srgbClr val="404040"/>
                </a:solidFill>
                <a:latin typeface="Trebuchet MS"/>
              </a:rPr>
              <a:t>Los que tuvieren título de Licenciado en Contaduría Pública conferido por alguna de las Universidades autorizadas en El Salvador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400" spc="-1" strike="noStrike">
                <a:solidFill>
                  <a:srgbClr val="404040"/>
                </a:solidFill>
                <a:latin typeface="Trebuchet MS"/>
              </a:rPr>
              <a:t>Los que tuvieren la calidad de Contadores Públicos Certificados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400" spc="-1" strike="noStrike">
                <a:solidFill>
                  <a:srgbClr val="404040"/>
                </a:solidFill>
                <a:latin typeface="Trebuchet MS"/>
              </a:rPr>
              <a:t>Los que hubieren obtenido en Universidades extranjeras, título similar al expresado en el literal a) y haber sido autorizados según el procedimiento que disponga el Ministerio de Educación para la incorporación correspondient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4572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magen 1" descr=""/>
          <p:cNvPicPr/>
          <p:nvPr/>
        </p:nvPicPr>
        <p:blipFill>
          <a:blip r:embed="rId1"/>
          <a:stretch/>
        </p:blipFill>
        <p:spPr>
          <a:xfrm>
            <a:off x="10449000" y="545616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1" descr=""/>
          <p:cNvPicPr/>
          <p:nvPr/>
        </p:nvPicPr>
        <p:blipFill>
          <a:blip r:embed="rId2"/>
          <a:stretch/>
        </p:blipFill>
        <p:spPr>
          <a:xfrm>
            <a:off x="10094760" y="268200"/>
            <a:ext cx="1560600" cy="1176480"/>
          </a:xfrm>
          <a:prstGeom prst="rect">
            <a:avLst/>
          </a:prstGeom>
          <a:ln w="0">
            <a:noFill/>
          </a:ln>
        </p:spPr>
      </p:pic>
      <p:pic>
        <p:nvPicPr>
          <p:cNvPr id="225" name="Imagen 1" descr=""/>
          <p:cNvPicPr/>
          <p:nvPr/>
        </p:nvPicPr>
        <p:blipFill>
          <a:blip r:embed="rId3"/>
          <a:stretch/>
        </p:blipFill>
        <p:spPr>
          <a:xfrm>
            <a:off x="10449000" y="543708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26" name="Imagen 1" descr=""/>
          <p:cNvPicPr/>
          <p:nvPr/>
        </p:nvPicPr>
        <p:blipFill>
          <a:blip r:embed="rId4"/>
          <a:stretch/>
        </p:blipFill>
        <p:spPr>
          <a:xfrm>
            <a:off x="10094760" y="249120"/>
            <a:ext cx="156060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3200" spc="-1" strike="noStrike">
                <a:solidFill>
                  <a:srgbClr val="90c226"/>
                </a:solidFill>
                <a:latin typeface="Trebuchet MS"/>
              </a:rPr>
              <a:t>Requisitos para ser autorizado como contador publico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77520" y="2160720"/>
            <a:ext cx="9418680" cy="42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2600" spc="-1" strike="noStrike">
                <a:solidFill>
                  <a:srgbClr val="404040"/>
                </a:solidFill>
                <a:latin typeface="Trebuchet MS"/>
              </a:rPr>
              <a:t>Art N°3 Ley del Ejercicio Reguladora de Contaduría Pública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2600" spc="-1" strike="noStrike">
                <a:solidFill>
                  <a:srgbClr val="404040"/>
                </a:solidFill>
                <a:latin typeface="Trebuchet MS"/>
              </a:rPr>
              <a:t>a) En el caso de personas naturales: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Ser de nacionalidad Salvadoreña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Ser de honradez notoria y competencia suficiente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No haber sido declarado en quiebra ni en suspensión de pagos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Estar en pleno uso de sus derechos de ciudadano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600" spc="-1" strike="noStrike">
                <a:solidFill>
                  <a:srgbClr val="404040"/>
                </a:solidFill>
                <a:latin typeface="Trebuchet MS"/>
              </a:rPr>
              <a:t>Estar autorizada por el Consejo de conformidad a esta ley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438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magen 1" descr=""/>
          <p:cNvPicPr/>
          <p:nvPr/>
        </p:nvPicPr>
        <p:blipFill>
          <a:blip r:embed="rId1"/>
          <a:stretch/>
        </p:blipFill>
        <p:spPr>
          <a:xfrm>
            <a:off x="10449000" y="5456160"/>
            <a:ext cx="1650960" cy="1212840"/>
          </a:xfrm>
          <a:prstGeom prst="rect">
            <a:avLst/>
          </a:prstGeom>
          <a:ln w="0">
            <a:noFill/>
          </a:ln>
        </p:spPr>
      </p:pic>
      <p:pic>
        <p:nvPicPr>
          <p:cNvPr id="230" name="Imagen 1" descr=""/>
          <p:cNvPicPr/>
          <p:nvPr/>
        </p:nvPicPr>
        <p:blipFill>
          <a:blip r:embed="rId2"/>
          <a:stretch/>
        </p:blipFill>
        <p:spPr>
          <a:xfrm>
            <a:off x="10094760" y="26820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42720" y="285480"/>
            <a:ext cx="10667880" cy="62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2200" spc="-1" strike="noStrike">
                <a:solidFill>
                  <a:srgbClr val="404040"/>
                </a:solidFill>
                <a:latin typeface="Trebuchet MS"/>
              </a:rPr>
              <a:t>b) En el caso de personas jurídicas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éstas se constituyan conforme a las normas del Código de Comercio. En el caso de sociedades de capital, sus acciones siempre serán nominativa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la finalidad única sea el ejercicio de la contaduría pública y materias conexas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la nacionalidad de ésta, así como la de sus principales socios, accionistas o asociados sea salvadoreñ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uno de los socios, accionistas, asociados y administradores, por lo menos, sea persona autorizada para ejercer la contaduría pública como persona natural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sus socios, accionistas, asociados y administradores sean de honradez notori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Que la representación legal de la misma así como la firma de documentos relacionados con la contaduría pública o la auditoría, la ejerzan sólo quienes estén autorizados como personas naturales para ejercer la contaduría pública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2200" spc="-1" strike="noStrike">
                <a:solidFill>
                  <a:srgbClr val="404040"/>
                </a:solidFill>
                <a:latin typeface="Trebuchet MS"/>
              </a:rPr>
              <a:t>Estar autorizada por el Consejo de conformidad a esta ley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2" name="Imagen 1" descr=""/>
          <p:cNvPicPr/>
          <p:nvPr/>
        </p:nvPicPr>
        <p:blipFill>
          <a:blip r:embed="rId1"/>
          <a:stretch/>
        </p:blipFill>
        <p:spPr>
          <a:xfrm>
            <a:off x="10582200" y="5430960"/>
            <a:ext cx="1652760" cy="1214280"/>
          </a:xfrm>
          <a:prstGeom prst="rect">
            <a:avLst/>
          </a:prstGeom>
          <a:ln w="0">
            <a:noFill/>
          </a:ln>
        </p:spPr>
      </p:pic>
      <p:pic>
        <p:nvPicPr>
          <p:cNvPr id="233" name="Imagen 1" descr=""/>
          <p:cNvPicPr/>
          <p:nvPr/>
        </p:nvPicPr>
        <p:blipFill>
          <a:blip r:embed="rId2"/>
          <a:stretch/>
        </p:blipFill>
        <p:spPr>
          <a:xfrm>
            <a:off x="10582200" y="13968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90c226"/>
                </a:solidFill>
                <a:latin typeface="Trebuchet MS"/>
              </a:rPr>
              <a:t>Certificación Internacional en Auditoria interna (CIA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91328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es el más prestigioso título de cualificación profesional en auditoria interna de todo el mundo. Es una certificación que avala a un experto en auditoria interna en el plano internacional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37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SV" sz="3600" spc="-1" strike="noStrike">
                <a:solidFill>
                  <a:srgbClr val="90c226"/>
                </a:solidFill>
                <a:latin typeface="Trebuchet MS"/>
              </a:rPr>
              <a:t>¿Cómo se obtiene la designación?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15720" y="1790280"/>
            <a:ext cx="97232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Titulación universitaria previa, dado que el CIA es una titulación de postgrado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Experiencia en auditoria interna o extern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Adhesión al Código de Ética del Instituto; u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SV" sz="3600" spc="-1" strike="noStrike">
                <a:solidFill>
                  <a:srgbClr val="404040"/>
                </a:solidFill>
                <a:latin typeface="Trebuchet MS"/>
              </a:rPr>
              <a:t>Aprobación de 4 exámenes, que pueden tomarse individualmente y al completarse los mismo se entrega el título CIA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41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90c226"/>
                </a:solidFill>
                <a:latin typeface="Trebuchet MS"/>
              </a:rPr>
              <a:t>Material de Estudio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404040"/>
                </a:solidFill>
                <a:latin typeface="Trebuchet MS"/>
              </a:rPr>
              <a:t>Libros y Software CIA Review (Research Foundation IIA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404040"/>
                </a:solidFill>
                <a:latin typeface="Trebuchet MS"/>
              </a:rPr>
              <a:t>Gleim on line Versión XVII (Gleim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404040"/>
                </a:solidFill>
                <a:latin typeface="Trebuchet MS"/>
              </a:rPr>
              <a:t>Aprende CIA y Aprueba CIA (IAI España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4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45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3600" spc="-1" strike="noStrike">
                <a:solidFill>
                  <a:srgbClr val="90c226"/>
                </a:solidFill>
                <a:latin typeface="Trebuchet MS"/>
              </a:rPr>
              <a:t>Como resultado, la designación CIA:</a:t>
            </a:r>
            <a:br>
              <a:rPr sz="3600"/>
            </a:b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487160"/>
            <a:ext cx="9990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Le hará sobresalir sobre sus colega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Le dará mayor importancia ante el personal interno y los clientes externos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Ampliará su conocimiento de las mejores prácticas aplicadas en la industri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Demostrará su pericia y profesionalism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Le dará la satisfacción de haber alcanzado una met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800" spc="-1" strike="noStrike">
                <a:solidFill>
                  <a:srgbClr val="404040"/>
                </a:solidFill>
                <a:latin typeface="Trebuchet MS"/>
              </a:rPr>
              <a:t>Sentará las bases para la mejora continua y el avance profesional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Imagen 1" descr=""/>
          <p:cNvPicPr/>
          <p:nvPr/>
        </p:nvPicPr>
        <p:blipFill>
          <a:blip r:embed="rId1"/>
          <a:stretch/>
        </p:blipFill>
        <p:spPr>
          <a:xfrm>
            <a:off x="10551960" y="5430960"/>
            <a:ext cx="165276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Imagen 1" descr=""/>
          <p:cNvPicPr/>
          <p:nvPr/>
        </p:nvPicPr>
        <p:blipFill>
          <a:blip r:embed="rId2"/>
          <a:stretch/>
        </p:blipFill>
        <p:spPr>
          <a:xfrm>
            <a:off x="10551960" y="237960"/>
            <a:ext cx="15606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5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5:03:46Z</dcterms:created>
  <dc:creator>Ever Fernando Garcia</dc:creator>
  <dc:description/>
  <dc:language>en-US</dc:language>
  <cp:lastModifiedBy>Xochilt</cp:lastModifiedBy>
  <dcterms:modified xsi:type="dcterms:W3CDTF">2015-11-11T17:49:10Z</dcterms:modified>
  <cp:revision>7</cp:revision>
  <dc:subject/>
  <dc:title>Tema 4: Certificaciones y acreditaciones del auditor Forense</dc:title>
</cp:coreProperties>
</file>