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AAA0-A333-441A-B464-3D85A439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8E1-9217-46D3-B6ED-0A85A7EE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3D75-CD92-45BF-9E49-968D5EE2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A74-BCF7-49EE-8EEB-807293A2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815F-31D3-43E4-8865-6393EF12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4DE4-A1C4-4151-9376-585BEECF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5046-9C5D-4831-B311-3F1E7383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7264-E906-45F4-84D0-9B8911EE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6F31-E92C-48F2-9D71-72113110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96F8-92D2-460E-9FBF-F65266C3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DAFE-4EC1-46A6-8B8F-65D99D7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CBB-5DA8-49FD-A0BB-77063BD9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247B-009A-4659-B2F8-02A116E2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0AC6-EB16-42F8-A58F-4B3E6C96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417E-7FD0-4247-B105-CE28FBF2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092D-0A6A-47B8-9054-D27C705B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9634-88DE-435E-AD01-0C6CD56F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BF333-97B5-487A-B494-40B90A4D3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0A506-4BB2-4845-BAC4-02392E5A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2D92E-CF90-4090-A6D1-FD4F0023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4536E-523C-4414-8B83-8A5384F7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DB3A-0ED5-4019-B95A-6C317E39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2FA-6C31-4CC3-A9CE-63CC49E6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E75A-6E33-44DC-AEFB-3F2F2D25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89587-D450-4E9A-95AA-E2C1138A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80BB5-7DBB-482C-A963-6609E1B1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8C06B-91CB-46E0-9498-D413151E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50568-9166-4225-BF87-9D2C89C3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F579F-6652-4FCF-9362-FD10F985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766B5-CF8B-4AFB-8562-01817238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BF1A5-3037-4D9F-AFF3-46B73BA8B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5EB6-3061-4B99-BC9F-EFE17F9E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73738-4775-43A4-A173-A1054DCA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0D8D-37CD-40D0-AEB2-C1241AEB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C1527-1C57-4C77-A978-083F9F11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F1860-D7E8-4AD6-8971-415D2BD2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4DD6B-F3EF-478A-8950-CDC5A09A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66377-2E12-456C-8022-C174F688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694D0-F67B-4E8F-9096-3F9C277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DB80-3981-42D4-B47B-7F7FE73D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32CF5-6C37-4819-BAB9-439B3FAF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93973-F560-4D26-91E2-5B554740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9355E-4C2E-4590-8A0C-CE8D5646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4A8-1D0F-41DE-A235-239FCB87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27E-5C0D-4EF5-878F-0795F960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341-F3DE-4434-A827-47BCCCC8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8AB-2730-48EF-9814-7E3EC662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98A-1542-467A-8191-AD0EC0F7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5089-F956-49C3-9911-87BF338DE1AF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CEAF-AF66-45E2-8E84-F59CED5C0707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124A-BC05-4450-97D4-B2B855CA44E0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A340-F95F-4519-8D05-55D627325106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89F8-7DD7-4161-B679-C26412725FB8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E585-5CAE-4C95-9864-A77C82DC36A0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A34B-87AE-47F7-9FF9-CF5AF997E2CA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15CE-F908-4606-B47D-193BC31B3153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4900" spc="-1" strike="noStrike">
                <a:solidFill>
                  <a:srgbClr val="90c226"/>
                </a:solidFill>
                <a:latin typeface="Trebuchet MS"/>
              </a:rPr>
              <a:t>Tema 4: </a:t>
            </a:r>
            <a:r>
              <a:rPr b="0" lang="es-SV" sz="4900" spc="-1" strike="noStrike">
                <a:solidFill>
                  <a:srgbClr val="90c226"/>
                </a:solidFill>
                <a:latin typeface="Trebuchet MS"/>
              </a:rPr>
              <a:t>Certificaciones y acreditaciones del auditor Forense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magen 1" descr=""/>
          <p:cNvPicPr/>
          <p:nvPr/>
        </p:nvPicPr>
        <p:blipFill>
          <a:blip r:embed="rId1"/>
          <a:stretch/>
        </p:blipFill>
        <p:spPr>
          <a:xfrm>
            <a:off x="36360" y="66600"/>
            <a:ext cx="1652760" cy="1212840"/>
          </a:xfrm>
          <a:prstGeom prst="rect">
            <a:avLst/>
          </a:prstGeom>
          <a:ln w="0">
            <a:noFill/>
          </a:ln>
        </p:spPr>
      </p:pic>
      <p:pic>
        <p:nvPicPr>
          <p:cNvPr id="214" name="Imagen 1" descr=""/>
          <p:cNvPicPr/>
          <p:nvPr/>
        </p:nvPicPr>
        <p:blipFill>
          <a:blip r:embed="rId2"/>
          <a:stretch/>
        </p:blipFill>
        <p:spPr>
          <a:xfrm>
            <a:off x="10094760" y="268200"/>
            <a:ext cx="1560600" cy="1176480"/>
          </a:xfrm>
          <a:prstGeom prst="rect">
            <a:avLst/>
          </a:prstGeom>
          <a:ln w="0">
            <a:noFill/>
          </a:ln>
        </p:spPr>
      </p:pic>
      <p:sp>
        <p:nvSpPr>
          <p:cNvPr id="215" name="1 Marcador de pie de página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7520" y="37800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200" spc="-1" strike="noStrike">
                <a:solidFill>
                  <a:srgbClr val="90c226"/>
                </a:solidFill>
                <a:latin typeface="Trebuchet MS"/>
              </a:rPr>
              <a:t>Figura 1: Detalle de los registros de CIAS por países.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magen 1" descr=""/>
          <p:cNvPicPr/>
          <p:nvPr/>
        </p:nvPicPr>
        <p:blipFill>
          <a:blip r:embed="rId1"/>
          <a:srcRect l="21895" t="19849" r="33835" b="36334"/>
          <a:stretch/>
        </p:blipFill>
        <p:spPr>
          <a:xfrm>
            <a:off x="677880" y="1698480"/>
            <a:ext cx="8817120" cy="5113440"/>
          </a:xfrm>
          <a:prstGeom prst="rect">
            <a:avLst/>
          </a:prstGeom>
          <a:ln w="0">
            <a:noFill/>
          </a:ln>
        </p:spPr>
      </p:pic>
      <p:pic>
        <p:nvPicPr>
          <p:cNvPr id="253" name="Imagen 1" descr=""/>
          <p:cNvPicPr/>
          <p:nvPr/>
        </p:nvPicPr>
        <p:blipFill>
          <a:blip r:embed="rId2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54" name="Imagen 1" descr=""/>
          <p:cNvPicPr/>
          <p:nvPr/>
        </p:nvPicPr>
        <p:blipFill>
          <a:blip r:embed="rId3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  <p:sp>
        <p:nvSpPr>
          <p:cNvPr id="255" name="2 Marcador de pie de página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600" spc="-1" strike="noStrike">
                <a:solidFill>
                  <a:srgbClr val="90c226"/>
                </a:solidFill>
                <a:latin typeface="Trebuchet MS"/>
              </a:rPr>
              <a:t>Otras Certificación y Acreditació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2160360"/>
            <a:ext cx="94294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Sistema Judicial de Cortes Civiles y Penal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Instituciones de Investigación, a nivel local o naciona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Departamentos de Policí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Tarjeta profesional para el ejercicio de sus funciones o licencia del gobiern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Asociación Profesional o Colegiad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Certificación y Acreditación de organizaciones internacionales (opcional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90c226"/>
                </a:solidFill>
                <a:latin typeface="Trebuchet MS"/>
              </a:rPr>
              <a:t>Definició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25600" y="1781280"/>
            <a:ext cx="96091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Es un componente de la contabilidad forense, a través del cual los profesionales investigan fraudes financieros en las empresas, Un Auditor Forense para poder ejercer su función, debe estar certificado y acreditado, además de calificado para el procedimiento que le sea asignado. Si sus funciones son a nivel de investigación forense, su auditoria será cuestionada en una Corte, debe estar entonces certificado por la Corte., o por el sistema Judicial de las Cortes</a:t>
            </a:r>
            <a:r>
              <a:rPr b="0" lang="es-E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¹</a:t>
            </a: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Imagen 1" descr=""/>
          <p:cNvPicPr/>
          <p:nvPr/>
        </p:nvPicPr>
        <p:blipFill>
          <a:blip r:embed="rId1"/>
          <a:stretch/>
        </p:blipFill>
        <p:spPr>
          <a:xfrm>
            <a:off x="10449000" y="543708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19" name="Imagen 1" descr=""/>
          <p:cNvPicPr/>
          <p:nvPr/>
        </p:nvPicPr>
        <p:blipFill>
          <a:blip r:embed="rId2"/>
          <a:stretch/>
        </p:blipFill>
        <p:spPr>
          <a:xfrm>
            <a:off x="10534680" y="237960"/>
            <a:ext cx="1565280" cy="1176480"/>
          </a:xfrm>
          <a:prstGeom prst="rect">
            <a:avLst/>
          </a:prstGeom>
          <a:ln w="0">
            <a:noFill/>
          </a:ln>
        </p:spPr>
      </p:pic>
      <p:sp>
        <p:nvSpPr>
          <p:cNvPr id="220" name="1 Marcador de pie de página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9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¹</a:t>
            </a:r>
            <a:r>
              <a:rPr b="0" lang="es-ES" sz="900" spc="-1" strike="noStrike">
                <a:solidFill>
                  <a:srgbClr val="898989"/>
                </a:solidFill>
                <a:latin typeface="Trebuchet MS"/>
              </a:rPr>
              <a:t>Ibídem, p. 33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90c226"/>
                </a:solidFill>
                <a:latin typeface="Trebuchet MS"/>
              </a:rPr>
              <a:t>¿Quién podrán ejercer la Contaduría Pública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2160360"/>
            <a:ext cx="991404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SV" sz="2400" spc="-1" strike="noStrike">
                <a:solidFill>
                  <a:srgbClr val="404040"/>
                </a:solidFill>
                <a:latin typeface="Trebuchet MS"/>
              </a:rPr>
              <a:t>Según Art 2: Ley del Ejercicio Reguladora de Contaduría Pública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400" spc="-1" strike="noStrike">
                <a:solidFill>
                  <a:srgbClr val="404040"/>
                </a:solidFill>
                <a:latin typeface="Trebuchet MS"/>
              </a:rPr>
              <a:t>Los que tuvieren título de Licenciado en Contaduría Pública conferido por alguna de las Universidades autorizadas en El Salvado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400" spc="-1" strike="noStrike">
                <a:solidFill>
                  <a:srgbClr val="404040"/>
                </a:solidFill>
                <a:latin typeface="Trebuchet MS"/>
              </a:rPr>
              <a:t>Los que tuvieren la calidad de Contadores Públicos Certificados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400" spc="-1" strike="noStrike">
                <a:solidFill>
                  <a:srgbClr val="404040"/>
                </a:solidFill>
                <a:latin typeface="Trebuchet MS"/>
              </a:rPr>
              <a:t>Los que hubieren obtenido en Universidades extranjeras, título similar al expresado en el literal a) y haber sido autorizados según el procedimiento que disponga el Ministerio de Educación para la incorporación correspondient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magen 1" descr=""/>
          <p:cNvPicPr/>
          <p:nvPr/>
        </p:nvPicPr>
        <p:blipFill>
          <a:blip r:embed="rId1"/>
          <a:stretch/>
        </p:blipFill>
        <p:spPr>
          <a:xfrm>
            <a:off x="10449000" y="545616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1" descr=""/>
          <p:cNvPicPr/>
          <p:nvPr/>
        </p:nvPicPr>
        <p:blipFill>
          <a:blip r:embed="rId2"/>
          <a:stretch/>
        </p:blipFill>
        <p:spPr>
          <a:xfrm>
            <a:off x="10094760" y="268200"/>
            <a:ext cx="1560600" cy="117648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1" descr=""/>
          <p:cNvPicPr/>
          <p:nvPr/>
        </p:nvPicPr>
        <p:blipFill>
          <a:blip r:embed="rId3"/>
          <a:stretch/>
        </p:blipFill>
        <p:spPr>
          <a:xfrm>
            <a:off x="10449000" y="543708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1" descr=""/>
          <p:cNvPicPr/>
          <p:nvPr/>
        </p:nvPicPr>
        <p:blipFill>
          <a:blip r:embed="rId4"/>
          <a:stretch/>
        </p:blipFill>
        <p:spPr>
          <a:xfrm>
            <a:off x="10094760" y="249120"/>
            <a:ext cx="15606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3200" spc="-1" strike="noStrike">
                <a:solidFill>
                  <a:srgbClr val="90c226"/>
                </a:solidFill>
                <a:latin typeface="Trebuchet MS"/>
              </a:rPr>
              <a:t>Requisitos para ser autorizado como contador publico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77520" y="2160720"/>
            <a:ext cx="941868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2600" spc="-1" strike="noStrike">
                <a:solidFill>
                  <a:srgbClr val="404040"/>
                </a:solidFill>
                <a:latin typeface="Trebuchet MS"/>
              </a:rPr>
              <a:t>Art N°3 Ley del Ejercicio Reguladora de Contaduría Pública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2600" spc="-1" strike="noStrike">
                <a:solidFill>
                  <a:srgbClr val="404040"/>
                </a:solidFill>
                <a:latin typeface="Trebuchet MS"/>
              </a:rPr>
              <a:t>a) En el caso de personas naturales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Ser de nacionalidad Salvadoreña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Ser de honradez notoria y competencia suficiente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No haber sido declarado en quiebra ni en suspensión de pago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Estar en pleno uso de sus derechos de ciudadano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Estar autorizada por el Consejo de conformidad a esta ley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438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magen 1" descr=""/>
          <p:cNvPicPr/>
          <p:nvPr/>
        </p:nvPicPr>
        <p:blipFill>
          <a:blip r:embed="rId1"/>
          <a:stretch/>
        </p:blipFill>
        <p:spPr>
          <a:xfrm>
            <a:off x="10449000" y="545616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30" name="Imagen 1" descr=""/>
          <p:cNvPicPr/>
          <p:nvPr/>
        </p:nvPicPr>
        <p:blipFill>
          <a:blip r:embed="rId2"/>
          <a:stretch/>
        </p:blipFill>
        <p:spPr>
          <a:xfrm>
            <a:off x="10094760" y="26820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42720" y="285480"/>
            <a:ext cx="10667880" cy="62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2200" spc="-1" strike="noStrike">
                <a:solidFill>
                  <a:srgbClr val="404040"/>
                </a:solidFill>
                <a:latin typeface="Trebuchet MS"/>
              </a:rPr>
              <a:t>b) En el caso de personas jurídica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éstas se constituyan conforme a las normas del Código de Comercio. En el caso de sociedades de capital, sus acciones siempre serán nominativa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la finalidad única sea el ejercicio de la contaduría pública y materias conexa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la nacionalidad de ésta, así como la de sus principales socios, accionistas o asociados sea salvadoreñ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uno de los socios, accionistas, asociados y administradores, por lo menos, sea persona autorizada para ejercer la contaduría pública como persona natural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sus socios, accionistas, asociados y administradores sean de honradez notori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la representación legal de la misma así como la firma de documentos relacionados con la contaduría pública o la auditoría, la ejerzan sólo quienes estén autorizados como personas naturales para ejercer la contaduría públic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Estar autorizada por el Consejo de conformidad a esta le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Imagen 1" descr=""/>
          <p:cNvPicPr/>
          <p:nvPr/>
        </p:nvPicPr>
        <p:blipFill>
          <a:blip r:embed="rId1"/>
          <a:stretch/>
        </p:blipFill>
        <p:spPr>
          <a:xfrm>
            <a:off x="10582200" y="5430960"/>
            <a:ext cx="1652760" cy="121428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1" descr=""/>
          <p:cNvPicPr/>
          <p:nvPr/>
        </p:nvPicPr>
        <p:blipFill>
          <a:blip r:embed="rId2"/>
          <a:stretch/>
        </p:blipFill>
        <p:spPr>
          <a:xfrm>
            <a:off x="10582200" y="13968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90c226"/>
                </a:solidFill>
                <a:latin typeface="Trebuchet MS"/>
              </a:rPr>
              <a:t>Certificación Internacional en Auditoria interna (CIA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9132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es el más prestigioso título de cualificación profesional en auditoria interna de todo el mundo. Es una certificación que avala a un experto en auditoria interna en el plano internacional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37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3600" spc="-1" strike="noStrike">
                <a:solidFill>
                  <a:srgbClr val="90c226"/>
                </a:solidFill>
                <a:latin typeface="Trebuchet MS"/>
              </a:rPr>
              <a:t>¿Cómo se obtiene la designación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15720" y="1790280"/>
            <a:ext cx="9723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Titulación universitaria previa, dado que el CIA es una titulación de postgrado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Experiencia en auditoria interna o extern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Adhesión al Código de Ética del Instituto; u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Aprobación de 4 exámenes, que pueden tomarse individualmente y al completarse los mismo se entrega el título CI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41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90c226"/>
                </a:solidFill>
                <a:latin typeface="Trebuchet MS"/>
              </a:rPr>
              <a:t>Material de Estudio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404040"/>
                </a:solidFill>
                <a:latin typeface="Trebuchet MS"/>
              </a:rPr>
              <a:t>Libros y Software CIA Review (Research Foundation IIA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404040"/>
                </a:solidFill>
                <a:latin typeface="Trebuchet MS"/>
              </a:rPr>
              <a:t>Gleim on line Versión XVII (Gleim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404040"/>
                </a:solidFill>
                <a:latin typeface="Trebuchet MS"/>
              </a:rPr>
              <a:t>Aprende CIA y Aprueba CIA (IAI España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45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90c226"/>
                </a:solidFill>
                <a:latin typeface="Trebuchet MS"/>
              </a:rPr>
              <a:t>Como resultado, la designación CIA: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487160"/>
            <a:ext cx="9990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Le hará sobresalir sobre sus colega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Le dará mayor importancia ante el personal interno y los clientes externo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Ampliará su conocimiento de las mejores prácticas aplicadas en la industri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Demostrará su pericia y profesionalism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Le dará la satisfacción de haber alcanzado una met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Sentará las bases para la mejora continua y el avance profesiona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49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5:03:46Z</dcterms:created>
  <dc:creator>Ever Fernando Garcia</dc:creator>
  <dc:description/>
  <dc:language>en-US</dc:language>
  <cp:lastModifiedBy>Xochilt</cp:lastModifiedBy>
  <dcterms:modified xsi:type="dcterms:W3CDTF">2015-11-11T17:49:10Z</dcterms:modified>
  <cp:revision>7</cp:revision>
  <dc:subject/>
  <dc:title>Tema 4: Certificaciones y acreditaciones del auditor Forense</dc:title>
</cp:coreProperties>
</file>