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Calibri"/>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17CB-C607-4B14-8148-C7AC7277A9EF}" type="slidenum">
              <a:rPr b="0" lang="es-SV"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0CDBA-5EA1-4036-AE85-8326DA2D08AA}" type="slidenum">
              <a:rPr b="0" lang="es-SV"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9D4DE-D0B9-4C4F-88A0-6DA4768F9752}" type="slidenum">
              <a:rPr b="0" lang="es-SV"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D77FEA-12AF-4418-8839-9996692BC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1AEBE-664E-4491-B6D6-8C144E78F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81389-2497-4732-8AE5-0ABF603A17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BC2468-4847-4153-8425-8043FCA39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F881D-1EF9-4BE9-8FCC-BFE9C15D5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A5B7D-0A9C-4584-A2E4-42414BD61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2882B-5BD7-4412-861C-D9AD84397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06D59-815B-4B45-B559-0406C9845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55A43-A9F4-4980-BC28-18BBEA981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FA9EC-39F1-45A6-9E1E-D16BCC506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12857-1E5B-436A-B367-07E046D23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2DE8A-2832-4A27-AC3B-7D0F38AB8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68256-CA9B-4144-A943-11055990D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5FBE0-C76C-4AAF-8386-782016B94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1E5FE-3C07-4C8B-A76C-64CA5E4F3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B342B-1D3A-487C-B13C-8DE51091E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D42D3-EC65-4CBB-9B2A-1EABAB3B9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E95B07-5277-44FC-BBC0-DF8A22B3B1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BA3CF0-808C-4358-AB74-C34C84F78C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201A22-CF2D-4699-B69C-8FB3151B6A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67A482-41D2-4239-BCFB-E8639DD3C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B6021-56F2-463F-A12E-86CCC1A43C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A7A91-2AE5-41B0-B9A2-DAFF7BA4B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94A1E-860D-4937-9BEE-487C10CCF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741FFA-6C82-4FC9-B9DE-ED467E0F0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9CC94F-E286-48EE-BEAF-8CB64DCA6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4A169-B00C-41BC-A330-F003C88986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F2235-D59E-4B79-B739-240A4EA6B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1CBDF8C-637C-405D-8C03-1D5F5CA389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F5CB4F-79FB-40EF-A9FA-2473C50D56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57AD79-C1B5-4BD0-9E63-DE84ABF0EB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FAB5A3-BE2D-4FBB-8583-E1E19F7D27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EC8B96-7A8F-43ED-A2E9-CE4F37285F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AD605-A6D7-452C-B2E1-479959474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19CCF-7DFB-49D8-89A4-EDC1678816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B7D10-5F43-49B9-8F5E-F3AD920B0B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A28F18-94CA-4AEB-BFA5-535FD44412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47B24-1BA0-43F9-A120-CCA858DF3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8DEC1-AF39-4E57-8293-8F60B2348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90AA2-6060-4CB6-A2F5-2A9F0DB12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640411-A227-4B4E-847E-B7567C118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64AD1C-18A1-4845-BF07-BB681B910D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D6272A-CC4B-46BF-AC3F-BD4E414D9E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DDF864-AD63-4232-9C31-A6D0C5F094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5BE6-B92C-48EF-A285-679F9FDCD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75983E-39B8-41BF-9DEC-97B8BEDFA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77A468-BAD0-4328-A639-F7565070EE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7FD17F-127F-4F0F-B27E-BBBD5E3D4F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F713CE-2915-414E-A738-52D047F5E7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0EDB0C-5907-49EF-9DA4-5888F2060D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55683-99F9-4F3B-80DF-793E2971A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B9EEC9-5DB1-44C2-A26A-4481D4B26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E73FE8-E345-4C15-B530-929DEDE29B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E66E6-FD1F-4471-A1A4-37E18F1B7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129F58-1C8C-4FC5-86DE-2C33381534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0EC9A-209B-4CD5-B8AC-B041D592E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64339C-CA1F-45FD-A318-0CC61D278D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C3E2E2-CD80-427A-AB76-2D7EFD355D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8271F4-E90F-442C-8EA6-BC40C1C2A7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2AE602-F231-4E43-B5EF-E2AB986C6D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677FB-EE51-44DC-8AED-E1A6480CFA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887A26-74D8-41A9-861D-182563B785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F7DD65-A4E8-41AE-BFA1-176D972B7B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9075A-DD21-4008-886B-91B3CD8E2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08EAC9-FBE3-46AD-A68E-4B2EC73FEE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733F4B-B08A-4F92-B929-896D405C4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B2BC3-4750-44FF-9BB1-372583319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CF804-BFB2-40D0-A516-C27DCF143B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138FF5-529A-4761-9FF9-6AA0206B45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8D19DD-BA50-46D9-A0AA-AAA450E437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6623E8-6739-41BF-A458-112C809D7D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7A83D2-6916-44B3-9DEF-030FC3410B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82EA1A-5C56-4EC0-9634-BE40A01462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7289F5-33BE-4DE4-A679-D54FDC2F8A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CA5AA4-39E0-4E3E-B6D7-D87071953D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8C9E85-14BB-449A-845A-E67F6843E0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BBC826-425B-4EE1-AF40-EC28083DC7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DAD52-C993-401C-AE7E-DF24819CC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8AADA-C441-494B-A778-6B89F523A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A3EA3B-981D-4134-A25A-E4A6659135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961C24-C14D-474D-AA88-D1C70A719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403AB7-7C24-49CD-B95F-122B04E7B0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0AE354-E579-45E1-BFD2-3BDBDCEC9A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FA70-CD41-407B-9521-5F301A0FD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5826-AE56-48E4-AB28-4699299C69E6}"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6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D700-90B7-41D2-A9FB-36187840F741}" type="slidenum">
              <a:rPr b="0" lang="es-SV" sz="1300" spc="-1" strike="noStrike">
                <a:solidFill>
                  <a:srgbClr val="ffffff"/>
                </a:solidFill>
                <a:latin typeface="Century Gothic"/>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79D7-F9BC-4CDB-9F17-6AB7DB22CAD9}"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8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0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9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98C9-DFDC-48FB-A9AA-75F7C11A5605}"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809E-C361-4BC2-9D2D-BC88A6CB3951}"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000000"/>
                </a:solidFill>
                <a:latin typeface="Century Gothic"/>
              </a:rPr>
              <a:t>&lt;date/time&gt;</a:t>
            </a:r>
            <a:endParaRPr b="0" lang="en-US" sz="900" spc="-1" strike="noStrike">
              <a:solidFill>
                <a:srgbClr val="000000"/>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A0DD-958C-400E-B132-D29DFE9D38A1}" type="slidenum">
              <a:rPr b="0" lang="es-SV" sz="900" spc="-1" strike="noStrike">
                <a:solidFill>
                  <a:srgbClr val="000000"/>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Century Gothic"/>
              </a:rPr>
              <a:t>&lt;date/time&gt;</a:t>
            </a:r>
            <a:endParaRPr b="0" lang="en-US" sz="900" spc="-1" strike="noStrike">
              <a:solidFill>
                <a:srgbClr val="000000"/>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67BD7-C3F9-4DA6-8FAE-7B063902B5DA}" type="slidenum">
              <a:rPr b="0" lang="es-SV" sz="900" spc="-1" strike="noStrike">
                <a:solidFill>
                  <a:srgbClr val="ffffff"/>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1 Rectángulo"/>
          <p:cNvSpPr/>
          <p:nvPr/>
        </p:nvSpPr>
        <p:spPr>
          <a:xfrm>
            <a:off x="2426400" y="500040"/>
            <a:ext cx="372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UNIVERSIDAD DE EL SALVADOR</a:t>
            </a:r>
            <a:endParaRPr b="0" lang="en-US" sz="1800" spc="-1" strike="noStrike">
              <a:solidFill>
                <a:srgbClr val="ffffff"/>
              </a:solidFill>
              <a:latin typeface="Arial"/>
            </a:endParaRPr>
          </a:p>
        </p:txBody>
      </p:sp>
      <p:sp>
        <p:nvSpPr>
          <p:cNvPr id="309" name="3 CuadroTexto"/>
          <p:cNvSpPr/>
          <p:nvPr/>
        </p:nvSpPr>
        <p:spPr>
          <a:xfrm>
            <a:off x="1143000" y="1857240"/>
            <a:ext cx="7072200" cy="3934440"/>
          </a:xfrm>
          <a:prstGeom prst="rect">
            <a:avLst/>
          </a:prstGeom>
          <a:solidFill>
            <a:srgbClr val="ffffff"/>
          </a:solidFill>
          <a:ln w="25560">
            <a:solidFill>
              <a:srgbClr val="ff38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TEM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000000"/>
                </a:solidFill>
                <a:latin typeface="Century Gothic"/>
              </a:rPr>
              <a:t>METODOLOGIA DE LA AUDITORIA FOREN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GREUPO 0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INTEGRAN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MANUEL ALEXANDER PORTILLO HERNANDEZ </a:t>
            </a:r>
            <a:r>
              <a:rPr b="0" lang="es-SV" sz="1800" spc="-1" strike="noStrike">
                <a:solidFill>
                  <a:srgbClr val="000000"/>
                </a:solidFill>
                <a:latin typeface="Century Gothic"/>
              </a:rPr>
              <a:t>	</a:t>
            </a:r>
            <a:r>
              <a:rPr b="0" lang="es-SV" sz="1800" spc="-1" strike="noStrike">
                <a:solidFill>
                  <a:srgbClr val="000000"/>
                </a:solidFill>
                <a:latin typeface="Century Gothic"/>
              </a:rPr>
              <a:t>PH0301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LESLIE MELISSA GOMEZ NUÑEZ</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GN0700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ROXANA CRISEYDA PINEDA</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CP0203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JORGE ALFREDO VALENCIA</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VV9300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5 Rectángulo"/>
          <p:cNvSpPr/>
          <p:nvPr/>
        </p:nvSpPr>
        <p:spPr>
          <a:xfrm>
            <a:off x="2325600" y="1071720"/>
            <a:ext cx="402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ESCUELA DE CONTADURÍA PÚBLICA</a:t>
            </a:r>
            <a:endParaRPr b="0" lang="en-US" sz="1800" spc="-1" strike="noStrike">
              <a:solidFill>
                <a:srgbClr val="ffffff"/>
              </a:solidFill>
              <a:latin typeface="Arial"/>
            </a:endParaRPr>
          </a:p>
        </p:txBody>
      </p:sp>
      <p:pic>
        <p:nvPicPr>
          <p:cNvPr id="311" name="6 Imagen" descr="ECONOMIA"/>
          <p:cNvPicPr/>
          <p:nvPr/>
        </p:nvPicPr>
        <p:blipFill>
          <a:blip r:embed="rId1"/>
          <a:stretch/>
        </p:blipFill>
        <p:spPr>
          <a:xfrm>
            <a:off x="6786720" y="571680"/>
            <a:ext cx="114300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3 Marcador de contenido"/>
          <p:cNvGrpSpPr/>
          <p:nvPr/>
        </p:nvGrpSpPr>
        <p:grpSpPr>
          <a:xfrm>
            <a:off x="457200" y="1882800"/>
            <a:ext cx="8229600" cy="4572000"/>
            <a:chOff x="457200" y="1882800"/>
            <a:chExt cx="8229600" cy="4572000"/>
          </a:xfrm>
        </p:grpSpPr>
        <p:sp>
          <p:nvSpPr>
            <p:cNvPr id="347"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Para la elaboración de un buen informe debemos tener en cuenta que el mismo debe ser:</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Precis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Oportun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Exhaustiv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Imparcial.</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Clar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Relevante.</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Completo</a:t>
              </a:r>
              <a:endParaRPr b="0" lang="en-US" sz="2300" spc="-1" strike="noStrike">
                <a:solidFill>
                  <a:srgbClr val="ffffff"/>
                </a:solidFill>
                <a:latin typeface="Arial"/>
              </a:endParaRPr>
            </a:p>
          </p:txBody>
        </p:sp>
        <p:sp>
          <p:nvSpPr>
            <p:cNvPr id="348"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49"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3 Marcador de contenido"/>
          <p:cNvGrpSpPr/>
          <p:nvPr/>
        </p:nvGrpSpPr>
        <p:grpSpPr>
          <a:xfrm>
            <a:off x="457200" y="1882800"/>
            <a:ext cx="8229600" cy="4572000"/>
            <a:chOff x="457200" y="1882800"/>
            <a:chExt cx="8229600" cy="4572000"/>
          </a:xfrm>
        </p:grpSpPr>
        <p:sp>
          <p:nvSpPr>
            <p:cNvPr id="351"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Existen fraudes o errores significativos que hayan sido descubiertos.</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Visualización de debilidades del diseño de sistemas de administración.</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Presiones inusuales internas o externas sobre la entidad.</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uestionamientos sobre la integridad o competencia de la administración.</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Transacciones inusuales.</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Problemas para obtener evidencia de auditoria suficiente y competente.</a:t>
              </a:r>
              <a:endParaRPr b="0" lang="en-US" sz="2400" spc="-1" strike="noStrike">
                <a:solidFill>
                  <a:srgbClr val="ffffff"/>
                </a:solidFill>
                <a:latin typeface="Arial"/>
              </a:endParaRPr>
            </a:p>
          </p:txBody>
        </p:sp>
        <p:sp>
          <p:nvSpPr>
            <p:cNvPr id="352"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53"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3 Marcador de contenido"/>
          <p:cNvGrpSpPr/>
          <p:nvPr/>
        </p:nvGrpSpPr>
        <p:grpSpPr>
          <a:xfrm>
            <a:off x="457200" y="1882800"/>
            <a:ext cx="8229600" cy="4572000"/>
            <a:chOff x="457200" y="1882800"/>
            <a:chExt cx="8229600" cy="4572000"/>
          </a:xfrm>
        </p:grpSpPr>
        <p:sp>
          <p:nvSpPr>
            <p:cNvPr id="355" name="4 Rectángulo"/>
            <p:cNvSpPr/>
            <p:nvPr/>
          </p:nvSpPr>
          <p:spPr>
            <a:xfrm>
              <a:off x="457200" y="1882800"/>
              <a:ext cx="8229600" cy="4270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l auditor busca la evidencia de auditoria suficiente y competente que le asegure que no se ha producido un fraude o error que tenga efecto material en los estados financieros o que de haberse producido ,el efecto del fraude se refleja adecuadamente en los estados financieros o que el error a sido corregid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0000"/>
                  </a:solidFill>
                  <a:latin typeface="Century Gothic"/>
                </a:rPr>
                <a:t>Indicadores =banderas roj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rPr>
                <a:t>Podemos caracterizar las banderas rojas de la siguiente forma :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ea typeface="Arial"/>
                </a:rPr>
                <a:t>-no necesariamente deben ser significativas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ea typeface="Arial"/>
                </a:rPr>
                <a:t>-no establecen la existencia de irregularidades por si mismas pero     constituyen un alerta para el auditor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ea typeface="Arial"/>
                </a:rPr>
                <a:t>-No se deben descartar  situaciones  por parecer demasiado obvia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57" name="2 Título" descr=""/>
          <p:cNvPicPr/>
          <p:nvPr/>
        </p:nvPicPr>
        <p:blipFill>
          <a:blip r:embed="rId1"/>
          <a:stretch/>
        </p:blipFill>
        <p:spPr>
          <a:xfrm>
            <a:off x="317520" y="476280"/>
            <a:ext cx="8508960" cy="140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3 Marcador de contenido"/>
          <p:cNvGrpSpPr/>
          <p:nvPr/>
        </p:nvGrpSpPr>
        <p:grpSpPr>
          <a:xfrm>
            <a:off x="457200" y="1916280"/>
            <a:ext cx="8229600" cy="4538520"/>
            <a:chOff x="457200" y="1916280"/>
            <a:chExt cx="8229600" cy="4538520"/>
          </a:xfrm>
        </p:grpSpPr>
        <p:sp>
          <p:nvSpPr>
            <p:cNvPr id="359" name="4 Rectángulo"/>
            <p:cNvSpPr/>
            <p:nvPr/>
          </p:nvSpPr>
          <p:spPr>
            <a:xfrm>
              <a:off x="457200" y="1916280"/>
              <a:ext cx="8229600" cy="427032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Documentales</a:t>
              </a:r>
              <a:r>
                <a:rPr b="0" lang="es-SV" sz="1800" spc="-1" strike="noStrike">
                  <a:solidFill>
                    <a:srgbClr val="000000"/>
                  </a:solidFill>
                  <a:latin typeface="Century Gothic"/>
                </a:rPr>
                <a:t> : Son Aquellas que encontramos en documentos , contratos , facturas, correspondencias, etc.</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Personales </a:t>
              </a:r>
              <a:r>
                <a:rPr b="0" lang="es-SV" sz="1800" spc="-1" strike="noStrike">
                  <a:solidFill>
                    <a:srgbClr val="000000"/>
                  </a:solidFill>
                  <a:latin typeface="Century Gothic"/>
                </a:rPr>
                <a:t>: Son Aquellas que podemos distinguir  respecto de las personas que pueden traducirse en actitudes y comportamiento s extraños o inusu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Del Proceso </a:t>
              </a:r>
              <a:r>
                <a:rPr b="0" lang="es-SV" sz="1800" spc="-1" strike="noStrike">
                  <a:solidFill>
                    <a:srgbClr val="000000"/>
                  </a:solidFill>
                  <a:latin typeface="Century Gothic"/>
                </a:rPr>
                <a:t>: Son banderas rojas que se dan en los procedimientos administrativos en los que se efectuan gastos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Conceptuales</a:t>
              </a:r>
              <a:r>
                <a:rPr b="0" lang="es-SV" sz="1800" spc="-1" strike="noStrike">
                  <a:solidFill>
                    <a:srgbClr val="000000"/>
                  </a:solidFill>
                  <a:latin typeface="Century Gothic"/>
                </a:rPr>
                <a:t> :Son Aquellas  banderas  que  necesitan del elemento racional para poder hallarlas, son las que requieren de un proceso de razonamiento por parte del auditor</a:t>
              </a:r>
              <a:endParaRPr b="0" lang="en-US" sz="1800" spc="-1" strike="noStrike">
                <a:solidFill>
                  <a:srgbClr val="ffffff"/>
                </a:solidFill>
                <a:latin typeface="Arial"/>
              </a:endParaRPr>
            </a:p>
          </p:txBody>
        </p:sp>
        <p:sp>
          <p:nvSpPr>
            <p:cNvPr id="360"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61"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3 Marcador de contenido"/>
          <p:cNvGrpSpPr/>
          <p:nvPr/>
        </p:nvGrpSpPr>
        <p:grpSpPr>
          <a:xfrm>
            <a:off x="457200" y="1882800"/>
            <a:ext cx="8229600" cy="4572000"/>
            <a:chOff x="457200" y="1882800"/>
            <a:chExt cx="8229600" cy="4572000"/>
          </a:xfrm>
        </p:grpSpPr>
        <p:sp>
          <p:nvSpPr>
            <p:cNvPr id="363" name="4 Rectángulo"/>
            <p:cNvSpPr/>
            <p:nvPr/>
          </p:nvSpPr>
          <p:spPr>
            <a:xfrm>
              <a:off x="457200" y="1882800"/>
              <a:ext cx="8229600" cy="4270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Omisión de Documento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Disminución de rentabilidad</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xcesiva  rotación de personal </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Falta de comprobante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Discrepancia de los registros contable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Directivos que desempeñas funciones de los  sub alterno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Manipulación de contratos </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gn="just">
                <a:lnSpc>
                  <a:spcPct val="100000"/>
                </a:lnSpc>
                <a:buClr>
                  <a:srgbClr val="004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449e"/>
                  </a:solidFill>
                  <a:latin typeface="Century Gothic"/>
                </a:rPr>
                <a:t>Estos tipo de indicadores  debe alertar   al auditor  sobre la probabilidad  de fraude .  (  SON ELEMENTOS DE JUICIO)</a:t>
              </a:r>
              <a:endParaRPr b="0" lang="en-US" sz="2400" spc="-1" strike="noStrike">
                <a:solidFill>
                  <a:srgbClr val="ffffff"/>
                </a:solidFill>
                <a:latin typeface="Arial"/>
              </a:endParaRPr>
            </a:p>
            <a:p>
              <a:pPr marL="285840" indent="-285840" algn="just">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lgn="just">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lgn="just">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 </a:t>
              </a:r>
              <a:endParaRPr b="0" lang="en-US" sz="1800" spc="-1" strike="noStrike">
                <a:solidFill>
                  <a:srgbClr val="ffffff"/>
                </a:solidFill>
                <a:latin typeface="Arial"/>
              </a:endParaRPr>
            </a:p>
          </p:txBody>
        </p:sp>
        <p:sp>
          <p:nvSpPr>
            <p:cNvPr id="364"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65"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1 Título" descr=""/>
          <p:cNvPicPr/>
          <p:nvPr/>
        </p:nvPicPr>
        <p:blipFill>
          <a:blip r:embed="rId1"/>
          <a:stretch/>
        </p:blipFill>
        <p:spPr>
          <a:xfrm>
            <a:off x="457200" y="268200"/>
            <a:ext cx="8229600" cy="1395360"/>
          </a:xfrm>
          <a:prstGeom prst="rect">
            <a:avLst/>
          </a:prstGeom>
          <a:ln w="0">
            <a:noFill/>
          </a:ln>
        </p:spPr>
      </p:pic>
      <p:sp>
        <p:nvSpPr>
          <p:cNvPr id="367"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Nos ayuda a identificar a los posibles responsables de las operaciones fraudulentas ( que pueden ser de la misma organización o con terceros relacionados ) esta comprensión será necesaria para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Planificar la Investigación</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Que el control Interno opera de acuerdo a su diseño original</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Comprobar la adecuada salvaguarda de activos  y recursos de la organización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Visualizar el debido cumplimiento de las regulaciones locales y el estricto cumplimiento de la ley. </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1 Título" descr=""/>
          <p:cNvPicPr/>
          <p:nvPr/>
        </p:nvPicPr>
        <p:blipFill>
          <a:blip r:embed="rId1"/>
          <a:stretch/>
        </p:blipFill>
        <p:spPr>
          <a:xfrm>
            <a:off x="457200" y="268200"/>
            <a:ext cx="8229600" cy="731880"/>
          </a:xfrm>
          <a:prstGeom prst="rect">
            <a:avLst/>
          </a:prstGeom>
          <a:ln w="0">
            <a:noFill/>
          </a:ln>
        </p:spPr>
      </p:pic>
      <p:pic>
        <p:nvPicPr>
          <p:cNvPr id="369" name="Picture 21" descr=""/>
          <p:cNvPicPr/>
          <p:nvPr/>
        </p:nvPicPr>
        <p:blipFill>
          <a:blip r:embed="rId2"/>
          <a:stretch/>
        </p:blipFill>
        <p:spPr>
          <a:xfrm>
            <a:off x="539640" y="1116000"/>
            <a:ext cx="8064720" cy="567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200" spc="-1" strike="noStrike">
                <a:solidFill>
                  <a:srgbClr val="ff5c9c"/>
                </a:solidFill>
                <a:latin typeface="Century Gothic"/>
              </a:rPr>
              <a:t>Biografía</a:t>
            </a:r>
            <a:endParaRPr b="0" lang="en-US" sz="4200" spc="-1" strike="noStrike">
              <a:solidFill>
                <a:srgbClr val="ff5c9c"/>
              </a:solidFill>
              <a:latin typeface="Century Gothic"/>
            </a:endParaRPr>
          </a:p>
        </p:txBody>
      </p:sp>
      <p:sp>
        <p:nvSpPr>
          <p:cNvPr id="371" name="PlaceHolder 2"/>
          <p:cNvSpPr>
            <a:spLocks noGrp="1"/>
          </p:cNvSpPr>
          <p:nvPr>
            <p:ph/>
          </p:nvPr>
        </p:nvSpPr>
        <p:spPr>
          <a:xfrm>
            <a:off x="468360" y="1916280"/>
            <a:ext cx="8229600" cy="4572000"/>
          </a:xfrm>
          <a:prstGeom prst="rect">
            <a:avLst/>
          </a:prstGeom>
          <a:noFill/>
          <a:ln w="0">
            <a:noFill/>
          </a:ln>
        </p:spPr>
        <p:txBody>
          <a:bodyPr anchor="t">
            <a:normAutofit/>
          </a:bodyPr>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Colectivo. (s.f.). </a:t>
            </a:r>
            <a:r>
              <a:rPr b="0" i="1" lang="es-ES" sz="1900" spc="-1" strike="noStrike">
                <a:solidFill>
                  <a:srgbClr val="ffffff"/>
                </a:solidFill>
                <a:latin typeface="Century Gothic"/>
              </a:rPr>
              <a:t>monografias.com.</a:t>
            </a:r>
            <a:r>
              <a:rPr b="0" lang="es-ES" sz="1900" spc="-1" strike="noStrike">
                <a:solidFill>
                  <a:srgbClr val="ffffff"/>
                </a:solidFill>
                <a:latin typeface="Century Gothic"/>
              </a:rPr>
              <a:t> Obtenido de http://www.monografias.com/trabajos65/auditoria-forense/auditoria-forense3.shtml#ixzz4ApQaFXO6</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Flores, A. E. ( Setiembre de 2009 / Conformidad: Octubre de 2009). </a:t>
            </a:r>
            <a:r>
              <a:rPr b="0" i="1" lang="es-ES" sz="1900" spc="-1" strike="noStrike">
                <a:solidFill>
                  <a:srgbClr val="ffffff"/>
                </a:solidFill>
                <a:latin typeface="Century Gothic"/>
              </a:rPr>
              <a:t>QUIPUKAMAYOC | Revista de la Facultad de Ciencias Contables.</a:t>
            </a:r>
            <a:r>
              <a:rPr b="0" lang="es-ES" sz="1900" spc="-1" strike="noStrike">
                <a:solidFill>
                  <a:srgbClr val="ffffff"/>
                </a:solidFill>
                <a:latin typeface="Century Gothic"/>
              </a:rPr>
              <a:t> Recuperado el 14 de JUNIO de 2016, de http://sisbib.unmsm.edu.pe/bibvirtual/publicaciones/quipukamayoc/2009/segundo/pdf/a09v16n32.pdf</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Gardey, J. P. (Publicado: 2008. Actualizado: 2012.). </a:t>
            </a:r>
            <a:r>
              <a:rPr b="0" i="1" lang="es-ES" sz="1900" spc="-1" strike="noStrike">
                <a:solidFill>
                  <a:srgbClr val="ffffff"/>
                </a:solidFill>
                <a:latin typeface="Century Gothic"/>
              </a:rPr>
              <a:t>Definicion.DE</a:t>
            </a:r>
            <a:r>
              <a:rPr b="0" lang="es-ES" sz="1900" spc="-1" strike="noStrike">
                <a:solidFill>
                  <a:srgbClr val="ffffff"/>
                </a:solidFill>
                <a:latin typeface="Century Gothic"/>
              </a:rPr>
              <a:t>. Recuperado el 14 de JUNIO de 2016, de http://definicion.de/metodologia/</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Ramírez, J. R. (JUL-DIC de 2013). </a:t>
            </a:r>
            <a:r>
              <a:rPr b="0" i="1" lang="es-ES" sz="1900" spc="-1" strike="noStrike">
                <a:solidFill>
                  <a:srgbClr val="ffffff"/>
                </a:solidFill>
                <a:latin typeface="Century Gothic"/>
              </a:rPr>
              <a:t>http://www.scielo.org.co/.</a:t>
            </a:r>
            <a:r>
              <a:rPr b="0" lang="es-ES" sz="1900" spc="-1" strike="noStrike">
                <a:solidFill>
                  <a:srgbClr val="ffffff"/>
                </a:solidFill>
                <a:latin typeface="Century Gothic"/>
              </a:rPr>
              <a:t> Recuperado el 26 de JUNIO de 2016, de http://cuadernosadm.univalle.edu.co.: http://www.scielo.org.co/pdf/cuadm/v29n50/v29n50a08.pdf</a:t>
            </a: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
          <p:cNvSpPr/>
          <p:nvPr/>
        </p:nvSpPr>
        <p:spPr>
          <a:xfrm>
            <a:off x="539640" y="476280"/>
            <a:ext cx="8229600" cy="4572000"/>
          </a:xfrm>
          <a:prstGeom prst="rect">
            <a:avLst/>
          </a:prstGeom>
          <a:noFill/>
          <a:ln w="0">
            <a:noFill/>
          </a:ln>
        </p:spPr>
        <p:style>
          <a:lnRef idx="0"/>
          <a:fillRef idx="0"/>
          <a:effectRef idx="0"/>
          <a:fontRef idx="minor"/>
        </p:style>
        <p:txBody>
          <a:bodyPr lIns="90000" rIns="90000" tIns="46800" bIns="46800" anchor="t">
            <a:normAutofit/>
          </a:bodyPr>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ea typeface="Arial"/>
              </a:rPr>
              <a:t>LAZARINI, G. (2012 de 08 de 30). </a:t>
            </a:r>
            <a:r>
              <a:rPr b="0" i="1" lang="es-ES" sz="2000" spc="-1" strike="noStrike">
                <a:solidFill>
                  <a:srgbClr val="ffffff"/>
                </a:solidFill>
                <a:latin typeface="Century Gothic"/>
                <a:ea typeface="Arial"/>
              </a:rPr>
              <a:t>http://www.gonzalez-lazarini.com.mx.</a:t>
            </a:r>
            <a:r>
              <a:rPr b="0" lang="es-ES" sz="2000" spc="-1" strike="noStrike">
                <a:solidFill>
                  <a:srgbClr val="ffffff"/>
                </a:solidFill>
                <a:latin typeface="Century Gothic"/>
                <a:ea typeface="Arial"/>
              </a:rPr>
              <a:t> Obtenido de AUDITORÍA FORENSE,ELEMENTOS GENERALES,GONZÁLEZ LAZARINI S.A. DE C.V.: http://www.gonzalez-lazarini.com.mx/boletines/AUDITORIA%20FORENSE.pdf</a:t>
            </a:r>
            <a:endParaRPr b="0" lang="en-US" sz="2000" spc="-1" strike="noStrike">
              <a:solidFill>
                <a:srgbClr val="ffffff"/>
              </a:solidFill>
              <a:latin typeface="Arial"/>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ea typeface="Arial"/>
              </a:rPr>
              <a:t>Yolanda Funes Cataño 1, A. L. (s.f.). </a:t>
            </a:r>
            <a:r>
              <a:rPr b="0" i="1" lang="es-ES" sz="2000" spc="-1" strike="noStrike">
                <a:solidFill>
                  <a:srgbClr val="ffffff"/>
                </a:solidFill>
                <a:latin typeface="Century Gothic"/>
                <a:ea typeface="Arial"/>
              </a:rPr>
              <a:t>http://congreso.investiga.fca.unam.mx/.</a:t>
            </a:r>
            <a:r>
              <a:rPr b="0" lang="es-ES" sz="2000" spc="-1" strike="noStrike">
                <a:solidFill>
                  <a:srgbClr val="ffffff"/>
                </a:solidFill>
                <a:latin typeface="Century Gothic"/>
                <a:ea typeface="Arial"/>
              </a:rPr>
              <a:t> Recuperado el 2016 de 06 de 26, de CONGRESO INTERNACIONAL DE CONTADURIA Y ADMINISTRACION E INFORMATICA: http://congreso.investiga.fca.unam.mx/docs/xv/docs/214.pd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7 Diagrama" descr=""/>
          <p:cNvPicPr/>
          <p:nvPr/>
        </p:nvPicPr>
        <p:blipFill>
          <a:blip r:embed="rId1"/>
          <a:stretch/>
        </p:blipFill>
        <p:spPr>
          <a:xfrm>
            <a:off x="347760" y="2700360"/>
            <a:ext cx="7900920" cy="14936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1 Rectángulo"/>
          <p:cNvSpPr/>
          <p:nvPr/>
        </p:nvSpPr>
        <p:spPr>
          <a:xfrm>
            <a:off x="-2214720" y="642960"/>
            <a:ext cx="84646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ff"/>
                </a:solidFill>
                <a:latin typeface="Century Gothic"/>
              </a:rPr>
              <a:t>Metodología</a:t>
            </a:r>
            <a:r>
              <a:rPr b="0" lang="es-SV" sz="2800" spc="-1" strike="noStrike">
                <a:solidFill>
                  <a:srgbClr val="ffffff"/>
                </a:solidFill>
                <a:latin typeface="Century Gothic"/>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4" name="2 Grupo"/>
          <p:cNvGrpSpPr/>
          <p:nvPr/>
        </p:nvGrpSpPr>
        <p:grpSpPr>
          <a:xfrm>
            <a:off x="785880" y="1571760"/>
            <a:ext cx="7037280" cy="4786200"/>
            <a:chOff x="785880" y="1571760"/>
            <a:chExt cx="7037280" cy="4786200"/>
          </a:xfrm>
        </p:grpSpPr>
        <p:sp>
          <p:nvSpPr>
            <p:cNvPr id="315" name="3 Rectángulo"/>
            <p:cNvSpPr/>
            <p:nvPr/>
          </p:nvSpPr>
          <p:spPr>
            <a:xfrm>
              <a:off x="785880" y="1571760"/>
              <a:ext cx="7037280" cy="44704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4 Rectángulo"/>
            <p:cNvSpPr/>
            <p:nvPr/>
          </p:nvSpPr>
          <p:spPr>
            <a:xfrm>
              <a:off x="785880" y="2030400"/>
              <a:ext cx="7037280" cy="432756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1001"/>
                </a:spcAft>
                <a:tabLst>
                  <a:tab algn="l" pos="0"/>
                  <a:tab algn="l" pos="1333440"/>
                  <a:tab algn="l" pos="2666880"/>
                  <a:tab algn="l" pos="4000680"/>
                  <a:tab algn="l" pos="5334120"/>
                  <a:tab algn="l" pos="6667560"/>
                  <a:tab algn="l" pos="8001000"/>
                  <a:tab algn="l" pos="9334440"/>
                  <a:tab algn="l" pos="10667880"/>
                </a:tabLst>
              </a:pPr>
              <a:r>
                <a:rPr b="1" lang="es-SV" sz="2300" spc="-1" strike="noStrike">
                  <a:solidFill>
                    <a:srgbClr val="000000"/>
                  </a:solidFill>
                  <a:latin typeface="Century Gothic"/>
                </a:rPr>
                <a:t>Es un vocablo generado a partir de tres palabras de origen griego:</a:t>
              </a:r>
              <a:r>
                <a:rPr b="1" i="1" lang="es-SV" sz="2300" spc="-1" strike="noStrike">
                  <a:solidFill>
                    <a:srgbClr val="000000"/>
                  </a:solidFill>
                  <a:latin typeface="Century Gothic"/>
                </a:rPr>
                <a:t>metà</a:t>
              </a:r>
              <a:r>
                <a:rPr b="1" lang="es-SV" sz="2300" spc="-1" strike="noStrike">
                  <a:solidFill>
                    <a:srgbClr val="000000"/>
                  </a:solidFill>
                  <a:latin typeface="Century Gothic"/>
                </a:rPr>
                <a:t> (“más allá”), </a:t>
              </a:r>
              <a:r>
                <a:rPr b="1" i="1" lang="es-SV" sz="2300" spc="-1" strike="noStrike">
                  <a:solidFill>
                    <a:srgbClr val="000000"/>
                  </a:solidFill>
                  <a:latin typeface="Century Gothic"/>
                </a:rPr>
                <a:t>odòs</a:t>
              </a:r>
              <a:r>
                <a:rPr b="1" lang="es-SV" sz="2300" spc="-1" strike="noStrike">
                  <a:solidFill>
                    <a:srgbClr val="000000"/>
                  </a:solidFill>
                  <a:latin typeface="Century Gothic"/>
                </a:rPr>
                <a:t> (“camino”) y </a:t>
              </a:r>
              <a:r>
                <a:rPr b="1" i="1" lang="es-SV" sz="2300" spc="-1" strike="noStrike">
                  <a:solidFill>
                    <a:srgbClr val="000000"/>
                  </a:solidFill>
                  <a:latin typeface="Century Gothic"/>
                </a:rPr>
                <a:t>logos</a:t>
              </a:r>
              <a:r>
                <a:rPr b="1" lang="es-SV" sz="2300" spc="-1" strike="noStrike">
                  <a:solidFill>
                    <a:srgbClr val="000000"/>
                  </a:solidFill>
                  <a:latin typeface="Century Gothic"/>
                </a:rPr>
                <a:t> (“estudio”). El concepto hace referencia al plan de investigación que permite cumplir ciertos objetivos en el marco de una ciencia. Cabe resaltar que la metodología también puede ser aplicada en el ámbito artístico, cuando se lleva a cabo una observación rigurosa. Por lo tanto, puede entenderse a la metodología como el conjunto de procedimientos que determinan una investigación de tipo científico o marcan el rumbo de una exposición doctrinal.</a:t>
              </a:r>
              <a:endParaRPr b="0" lang="en-US" sz="23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1 Rectángulo"/>
          <p:cNvSpPr/>
          <p:nvPr/>
        </p:nvSpPr>
        <p:spPr>
          <a:xfrm>
            <a:off x="539640" y="1996920"/>
            <a:ext cx="756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8" name="2 Título" descr=""/>
          <p:cNvPicPr/>
          <p:nvPr/>
        </p:nvPicPr>
        <p:blipFill>
          <a:blip r:embed="rId1"/>
          <a:stretch/>
        </p:blipFill>
        <p:spPr>
          <a:xfrm>
            <a:off x="0" y="573120"/>
            <a:ext cx="8229600" cy="1395360"/>
          </a:xfrm>
          <a:prstGeom prst="rect">
            <a:avLst/>
          </a:prstGeom>
          <a:ln w="0">
            <a:noFill/>
          </a:ln>
        </p:spPr>
      </p:pic>
      <p:grpSp>
        <p:nvGrpSpPr>
          <p:cNvPr id="319" name="3 Grupo"/>
          <p:cNvGrpSpPr/>
          <p:nvPr/>
        </p:nvGrpSpPr>
        <p:grpSpPr>
          <a:xfrm>
            <a:off x="285840" y="2357280"/>
            <a:ext cx="7715160" cy="3143520"/>
            <a:chOff x="285840" y="2357280"/>
            <a:chExt cx="7715160" cy="3143520"/>
          </a:xfrm>
        </p:grpSpPr>
        <p:sp>
          <p:nvSpPr>
            <p:cNvPr id="320" name="4 Rectángulo"/>
            <p:cNvSpPr/>
            <p:nvPr/>
          </p:nvSpPr>
          <p:spPr>
            <a:xfrm>
              <a:off x="285840" y="2357280"/>
              <a:ext cx="7715160" cy="293580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5 Rectángulo"/>
            <p:cNvSpPr/>
            <p:nvPr/>
          </p:nvSpPr>
          <p:spPr>
            <a:xfrm>
              <a:off x="285840" y="2658960"/>
              <a:ext cx="7715160" cy="284184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sp>
        <p:nvSpPr>
          <p:cNvPr id="322" name="7 Rectángulo"/>
          <p:cNvSpPr/>
          <p:nvPr/>
        </p:nvSpPr>
        <p:spPr>
          <a:xfrm>
            <a:off x="285840" y="1643040"/>
            <a:ext cx="792936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500" spc="-1" strike="noStrike">
                <a:solidFill>
                  <a:srgbClr val="000000"/>
                </a:solidFill>
                <a:latin typeface="Century Gothic"/>
              </a:rPr>
              <a:t>Es una alternativa para combatir la corrupción, porque permite que un experto emita ante los jueces conceptos y opiniones de valor técnico, que le permiten a la justicia actuar con mayor certeza, especialmente en lo relativo a la vigilancia de la gestión fiscal.</a:t>
            </a:r>
            <a:r>
              <a:rPr b="0" lang="es-DO" sz="2300" spc="-1" strike="noStrike">
                <a:solidFill>
                  <a:srgbClr val="000000"/>
                </a:solidFill>
                <a:latin typeface="Century Gothic"/>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3 Marcador de contenido"/>
          <p:cNvGrpSpPr/>
          <p:nvPr/>
        </p:nvGrpSpPr>
        <p:grpSpPr>
          <a:xfrm>
            <a:off x="457200" y="1882800"/>
            <a:ext cx="8229600" cy="4572000"/>
            <a:chOff x="457200" y="1882800"/>
            <a:chExt cx="8229600" cy="4572000"/>
          </a:xfrm>
        </p:grpSpPr>
        <p:sp>
          <p:nvSpPr>
            <p:cNvPr id="324"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1. Definición y reconocimiento del problema.</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2. Recopilación de evidencias de fraude.</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3. Evaluación de la evidencia recolectada.</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4. Evaluación del riesgo forense. </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5. Detección de fraude. </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6. Evaluación del Sistema de Control Interno. </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7. Elaboración del informe final con los hallazgos.</a:t>
              </a:r>
              <a:endParaRPr b="0" lang="en-US" sz="2600" spc="-1" strike="noStrike">
                <a:solidFill>
                  <a:srgbClr val="ffffff"/>
                </a:solidFill>
                <a:latin typeface="Arial"/>
              </a:endParaRPr>
            </a:p>
            <a:p>
              <a:pPr algn="just">
                <a:lnSpc>
                  <a:spcPct val="90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ffffff"/>
                </a:solidFill>
                <a:latin typeface="Arial"/>
              </a:endParaRPr>
            </a:p>
          </p:txBody>
        </p:sp>
      </p:grpSp>
      <p:pic>
        <p:nvPicPr>
          <p:cNvPr id="326"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3 Marcador de contenido"/>
          <p:cNvGrpSpPr/>
          <p:nvPr/>
        </p:nvGrpSpPr>
        <p:grpSpPr>
          <a:xfrm>
            <a:off x="457200" y="1882800"/>
            <a:ext cx="8229600" cy="4572000"/>
            <a:chOff x="457200" y="1882800"/>
            <a:chExt cx="8229600" cy="4572000"/>
          </a:xfrm>
        </p:grpSpPr>
        <p:sp>
          <p:nvSpPr>
            <p:cNvPr id="328"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30" name="2 Título" descr=""/>
          <p:cNvPicPr/>
          <p:nvPr/>
        </p:nvPicPr>
        <p:blipFill>
          <a:blip r:embed="rId1"/>
          <a:stretch/>
        </p:blipFill>
        <p:spPr>
          <a:xfrm>
            <a:off x="0" y="500040"/>
            <a:ext cx="8229600" cy="1401840"/>
          </a:xfrm>
          <a:prstGeom prst="rect">
            <a:avLst/>
          </a:prstGeom>
          <a:ln w="0">
            <a:noFill/>
          </a:ln>
        </p:spPr>
      </p:pic>
      <p:sp>
        <p:nvSpPr>
          <p:cNvPr id="331" name="7 Rectángulo"/>
          <p:cNvSpPr/>
          <p:nvPr/>
        </p:nvSpPr>
        <p:spPr>
          <a:xfrm>
            <a:off x="714240" y="1914480"/>
            <a:ext cx="7786800" cy="3947040"/>
          </a:xfrm>
          <a:prstGeom prst="rect">
            <a:avLst/>
          </a:prstGeom>
          <a:noFill/>
          <a:ln w="0">
            <a:noFill/>
          </a:ln>
        </p:spPr>
        <p:style>
          <a:lnRef idx="0"/>
          <a:fillRef idx="0"/>
          <a:effectRef idx="0"/>
          <a:fontRef idx="minor"/>
        </p:style>
        <p:txBody>
          <a:bodyPr lIns="90000" rIns="90000" tIns="46800" bIns="46800" anchor="t">
            <a:spAutoFit/>
          </a:bodyPr>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Determinar si hay suficientes motivos o indicios, para investigar los síntomas de un posible fraude. Un indicio es simplemente una razón suficiente para garantizar la investigación del fraude.</a:t>
            </a: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Century Gothic"/>
              </a:rPr>
              <a:t>Conocimiento de la entidad y su entorno</a:t>
            </a: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Es de gran importancia para el proceso de auditoría, el previo conocimiento de la entidad auditada, a partir del análisis de la información que al respecto pueda existir en la </a:t>
            </a:r>
            <a:r>
              <a:rPr b="0" lang="es-ES" sz="2300" spc="-1" strike="noStrike">
                <a:solidFill>
                  <a:srgbClr val="00449e"/>
                </a:solidFill>
                <a:latin typeface="Century Gothic"/>
              </a:rPr>
              <a:t>base de datos</a:t>
            </a:r>
            <a:r>
              <a:rPr b="0" lang="es-ES" sz="2300" spc="-1" strike="noStrike">
                <a:solidFill>
                  <a:srgbClr val="000000"/>
                </a:solidFill>
                <a:latin typeface="Century Gothic"/>
              </a:rPr>
              <a:t>.</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3 Marcador de contenido"/>
          <p:cNvGrpSpPr/>
          <p:nvPr/>
        </p:nvGrpSpPr>
        <p:grpSpPr>
          <a:xfrm>
            <a:off x="457200" y="1882800"/>
            <a:ext cx="8229600" cy="4975200"/>
            <a:chOff x="457200" y="1882800"/>
            <a:chExt cx="8229600" cy="4975200"/>
          </a:xfrm>
        </p:grpSpPr>
        <p:sp>
          <p:nvSpPr>
            <p:cNvPr id="333" name="4 Rectángulo"/>
            <p:cNvSpPr/>
            <p:nvPr/>
          </p:nvSpPr>
          <p:spPr>
            <a:xfrm>
              <a:off x="457200" y="1882800"/>
              <a:ext cx="8229600" cy="46468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5 Rectángulo"/>
            <p:cNvSpPr/>
            <p:nvPr/>
          </p:nvSpPr>
          <p:spPr>
            <a:xfrm>
              <a:off x="457200" y="2359080"/>
              <a:ext cx="8229600" cy="449892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35" name="2 Título" descr=""/>
          <p:cNvPicPr/>
          <p:nvPr/>
        </p:nvPicPr>
        <p:blipFill>
          <a:blip r:embed="rId1"/>
          <a:stretch/>
        </p:blipFill>
        <p:spPr>
          <a:xfrm>
            <a:off x="0" y="500040"/>
            <a:ext cx="8229600" cy="1401840"/>
          </a:xfrm>
          <a:prstGeom prst="rect">
            <a:avLst/>
          </a:prstGeom>
          <a:ln w="0">
            <a:noFill/>
          </a:ln>
        </p:spPr>
      </p:pic>
      <p:sp>
        <p:nvSpPr>
          <p:cNvPr id="336" name="Marcador de contenido 8"/>
          <p:cNvSpPr/>
          <p:nvPr/>
        </p:nvSpPr>
        <p:spPr>
          <a:xfrm>
            <a:off x="457200" y="1832040"/>
            <a:ext cx="4038480" cy="452592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entury Gothic"/>
              </a:rPr>
              <a:t>Factores externos</a:t>
            </a:r>
            <a:endParaRPr b="0" lang="en-US" sz="2800" spc="-1" strike="noStrike">
              <a:solidFill>
                <a:srgbClr val="ffffff"/>
              </a:solidFill>
              <a:latin typeface="Arial"/>
            </a:endParaRPr>
          </a:p>
          <a:p>
            <a:pPr marL="4478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ector económico.</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Leyes y normatividad en curso.</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Localización.</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roveedores</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Clientes.</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7" name="Marcador de contenido 9"/>
          <p:cNvSpPr/>
          <p:nvPr/>
        </p:nvSpPr>
        <p:spPr>
          <a:xfrm>
            <a:off x="4648320" y="1832040"/>
            <a:ext cx="4038480" cy="452592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Century Gothic"/>
              </a:rPr>
              <a:t>Factores internos</a:t>
            </a:r>
            <a:endParaRPr b="0" lang="en-US" sz="2600" spc="-1" strike="noStrike">
              <a:solidFill>
                <a:srgbClr val="ffffff"/>
              </a:solidFill>
              <a:latin typeface="Arial"/>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Métodos de archivo.</a:t>
            </a: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 </a:t>
            </a:r>
            <a:r>
              <a:rPr b="0" lang="es-ES" sz="2600" spc="-1" strike="noStrike">
                <a:solidFill>
                  <a:srgbClr val="000000"/>
                </a:solidFill>
                <a:latin typeface="Century Gothic"/>
              </a:rPr>
              <a:t>Sistematización y base de datos.</a:t>
            </a: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  </a:t>
            </a:r>
            <a:r>
              <a:rPr b="0" lang="es-ES" sz="2600" spc="-1" strike="noStrike">
                <a:solidFill>
                  <a:srgbClr val="000000"/>
                </a:solidFill>
                <a:latin typeface="Century Gothic"/>
              </a:rPr>
              <a:t>Sistemas de recaudación de ingresos.</a:t>
            </a: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  </a:t>
            </a:r>
            <a:r>
              <a:rPr b="0" lang="es-ES" sz="2600" spc="-1" strike="noStrike">
                <a:solidFill>
                  <a:srgbClr val="000000"/>
                </a:solidFill>
                <a:latin typeface="Century Gothic"/>
              </a:rPr>
              <a:t>Actitudes y valores de los funcionarios.</a:t>
            </a:r>
            <a:endParaRPr b="0" lang="en-US" sz="2600" spc="-1" strike="noStrike">
              <a:solidFill>
                <a:srgbClr val="ffffff"/>
              </a:solidFill>
              <a:latin typeface="Arial"/>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3 Marcador de contenido"/>
          <p:cNvGrpSpPr/>
          <p:nvPr/>
        </p:nvGrpSpPr>
        <p:grpSpPr>
          <a:xfrm>
            <a:off x="457200" y="1882800"/>
            <a:ext cx="8229600" cy="4572000"/>
            <a:chOff x="457200" y="1882800"/>
            <a:chExt cx="8229600" cy="4572000"/>
          </a:xfrm>
        </p:grpSpPr>
        <p:sp>
          <p:nvSpPr>
            <p:cNvPr id="339"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Debemos considerar las siguientes causa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Activos que han desaparecido o han sido sustraídos.</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Síntomas de creciente posibilidades de que el fraude esta ocurriendo.</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Controles internos vulnerables.</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Involucrar el menor numero de asistentes y referentes de la organización.</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Métodos que el autor ha utilizado para ocultar el fraude.</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40"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41"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3 Marcador de contenido"/>
          <p:cNvGrpSpPr/>
          <p:nvPr/>
        </p:nvGrpSpPr>
        <p:grpSpPr>
          <a:xfrm>
            <a:off x="457200" y="1882800"/>
            <a:ext cx="8229600" cy="4572000"/>
            <a:chOff x="457200" y="1882800"/>
            <a:chExt cx="8229600" cy="4572000"/>
          </a:xfrm>
        </p:grpSpPr>
        <p:sp>
          <p:nvSpPr>
            <p:cNvPr id="343"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Obtención de evidencia probatoria y confiable </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 </a:t>
              </a:r>
              <a:r>
                <a:rPr b="0" lang="es-SV" sz="1800" spc="-1" strike="noStrike">
                  <a:solidFill>
                    <a:srgbClr val="000000"/>
                  </a:solidFill>
                  <a:latin typeface="Century Gothic"/>
                </a:rPr>
                <a:t>el auditor debe permanecer independiente y objetivo,      considerando todas las posibles interpretaciones de los eventos.</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2. Principales evidencias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Testimonial y document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por computador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físic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testimoni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document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analític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direct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circunstanci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documentaria</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secundaria </a:t>
              </a:r>
              <a:endParaRPr b="0" lang="en-US" sz="1800" spc="-1" strike="noStrike">
                <a:solidFill>
                  <a:srgbClr val="ffffff"/>
                </a:solidFill>
                <a:latin typeface="Arial"/>
              </a:endParaRPr>
            </a:p>
          </p:txBody>
        </p:sp>
        <p:sp>
          <p:nvSpPr>
            <p:cNvPr id="344"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45"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7T23:28:12Z</dcterms:created>
  <dc:creator>Estudiante</dc:creator>
  <dc:description/>
  <dc:language>en-US</dc:language>
  <cp:lastModifiedBy>Leslie Gomez</cp:lastModifiedBy>
  <dcterms:modified xsi:type="dcterms:W3CDTF">2016-07-01T14:21:06Z</dcterms:modified>
  <cp:revision>23</cp:revision>
  <dc:subject/>
  <dc:title>Presentación de PowerPoint</dc:title>
</cp:coreProperties>
</file>