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D8A-1CFE-44F8-B0DF-25757FE1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CAD5-2F0B-4444-BCC9-61690118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459-0A58-47F5-8D81-293FFB57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078-109D-4EA7-9533-04C3039E7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766B-E4F3-4206-A127-DA9586B9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0D89-0288-49E6-8D9B-48F61392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CF74-1517-4B5B-B97E-9AB592B9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F032-1599-4669-94A8-7307DD91E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B9B9-26E3-49B1-B6AF-45585C5D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27BD-4454-4430-ADFB-8650BB50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2460-4B9F-4DF6-A04B-BCA19814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1A92-46C5-4B6F-B72A-992BD4BC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FDC5-044D-4755-8452-606BE4A8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CBAE-B768-4910-A729-80C933FD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12D0-E46F-4B18-B82A-710403BA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73D7-6049-4BA8-B8BD-7638E3AC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F7FE-52D3-4B50-BB5C-1076313D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806F3-6DD3-4409-AD3C-6BA72F18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43A5F-26A1-4D3A-8DD6-BD92729F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76B3E-F88D-441B-9FBC-4E1E2CA1B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21CD-AFCF-4A45-957E-441C86DD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2C9EE-ADCB-43C5-A21A-AE14577C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E1C1-7281-4106-BD08-6590571D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73A27-EF95-4DF5-997E-F44E6498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E0DB9-9D24-40AD-8F63-37C52160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8E69C-B3AA-43D6-8A43-FC193766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B05F6-A247-425F-B6E5-7E398C8A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91E8D-A117-456D-B981-D4B6B0E6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3DDD-8A3B-4BF5-9FED-F8E91ECD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C2BFA-733C-48D9-B582-02B0106F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2C170-5243-4925-BF08-6E8D2AE4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E5F5-3C68-4F96-B7FA-38957D4F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2B8D3-A0E5-4249-829B-B9128C93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0D6-7567-445D-A233-3064374C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98E80-3641-4C1B-A0EA-6F45F512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93AF2-C3B2-427D-9836-D5B2A455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39B19-87CD-4A44-A447-2E7C7385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094E7-DFCC-419A-B54B-F26C9C63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C32F7-41FF-474E-A5B7-CB478C2C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931FC-8FC5-470E-8DD7-DCCBB827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C8267-1B52-494F-91F5-D24431B6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6796E-1F8B-429F-A3B4-EA9C7760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206C7-4FD9-4533-9AA8-0AEC2B3B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BCC-F429-4194-B74A-F68E917D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874-5D9B-4B4A-8419-7AF756E6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302-FCEA-4D7C-8448-4380AAE4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A47-9CDC-427D-90F5-13950E5A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7ED-ECCF-48FE-ABD4-46EB1421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2CB5-A075-4F9A-99AD-789D2B03B388}" type="datetime">
              <a:rPr b="0" lang="es-SV" sz="9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916A-6FE0-4760-9752-15C16FBE5C9B}" type="slidenum">
              <a:rPr b="0" lang="es-SV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8575-D2FF-4786-9D0A-AE93A06DE252}" type="datetime">
              <a:rPr b="0" lang="es-SV" sz="9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A8A6-024F-4BA7-BA50-41A8DD5F2949}" type="slidenum">
              <a:rPr b="0" lang="es-SV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8A9E5-0E05-4CC4-A27C-12C0227F3483}" type="datetime">
              <a:rPr b="0" lang="es-SV" sz="9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9E9D-71A7-4E82-A6B4-AA50E131A32F}" type="slidenum">
              <a:rPr b="0" lang="es-SV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6252-4C8D-4E5E-8C03-97BC460CF5FC}" type="datetime">
              <a:rPr b="0" lang="es-SV" sz="9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9CCD-9A85-4A61-86A8-7AEBCA1093CD}" type="slidenum">
              <a:rPr b="0" lang="es-SV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4900" spc="-1" strike="noStrike">
                <a:solidFill>
                  <a:srgbClr val="90c226"/>
                </a:solidFill>
                <a:latin typeface="Trebuchet MS"/>
              </a:rPr>
              <a:t>Tema 4: </a:t>
            </a:r>
            <a:r>
              <a:rPr b="0" lang="es-SV" sz="4900" spc="-1" strike="noStrike">
                <a:solidFill>
                  <a:srgbClr val="90c226"/>
                </a:solidFill>
                <a:latin typeface="Trebuchet MS"/>
              </a:rPr>
              <a:t>Certificaciones y acreditaciones del auditor Forense</a:t>
            </a: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magen 1" descr=""/>
          <p:cNvPicPr/>
          <p:nvPr/>
        </p:nvPicPr>
        <p:blipFill>
          <a:blip r:embed="rId1"/>
          <a:stretch/>
        </p:blipFill>
        <p:spPr>
          <a:xfrm>
            <a:off x="36360" y="66600"/>
            <a:ext cx="1652760" cy="1212840"/>
          </a:xfrm>
          <a:prstGeom prst="rect">
            <a:avLst/>
          </a:prstGeom>
          <a:ln w="0">
            <a:noFill/>
          </a:ln>
        </p:spPr>
      </p:pic>
      <p:pic>
        <p:nvPicPr>
          <p:cNvPr id="214" name="Imagen 1" descr=""/>
          <p:cNvPicPr/>
          <p:nvPr/>
        </p:nvPicPr>
        <p:blipFill>
          <a:blip r:embed="rId2"/>
          <a:stretch/>
        </p:blipFill>
        <p:spPr>
          <a:xfrm>
            <a:off x="10094760" y="268200"/>
            <a:ext cx="1560600" cy="1176480"/>
          </a:xfrm>
          <a:prstGeom prst="rect">
            <a:avLst/>
          </a:prstGeom>
          <a:ln w="0">
            <a:noFill/>
          </a:ln>
        </p:spPr>
      </p:pic>
      <p:sp>
        <p:nvSpPr>
          <p:cNvPr id="215" name="1 Marcador de pie de página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7520" y="37800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200" spc="-1" strike="noStrike">
                <a:solidFill>
                  <a:srgbClr val="90c226"/>
                </a:solidFill>
                <a:latin typeface="Trebuchet MS"/>
              </a:rPr>
              <a:t>Figura 1: Detalle de los registros de CIAS por países.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magen 1" descr=""/>
          <p:cNvPicPr/>
          <p:nvPr/>
        </p:nvPicPr>
        <p:blipFill>
          <a:blip r:embed="rId1"/>
          <a:srcRect l="21895" t="19849" r="33835" b="36334"/>
          <a:stretch/>
        </p:blipFill>
        <p:spPr>
          <a:xfrm>
            <a:off x="677880" y="1698480"/>
            <a:ext cx="8817120" cy="5113440"/>
          </a:xfrm>
          <a:prstGeom prst="rect">
            <a:avLst/>
          </a:prstGeom>
          <a:ln w="0">
            <a:noFill/>
          </a:ln>
        </p:spPr>
      </p:pic>
      <p:pic>
        <p:nvPicPr>
          <p:cNvPr id="253" name="Imagen 1" descr=""/>
          <p:cNvPicPr/>
          <p:nvPr/>
        </p:nvPicPr>
        <p:blipFill>
          <a:blip r:embed="rId2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54" name="Imagen 1" descr=""/>
          <p:cNvPicPr/>
          <p:nvPr/>
        </p:nvPicPr>
        <p:blipFill>
          <a:blip r:embed="rId3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  <p:sp>
        <p:nvSpPr>
          <p:cNvPr id="255" name="2 Marcador de pie de página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600" spc="-1" strike="noStrike">
                <a:solidFill>
                  <a:srgbClr val="90c226"/>
                </a:solidFill>
                <a:latin typeface="Trebuchet MS"/>
              </a:rPr>
              <a:t>Otras Certificación y Acreditació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2160360"/>
            <a:ext cx="94294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Sistema Judicial de Cortes Civiles y Penal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Instituciones de Investigación, a nivel local o nacional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Departamentos de Policí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Tarjeta profesional para el ejercicio de sus funciones o licencia del gobiern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Asociación Profesional o Colegiad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Certificación y Acreditación de organizaciones internacionales (opcional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magen 1" descr=""/>
          <p:cNvPicPr/>
          <p:nvPr/>
        </p:nvPicPr>
        <p:blipFill>
          <a:blip r:embed="rId1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Imagen 1" descr=""/>
          <p:cNvPicPr/>
          <p:nvPr/>
        </p:nvPicPr>
        <p:blipFill>
          <a:blip r:embed="rId2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90c226"/>
                </a:solidFill>
                <a:latin typeface="Trebuchet MS"/>
              </a:rPr>
              <a:t>Definició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25600" y="1781280"/>
            <a:ext cx="96091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Es un componente de la contabilidad forense, a través del cual los profesionales investigan fraudes financieros en las empresas, Un Auditor Forense para poder ejercer su función, debe estar certificado y acreditado, además de calificado para el procedimiento que le sea asignado. Si sus funciones son a nivel de investigación forense, su auditoria será cuestionada en una Corte, debe estar entonces certificado por la Corte., o por el sistema Judicial de las Cortes</a:t>
            </a:r>
            <a:r>
              <a:rPr b="0" lang="es-E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¹</a:t>
            </a: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Imagen 1" descr=""/>
          <p:cNvPicPr/>
          <p:nvPr/>
        </p:nvPicPr>
        <p:blipFill>
          <a:blip r:embed="rId1"/>
          <a:stretch/>
        </p:blipFill>
        <p:spPr>
          <a:xfrm>
            <a:off x="10449000" y="5437080"/>
            <a:ext cx="1650960" cy="1212840"/>
          </a:xfrm>
          <a:prstGeom prst="rect">
            <a:avLst/>
          </a:prstGeom>
          <a:ln w="0">
            <a:noFill/>
          </a:ln>
        </p:spPr>
      </p:pic>
      <p:pic>
        <p:nvPicPr>
          <p:cNvPr id="219" name="Imagen 1" descr=""/>
          <p:cNvPicPr/>
          <p:nvPr/>
        </p:nvPicPr>
        <p:blipFill>
          <a:blip r:embed="rId2"/>
          <a:stretch/>
        </p:blipFill>
        <p:spPr>
          <a:xfrm>
            <a:off x="10534680" y="237960"/>
            <a:ext cx="1565280" cy="1176480"/>
          </a:xfrm>
          <a:prstGeom prst="rect">
            <a:avLst/>
          </a:prstGeom>
          <a:ln w="0">
            <a:noFill/>
          </a:ln>
        </p:spPr>
      </p:pic>
      <p:sp>
        <p:nvSpPr>
          <p:cNvPr id="220" name="1 Marcador de pie de página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9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¹</a:t>
            </a:r>
            <a:r>
              <a:rPr b="0" lang="es-ES" sz="900" spc="-1" strike="noStrike">
                <a:solidFill>
                  <a:srgbClr val="898989"/>
                </a:solidFill>
                <a:latin typeface="Trebuchet MS"/>
              </a:rPr>
              <a:t>Ibídem, p. 33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90c226"/>
                </a:solidFill>
                <a:latin typeface="Trebuchet MS"/>
              </a:rPr>
              <a:t>¿Quién podrán ejercer la Contaduría Pública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520" y="2160360"/>
            <a:ext cx="991404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SV" sz="2400" spc="-1" strike="noStrike">
                <a:solidFill>
                  <a:srgbClr val="404040"/>
                </a:solidFill>
                <a:latin typeface="Trebuchet MS"/>
              </a:rPr>
              <a:t>Según Art 2: Ley del Ejercicio Reguladora de Contaduría Pública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400" spc="-1" strike="noStrike">
                <a:solidFill>
                  <a:srgbClr val="404040"/>
                </a:solidFill>
                <a:latin typeface="Trebuchet MS"/>
              </a:rPr>
              <a:t>Los que tuvieren título de Licenciado en Contaduría Pública conferido por alguna de las Universidades autorizadas en El Salvador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400" spc="-1" strike="noStrike">
                <a:solidFill>
                  <a:srgbClr val="404040"/>
                </a:solidFill>
                <a:latin typeface="Trebuchet MS"/>
              </a:rPr>
              <a:t>Los que tuvieren la calidad de Contadores Públicos Certificados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400" spc="-1" strike="noStrike">
                <a:solidFill>
                  <a:srgbClr val="404040"/>
                </a:solidFill>
                <a:latin typeface="Trebuchet MS"/>
              </a:rPr>
              <a:t>Los que hubieren obtenido en Universidades extranjeras, título similar al expresado en el literal a) y haber sido autorizados según el procedimiento que disponga el Ministerio de Educación para la incorporación correspondiente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magen 1" descr=""/>
          <p:cNvPicPr/>
          <p:nvPr/>
        </p:nvPicPr>
        <p:blipFill>
          <a:blip r:embed="rId1"/>
          <a:stretch/>
        </p:blipFill>
        <p:spPr>
          <a:xfrm>
            <a:off x="10449000" y="5456160"/>
            <a:ext cx="1650960" cy="121284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1" descr=""/>
          <p:cNvPicPr/>
          <p:nvPr/>
        </p:nvPicPr>
        <p:blipFill>
          <a:blip r:embed="rId2"/>
          <a:stretch/>
        </p:blipFill>
        <p:spPr>
          <a:xfrm>
            <a:off x="10094760" y="268200"/>
            <a:ext cx="1560600" cy="1176480"/>
          </a:xfrm>
          <a:prstGeom prst="rect">
            <a:avLst/>
          </a:prstGeom>
          <a:ln w="0">
            <a:noFill/>
          </a:ln>
        </p:spPr>
      </p:pic>
      <p:pic>
        <p:nvPicPr>
          <p:cNvPr id="225" name="Imagen 1" descr=""/>
          <p:cNvPicPr/>
          <p:nvPr/>
        </p:nvPicPr>
        <p:blipFill>
          <a:blip r:embed="rId3"/>
          <a:stretch/>
        </p:blipFill>
        <p:spPr>
          <a:xfrm>
            <a:off x="10449000" y="5437080"/>
            <a:ext cx="1650960" cy="121284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1" descr=""/>
          <p:cNvPicPr/>
          <p:nvPr/>
        </p:nvPicPr>
        <p:blipFill>
          <a:blip r:embed="rId4"/>
          <a:stretch/>
        </p:blipFill>
        <p:spPr>
          <a:xfrm>
            <a:off x="10094760" y="249120"/>
            <a:ext cx="156060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3200" spc="-1" strike="noStrike">
                <a:solidFill>
                  <a:srgbClr val="90c226"/>
                </a:solidFill>
                <a:latin typeface="Trebuchet MS"/>
              </a:rPr>
              <a:t>Requisitos para ser autorizado como contador publico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77520" y="2160720"/>
            <a:ext cx="9418680" cy="42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2600" spc="-1" strike="noStrike">
                <a:solidFill>
                  <a:srgbClr val="404040"/>
                </a:solidFill>
                <a:latin typeface="Trebuchet MS"/>
              </a:rPr>
              <a:t>Art N°3 Ley del Ejercicio Reguladora de Contaduría Pública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2600" spc="-1" strike="noStrike">
                <a:solidFill>
                  <a:srgbClr val="404040"/>
                </a:solidFill>
                <a:latin typeface="Trebuchet MS"/>
              </a:rPr>
              <a:t>a) En el caso de personas naturales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600" spc="-1" strike="noStrike">
                <a:solidFill>
                  <a:srgbClr val="404040"/>
                </a:solidFill>
                <a:latin typeface="Trebuchet MS"/>
              </a:rPr>
              <a:t>Ser de nacionalidad Salvadoreña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600" spc="-1" strike="noStrike">
                <a:solidFill>
                  <a:srgbClr val="404040"/>
                </a:solidFill>
                <a:latin typeface="Trebuchet MS"/>
              </a:rPr>
              <a:t>Ser de honradez notoria y competencia suficiente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600" spc="-1" strike="noStrike">
                <a:solidFill>
                  <a:srgbClr val="404040"/>
                </a:solidFill>
                <a:latin typeface="Trebuchet MS"/>
              </a:rPr>
              <a:t>No haber sido declarado en quiebra ni en suspensión de pago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600" spc="-1" strike="noStrike">
                <a:solidFill>
                  <a:srgbClr val="404040"/>
                </a:solidFill>
                <a:latin typeface="Trebuchet MS"/>
              </a:rPr>
              <a:t>Estar en pleno uso de sus derechos de ciudadano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600" spc="-1" strike="noStrike">
                <a:solidFill>
                  <a:srgbClr val="404040"/>
                </a:solidFill>
                <a:latin typeface="Trebuchet MS"/>
              </a:rPr>
              <a:t>Estar autorizada por el Consejo de conformidad a esta ley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438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magen 1" descr=""/>
          <p:cNvPicPr/>
          <p:nvPr/>
        </p:nvPicPr>
        <p:blipFill>
          <a:blip r:embed="rId1"/>
          <a:stretch/>
        </p:blipFill>
        <p:spPr>
          <a:xfrm>
            <a:off x="10449000" y="5456160"/>
            <a:ext cx="1650960" cy="1212840"/>
          </a:xfrm>
          <a:prstGeom prst="rect">
            <a:avLst/>
          </a:prstGeom>
          <a:ln w="0">
            <a:noFill/>
          </a:ln>
        </p:spPr>
      </p:pic>
      <p:pic>
        <p:nvPicPr>
          <p:cNvPr id="230" name="Imagen 1" descr=""/>
          <p:cNvPicPr/>
          <p:nvPr/>
        </p:nvPicPr>
        <p:blipFill>
          <a:blip r:embed="rId2"/>
          <a:stretch/>
        </p:blipFill>
        <p:spPr>
          <a:xfrm>
            <a:off x="10094760" y="26820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42720" y="285480"/>
            <a:ext cx="10667880" cy="62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2200" spc="-1" strike="noStrike">
                <a:solidFill>
                  <a:srgbClr val="404040"/>
                </a:solidFill>
                <a:latin typeface="Trebuchet MS"/>
              </a:rPr>
              <a:t>b) En el caso de personas jurídica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éstas se constituyan conforme a las normas del Código de Comercio. En el caso de sociedades de capital, sus acciones siempre serán nominativa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la finalidad única sea el ejercicio de la contaduría pública y materias conexa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la nacionalidad de ésta, así como la de sus principales socios, accionistas o asociados sea salvadoreña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uno de los socios, accionistas, asociados y administradores, por lo menos, sea persona autorizada para ejercer la contaduría pública como persona natural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sus socios, accionistas, asociados y administradores sean de honradez notoria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la representación legal de la misma así como la firma de documentos relacionados con la contaduría pública o la auditoría, la ejerzan sólo quienes estén autorizados como personas naturales para ejercer la contaduría públic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Estar autorizada por el Consejo de conformidad a esta le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Imagen 1" descr=""/>
          <p:cNvPicPr/>
          <p:nvPr/>
        </p:nvPicPr>
        <p:blipFill>
          <a:blip r:embed="rId1"/>
          <a:stretch/>
        </p:blipFill>
        <p:spPr>
          <a:xfrm>
            <a:off x="10582200" y="5430960"/>
            <a:ext cx="1652760" cy="1214280"/>
          </a:xfrm>
          <a:prstGeom prst="rect">
            <a:avLst/>
          </a:prstGeom>
          <a:ln w="0">
            <a:noFill/>
          </a:ln>
        </p:spPr>
      </p:pic>
      <p:pic>
        <p:nvPicPr>
          <p:cNvPr id="233" name="Imagen 1" descr=""/>
          <p:cNvPicPr/>
          <p:nvPr/>
        </p:nvPicPr>
        <p:blipFill>
          <a:blip r:embed="rId2"/>
          <a:stretch/>
        </p:blipFill>
        <p:spPr>
          <a:xfrm>
            <a:off x="10582200" y="13968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90c226"/>
                </a:solidFill>
                <a:latin typeface="Trebuchet MS"/>
              </a:rPr>
              <a:t>Certificación Internacional en Auditoria interna (CIA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91328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404040"/>
                </a:solidFill>
                <a:latin typeface="Trebuchet MS"/>
              </a:rPr>
              <a:t>es el más prestigioso título de cualificación profesional en auditoria interna de todo el mundo. Es una certificación que avala a un experto en auditoria interna en el plano internacional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Imagen 1" descr=""/>
          <p:cNvPicPr/>
          <p:nvPr/>
        </p:nvPicPr>
        <p:blipFill>
          <a:blip r:embed="rId1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37" name="Imagen 1" descr=""/>
          <p:cNvPicPr/>
          <p:nvPr/>
        </p:nvPicPr>
        <p:blipFill>
          <a:blip r:embed="rId2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3600" spc="-1" strike="noStrike">
                <a:solidFill>
                  <a:srgbClr val="90c226"/>
                </a:solidFill>
                <a:latin typeface="Trebuchet MS"/>
              </a:rPr>
              <a:t>¿Cómo se obtiene la designación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15720" y="1790280"/>
            <a:ext cx="97232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404040"/>
                </a:solidFill>
                <a:latin typeface="Trebuchet MS"/>
              </a:rPr>
              <a:t>Titulación universitaria previa, dado que el CIA es una titulación de postgrado,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404040"/>
                </a:solidFill>
                <a:latin typeface="Trebuchet MS"/>
              </a:rPr>
              <a:t>Experiencia en auditoria interna o externa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404040"/>
                </a:solidFill>
                <a:latin typeface="Trebuchet MS"/>
              </a:rPr>
              <a:t>Adhesión al Código de Ética del Instituto; u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404040"/>
                </a:solidFill>
                <a:latin typeface="Trebuchet MS"/>
              </a:rPr>
              <a:t>Aprobación de 4 exámenes, que pueden tomarse individualmente y al completarse los mismo se entrega el título CIA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Imagen 1" descr=""/>
          <p:cNvPicPr/>
          <p:nvPr/>
        </p:nvPicPr>
        <p:blipFill>
          <a:blip r:embed="rId1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41" name="Imagen 1" descr=""/>
          <p:cNvPicPr/>
          <p:nvPr/>
        </p:nvPicPr>
        <p:blipFill>
          <a:blip r:embed="rId2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90c226"/>
                </a:solidFill>
                <a:latin typeface="Trebuchet MS"/>
              </a:rPr>
              <a:t>Material de Estudio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404040"/>
                </a:solidFill>
                <a:latin typeface="Trebuchet MS"/>
              </a:rPr>
              <a:t>Libros y Software CIA Review (Research Foundation IIA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404040"/>
                </a:solidFill>
                <a:latin typeface="Trebuchet MS"/>
              </a:rPr>
              <a:t>Gleim on line Versión XVII (Gleim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404040"/>
                </a:solidFill>
                <a:latin typeface="Trebuchet MS"/>
              </a:rPr>
              <a:t>Aprende CIA y Aprueba CIA (IAI España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Imagen 1" descr=""/>
          <p:cNvPicPr/>
          <p:nvPr/>
        </p:nvPicPr>
        <p:blipFill>
          <a:blip r:embed="rId1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45" name="Imagen 1" descr=""/>
          <p:cNvPicPr/>
          <p:nvPr/>
        </p:nvPicPr>
        <p:blipFill>
          <a:blip r:embed="rId2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90c226"/>
                </a:solidFill>
                <a:latin typeface="Trebuchet MS"/>
              </a:rPr>
              <a:t>Como resultado, la designación CIA: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0040" y="1487160"/>
            <a:ext cx="9990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Le hará sobresalir sobre sus colega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Le dará mayor importancia ante el personal interno y los clientes externo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Ampliará su conocimiento de las mejores prácticas aplicadas en la industria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Demostrará su pericia y profesionalism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Le dará la satisfacción de haber alcanzado una meta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Sentará las bases para la mejora continua y el avance profesional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Imagen 1" descr=""/>
          <p:cNvPicPr/>
          <p:nvPr/>
        </p:nvPicPr>
        <p:blipFill>
          <a:blip r:embed="rId1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49" name="Imagen 1" descr=""/>
          <p:cNvPicPr/>
          <p:nvPr/>
        </p:nvPicPr>
        <p:blipFill>
          <a:blip r:embed="rId2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0T05:03:46Z</dcterms:created>
  <dc:creator>Ever Fernando Garcia</dc:creator>
  <dc:description/>
  <dc:language>en-US</dc:language>
  <cp:lastModifiedBy>Xochilt</cp:lastModifiedBy>
  <dcterms:modified xsi:type="dcterms:W3CDTF">2015-11-11T17:49:10Z</dcterms:modified>
  <cp:revision>7</cp:revision>
  <dc:subject/>
  <dc:title>Tema 4: Certificaciones y acreditaciones del auditor Forense</dc:title>
</cp:coreProperties>
</file>