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fsd f$ze rze s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c7cd2"/>
                </a:solidFill>
                <a:latin typeface="Arial"/>
              </a:rPr>
              <a:t>Page </a:t>
            </a:r>
            <a:fld id="{06D80A97-2DBB-40CA-99D0-EA2369D210CE}" type="slidenum">
              <a:rPr b="1" lang="fr-FR" sz="1800" spc="-1" strike="noStrike">
                <a:solidFill>
                  <a:srgbClr val="0c7cd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0" descr="lmkg fhùre$^trl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1258920" y="1627200"/>
            <a:ext cx="781380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c7cd2"/>
                </a:solidFill>
                <a:latin typeface="Arial"/>
              </a:rPr>
              <a:t>PLANEACION AUDITORIA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http://1.bp.blogspot.com/-Bn8-YSVWqSA/TYpBwpcaCmI/AAAAAAAAAA4/PEri-UBQqDI/s305/logo%2Bues.png"/>
          <p:cNvPicPr/>
          <p:nvPr/>
        </p:nvPicPr>
        <p:blipFill>
          <a:blip r:embed="rId2"/>
          <a:stretch/>
        </p:blipFill>
        <p:spPr>
          <a:xfrm>
            <a:off x="0" y="0"/>
            <a:ext cx="1547640" cy="1901880"/>
          </a:xfrm>
          <a:prstGeom prst="rect">
            <a:avLst/>
          </a:prstGeom>
          <a:ln w="0">
            <a:noFill/>
          </a:ln>
        </p:spPr>
      </p:pic>
      <p:grpSp>
        <p:nvGrpSpPr>
          <p:cNvPr id="41" name="Rectangle 7"/>
          <p:cNvGrpSpPr/>
          <p:nvPr/>
        </p:nvGrpSpPr>
        <p:grpSpPr>
          <a:xfrm>
            <a:off x="2000160" y="73080"/>
            <a:ext cx="6046920" cy="1023840"/>
            <a:chOff x="2000160" y="73080"/>
            <a:chExt cx="6046920" cy="1023840"/>
          </a:xfrm>
        </p:grpSpPr>
        <p:pic>
          <p:nvPicPr>
            <p:cNvPr id="42" name="Rectangle 7" descr=""/>
            <p:cNvPicPr/>
            <p:nvPr/>
          </p:nvPicPr>
          <p:blipFill>
            <a:blip r:embed="rId3"/>
            <a:stretch/>
          </p:blipFill>
          <p:spPr>
            <a:xfrm>
              <a:off x="2000160" y="73080"/>
              <a:ext cx="6046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050920" y="119880"/>
              <a:ext cx="594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  <a:ea typeface="Calibri"/>
                </a:rPr>
                <a:t>UNIVERSIDAD DE EL SALVA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  <a:ea typeface="Calibri"/>
                </a:rPr>
                <a:t>FACULTAD DE CIENCIAS ECONÓM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  <a:ea typeface="Calibri"/>
                </a:rPr>
                <a:t>ESCUELA DE CONTADURIA PUBL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5 Rectángulo"/>
          <p:cNvSpPr/>
          <p:nvPr/>
        </p:nvSpPr>
        <p:spPr>
          <a:xfrm>
            <a:off x="1258920" y="2852640"/>
            <a:ext cx="7093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800" spc="-1" strike="noStrike">
                <a:solidFill>
                  <a:srgbClr val="000000"/>
                </a:solidFill>
                <a:latin typeface="Verdana"/>
              </a:rPr>
              <a:t>SEMINARIO DE AUDI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Verdana"/>
              </a:rPr>
              <a:t>Grupo: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Verdana"/>
              </a:rPr>
              <a:t>Equip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Verdana"/>
              </a:rPr>
              <a:t>CUASIEGRESADOS AUDITORES Y CONSULTORES SA DE C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81800" y="4573800"/>
            <a:ext cx="48895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Calibri"/>
                <a:ea typeface="Calibri"/>
              </a:rPr>
              <a:t>Integra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SINDY MARIELA CAMPOS HERNAND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JAIME  ERNESTO VELASQUEZ  MANZAN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GIOVANNI DANIEL MONTANO APAR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YESENIA EROINA ESCOBAR DE LE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BYRON ALEXANDER SANDOVAL C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Arial"/>
              </a:rPr>
              <a:t>ROCIO YAMILETH CASTILLO ORT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643280" y="4104000"/>
            <a:ext cx="46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Cambria"/>
              </a:rPr>
              <a:t>LICENCIADO: JAVIER E. MI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31 Grupo"/>
          <p:cNvGrpSpPr/>
          <p:nvPr/>
        </p:nvGrpSpPr>
        <p:grpSpPr>
          <a:xfrm>
            <a:off x="539640" y="2205000"/>
            <a:ext cx="7848720" cy="2736720"/>
            <a:chOff x="539640" y="2205000"/>
            <a:chExt cx="7848720" cy="2736720"/>
          </a:xfrm>
        </p:grpSpPr>
        <p:grpSp>
          <p:nvGrpSpPr>
            <p:cNvPr id="48" name="24 Grupo"/>
            <p:cNvGrpSpPr/>
            <p:nvPr/>
          </p:nvGrpSpPr>
          <p:grpSpPr>
            <a:xfrm>
              <a:off x="539640" y="2205000"/>
              <a:ext cx="7848720" cy="2736720"/>
              <a:chOff x="539640" y="2205000"/>
              <a:chExt cx="7848720" cy="2736720"/>
            </a:xfrm>
          </p:grpSpPr>
          <p:grpSp>
            <p:nvGrpSpPr>
              <p:cNvPr id="49" name="23 Grupo"/>
              <p:cNvGrpSpPr/>
              <p:nvPr/>
            </p:nvGrpSpPr>
            <p:grpSpPr>
              <a:xfrm>
                <a:off x="2865240" y="2409120"/>
                <a:ext cx="5523120" cy="1663920"/>
                <a:chOff x="2865240" y="2409120"/>
                <a:chExt cx="5523120" cy="1663920"/>
              </a:xfrm>
            </p:grpSpPr>
            <p:sp>
              <p:nvSpPr>
                <p:cNvPr id="50" name="AutoShape 19"/>
                <p:cNvSpPr/>
                <p:nvPr/>
              </p:nvSpPr>
              <p:spPr>
                <a:xfrm>
                  <a:off x="2865240" y="2409120"/>
                  <a:ext cx="5523120" cy="1663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Rectangle 20"/>
                <p:cNvSpPr/>
                <p:nvPr/>
              </p:nvSpPr>
              <p:spPr>
                <a:xfrm>
                  <a:off x="3345480" y="2824200"/>
                  <a:ext cx="4771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SV" sz="2800" spc="-1" strike="noStrike">
                      <a:solidFill>
                        <a:srgbClr val="000000"/>
                      </a:solidFill>
                      <a:latin typeface="Arial"/>
                    </a:rPr>
                    <a:t>Que implica la planeación?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" name="Picture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205000"/>
                <a:ext cx="2766960" cy="273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Picture 4" descr="http://bibianabecerra.files.wordpress.com/2011/02/dinero.jpg"/>
            <p:cNvPicPr/>
            <p:nvPr/>
          </p:nvPicPr>
          <p:blipFill>
            <a:blip r:embed="rId2"/>
            <a:stretch/>
          </p:blipFill>
          <p:spPr>
            <a:xfrm>
              <a:off x="755640" y="2279520"/>
              <a:ext cx="1658160" cy="229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12880" y="1327320"/>
            <a:ext cx="8124840" cy="4238280"/>
          </a:xfrm>
          <a:prstGeom prst="rect">
            <a:avLst/>
          </a:prstGeom>
          <a:ln w="0">
            <a:noFill/>
          </a:ln>
        </p:spPr>
      </p:pic>
      <p:pic>
        <p:nvPicPr>
          <p:cNvPr id="55" name="3 Rectángulo" descr=""/>
          <p:cNvPicPr/>
          <p:nvPr/>
        </p:nvPicPr>
        <p:blipFill>
          <a:blip r:embed="rId2"/>
          <a:stretch/>
        </p:blipFill>
        <p:spPr>
          <a:xfrm>
            <a:off x="1249200" y="-146160"/>
            <a:ext cx="66628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7" descr=""/>
          <p:cNvPicPr/>
          <p:nvPr/>
        </p:nvPicPr>
        <p:blipFill>
          <a:blip r:embed="rId1"/>
          <a:stretch/>
        </p:blipFill>
        <p:spPr>
          <a:xfrm>
            <a:off x="871560" y="1452600"/>
            <a:ext cx="7400880" cy="3952800"/>
          </a:xfrm>
          <a:prstGeom prst="rect">
            <a:avLst/>
          </a:prstGeom>
          <a:ln w="0">
            <a:noFill/>
          </a:ln>
        </p:spPr>
      </p:pic>
      <p:grpSp>
        <p:nvGrpSpPr>
          <p:cNvPr id="57" name="Rectangle 7"/>
          <p:cNvGrpSpPr/>
          <p:nvPr/>
        </p:nvGrpSpPr>
        <p:grpSpPr>
          <a:xfrm>
            <a:off x="1420920" y="231840"/>
            <a:ext cx="6053040" cy="749160"/>
            <a:chOff x="1420920" y="231840"/>
            <a:chExt cx="6053040" cy="749160"/>
          </a:xfrm>
        </p:grpSpPr>
        <p:pic>
          <p:nvPicPr>
            <p:cNvPr id="58" name="Rectangle 7" descr=""/>
            <p:cNvPicPr/>
            <p:nvPr/>
          </p:nvPicPr>
          <p:blipFill>
            <a:blip r:embed="rId2"/>
            <a:stretch/>
          </p:blipFill>
          <p:spPr>
            <a:xfrm>
              <a:off x="1420920" y="231840"/>
              <a:ext cx="60530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476360" y="302760"/>
              <a:ext cx="59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12720" y="981000"/>
            <a:ext cx="78962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23880" y="1490760"/>
            <a:ext cx="7896240" cy="3876480"/>
          </a:xfrm>
          <a:prstGeom prst="rect">
            <a:avLst/>
          </a:prstGeom>
          <a:ln w="0">
            <a:noFill/>
          </a:ln>
        </p:spPr>
      </p:pic>
      <p:grpSp>
        <p:nvGrpSpPr>
          <p:cNvPr id="62" name="Rectangle 7"/>
          <p:cNvGrpSpPr/>
          <p:nvPr/>
        </p:nvGrpSpPr>
        <p:grpSpPr>
          <a:xfrm>
            <a:off x="1779480" y="231840"/>
            <a:ext cx="6053400" cy="749160"/>
            <a:chOff x="1779480" y="231840"/>
            <a:chExt cx="6053400" cy="749160"/>
          </a:xfrm>
        </p:grpSpPr>
        <p:pic>
          <p:nvPicPr>
            <p:cNvPr id="63" name="Rectangle 7" descr=""/>
            <p:cNvPicPr/>
            <p:nvPr/>
          </p:nvPicPr>
          <p:blipFill>
            <a:blip r:embed="rId2"/>
            <a:stretch/>
          </p:blipFill>
          <p:spPr>
            <a:xfrm>
              <a:off x="1779480" y="231840"/>
              <a:ext cx="60534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835280" y="302760"/>
              <a:ext cx="59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28560" y="1700280"/>
            <a:ext cx="7877160" cy="3857400"/>
          </a:xfrm>
          <a:prstGeom prst="rect">
            <a:avLst/>
          </a:prstGeom>
          <a:ln w="0">
            <a:noFill/>
          </a:ln>
        </p:spPr>
      </p:pic>
      <p:grpSp>
        <p:nvGrpSpPr>
          <p:cNvPr id="66" name="Rectangle 7"/>
          <p:cNvGrpSpPr/>
          <p:nvPr/>
        </p:nvGrpSpPr>
        <p:grpSpPr>
          <a:xfrm>
            <a:off x="1542960" y="36360"/>
            <a:ext cx="6046920" cy="755640"/>
            <a:chOff x="1542960" y="36360"/>
            <a:chExt cx="6046920" cy="755640"/>
          </a:xfrm>
        </p:grpSpPr>
        <p:pic>
          <p:nvPicPr>
            <p:cNvPr id="67" name="Rectangle 7" descr=""/>
            <p:cNvPicPr/>
            <p:nvPr/>
          </p:nvPicPr>
          <p:blipFill>
            <a:blip r:embed="rId2"/>
            <a:stretch/>
          </p:blipFill>
          <p:spPr>
            <a:xfrm>
              <a:off x="1542960" y="36360"/>
              <a:ext cx="604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96960" y="109080"/>
              <a:ext cx="59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14320" y="1413000"/>
            <a:ext cx="7515360" cy="4827600"/>
          </a:xfrm>
          <a:prstGeom prst="rect">
            <a:avLst/>
          </a:prstGeom>
          <a:ln w="0">
            <a:noFill/>
          </a:ln>
        </p:spPr>
      </p:pic>
      <p:grpSp>
        <p:nvGrpSpPr>
          <p:cNvPr id="70" name="Rectangle 7"/>
          <p:cNvGrpSpPr/>
          <p:nvPr/>
        </p:nvGrpSpPr>
        <p:grpSpPr>
          <a:xfrm>
            <a:off x="1542960" y="36360"/>
            <a:ext cx="6046920" cy="755640"/>
            <a:chOff x="1542960" y="36360"/>
            <a:chExt cx="6046920" cy="755640"/>
          </a:xfrm>
        </p:grpSpPr>
        <p:pic>
          <p:nvPicPr>
            <p:cNvPr id="71" name="Rectangle 7" descr=""/>
            <p:cNvPicPr/>
            <p:nvPr/>
          </p:nvPicPr>
          <p:blipFill>
            <a:blip r:embed="rId2"/>
            <a:stretch/>
          </p:blipFill>
          <p:spPr>
            <a:xfrm>
              <a:off x="1542960" y="36360"/>
              <a:ext cx="604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596960" y="109080"/>
              <a:ext cx="59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3 CuadroTexto"/>
          <p:cNvSpPr/>
          <p:nvPr/>
        </p:nvSpPr>
        <p:spPr>
          <a:xfrm>
            <a:off x="4067280" y="2565360"/>
            <a:ext cx="1404720" cy="2462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Arial"/>
              </a:rPr>
              <a:t>OBLIG. FORM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7 CuadroTexto"/>
          <p:cNvSpPr/>
          <p:nvPr/>
        </p:nvSpPr>
        <p:spPr>
          <a:xfrm>
            <a:off x="4546440" y="2133720"/>
            <a:ext cx="1405080" cy="23112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900" spc="-1" strike="noStrike">
                <a:solidFill>
                  <a:srgbClr val="000000"/>
                </a:solidFill>
                <a:latin typeface="Arial"/>
              </a:rPr>
              <a:t>OBLIG.SUSTANTIV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CuadroTexto"/>
          <p:cNvSpPr/>
          <p:nvPr/>
        </p:nvSpPr>
        <p:spPr>
          <a:xfrm>
            <a:off x="3435480" y="2978280"/>
            <a:ext cx="1403280" cy="2462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Arial"/>
              </a:rPr>
              <a:t>LIBROS LEG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12 Grupo"/>
          <p:cNvGrpSpPr/>
          <p:nvPr/>
        </p:nvGrpSpPr>
        <p:grpSpPr>
          <a:xfrm>
            <a:off x="539640" y="2205000"/>
            <a:ext cx="7848720" cy="2963880"/>
            <a:chOff x="539640" y="2205000"/>
            <a:chExt cx="7848720" cy="2963880"/>
          </a:xfrm>
        </p:grpSpPr>
        <p:grpSp>
          <p:nvGrpSpPr>
            <p:cNvPr id="77" name="24 Grupo"/>
            <p:cNvGrpSpPr/>
            <p:nvPr/>
          </p:nvGrpSpPr>
          <p:grpSpPr>
            <a:xfrm>
              <a:off x="539640" y="2205000"/>
              <a:ext cx="7848720" cy="2963880"/>
              <a:chOff x="539640" y="2205000"/>
              <a:chExt cx="7848720" cy="2963880"/>
            </a:xfrm>
          </p:grpSpPr>
          <p:grpSp>
            <p:nvGrpSpPr>
              <p:cNvPr id="78" name="23 Grupo"/>
              <p:cNvGrpSpPr/>
              <p:nvPr/>
            </p:nvGrpSpPr>
            <p:grpSpPr>
              <a:xfrm>
                <a:off x="2865240" y="2205000"/>
                <a:ext cx="5523120" cy="2963880"/>
                <a:chOff x="2865240" y="2205000"/>
                <a:chExt cx="5523120" cy="2963880"/>
              </a:xfrm>
            </p:grpSpPr>
            <p:sp>
              <p:nvSpPr>
                <p:cNvPr id="79" name="AutoShape 19"/>
                <p:cNvSpPr/>
                <p:nvPr/>
              </p:nvSpPr>
              <p:spPr>
                <a:xfrm>
                  <a:off x="2865240" y="2205000"/>
                  <a:ext cx="5523120" cy="296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20"/>
                <p:cNvSpPr/>
                <p:nvPr/>
              </p:nvSpPr>
              <p:spPr>
                <a:xfrm>
                  <a:off x="3345480" y="2977920"/>
                  <a:ext cx="4771080" cy="52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1" name="Picture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205000"/>
                <a:ext cx="2766960" cy="273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" name="Picture 10" descr="http://t1.gstatic.com/images?q=tbn:ANd9GcTTxkkprK8zOTcZu60pwW8aD-J9-upg0RTd5wwssebLE-hC4fUiB9MzkLeVHw"/>
            <p:cNvPicPr/>
            <p:nvPr/>
          </p:nvPicPr>
          <p:blipFill>
            <a:blip r:embed="rId2"/>
            <a:stretch/>
          </p:blipFill>
          <p:spPr>
            <a:xfrm>
              <a:off x="682560" y="2346840"/>
              <a:ext cx="1731240" cy="223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10" descr="http://www.descargarmicrosoftoffice.com/wp-content/uploads/2012/08/Curso-de-excel-en-Madrid.png"/>
          <p:cNvPicPr/>
          <p:nvPr/>
        </p:nvPicPr>
        <p:blipFill>
          <a:blip r:embed="rId3"/>
          <a:stretch/>
        </p:blipFill>
        <p:spPr>
          <a:xfrm>
            <a:off x="4451400" y="2349360"/>
            <a:ext cx="25606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asece06</cp:lastModifiedBy>
  <dcterms:modified xsi:type="dcterms:W3CDTF">2013-10-23T22:05:37Z</dcterms:modified>
  <cp:revision>52</cp:revision>
  <dc:subject/>
  <dc:title>Blue Curvy Lines</dc:title>
</cp:coreProperties>
</file>