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4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1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png" ContentType="image/png"/>
  <Override PartName="/ppt/media/image67.jpeg" ContentType="image/jpeg"/>
  <Override PartName="/ppt/media/image58.png" ContentType="image/png"/>
  <Override PartName="/ppt/media/image21.png" ContentType="image/png"/>
  <Override PartName="/ppt/media/image31.png" ContentType="image/png"/>
  <Override PartName="/ppt/media/image1.png" ContentType="image/png"/>
  <Override PartName="/ppt/media/image66.png" ContentType="image/png"/>
  <Override PartName="/ppt/media/image30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62.png" ContentType="image/png"/>
  <Override PartName="/ppt/media/image63.png" ContentType="image/png"/>
  <Override PartName="/ppt/media/image26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17.png" ContentType="image/png"/>
  <Override PartName="/ppt/media/image14.gif" ContentType="image/gif"/>
  <Override PartName="/ppt/media/image5.png" ContentType="image/png"/>
  <Override PartName="/ppt/media/image35.png" ContentType="image/png"/>
  <Override PartName="/ppt/media/image10.jpeg" ContentType="image/jpeg"/>
  <Override PartName="/ppt/media/image33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9.png" ContentType="image/pn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5F97-6C21-475E-85D7-2D9B6BE8ABE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B75F-D7F3-44F5-B333-A389FC0F7F55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10F4-8B48-4790-A3AF-5AFAFAB0540D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72DA-A4B5-43F5-B13F-DDD131D15CA9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366-0D42-43CC-93B4-AA491664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FF5-9D9E-4638-8001-474DEF40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56A-F300-46BF-92EF-A74FD3F4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79E9-792B-4C60-A168-2F7824CF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7DF64-1783-4FB8-A870-191DF8614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FAB7-E928-441B-958E-5CA89C23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140B-F18E-40F7-B3B2-7C5EDAC6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55F5-D0F0-4A61-9DEF-2B6A909B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34C66-997E-4A92-8BD3-90CD1E9A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B014-36AA-4F85-BA66-81B30DC0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B363-1621-4D13-BAC3-A2A7490A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2F1-CF72-44B0-8D89-7733BEB3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C648-8F4A-41CD-A7FF-9C33DCF1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100A-164C-4B34-BD2A-D1891759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B943-D9F6-486C-B92C-4B75FB76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BDC5-3582-4C7A-BCA4-08814CBF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95EC-B4F3-4E35-8C76-6655EFD56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EEBBE-F196-4F19-BB08-1F960939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20A5D-A29D-4D10-9A3F-E4B401A1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A1B06-0B98-48FD-878C-FEF492D7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A1EB3-3524-4AB0-BCD3-C8E3E52E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9D1A5-DEFE-41B2-9963-24474AF5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B33E-4307-46CB-AD8E-6B46CFA4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EBC1-C4AB-4C05-A332-74E454EFF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E2C9-A451-4324-903A-8D188553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46CBD-FF96-4A75-B767-B97CFDFD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4DDDB-FB5F-4F58-8EB7-27AD7556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6056B-BE09-4FEA-A0BB-D585CDB2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2521A-F95A-4E2C-A392-0D875047A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14632-FE76-4F46-AB9E-EC83E735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9B677-FD00-4D52-B147-AE255994B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609B9-7BA4-49AA-BD5A-95F1BCF9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F56BC-F563-4D6D-8C58-A1CF19F2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46BE-A87C-4246-AA8F-BEC6891E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81AB2-6A9A-4757-BBC4-0FEDBD14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EF1E-D12C-4263-906E-AB3B45A3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B16A-633D-4CBB-BA2E-18A7BA38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1E179-6BE0-49C4-9B40-E48DC1BE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C5691-D472-427F-950C-7A1BB635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E4D2D-5519-4891-ABAF-4CFB1CC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1D96-01EA-41D9-A059-1FEB2CD3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CA809-2C35-4BC3-98A8-83FAC1EA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C6279-66EC-49C3-8D43-98B86766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A9539-C106-4EB8-A296-681935BB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E8BE-4F7E-4632-BC2A-9BB8D0E2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AD1D8-61EA-47EC-A060-216EF566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891F3-78D6-47D3-9628-8BF41C59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EA7E0-22B3-4F25-AA32-8798056B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DF20E-ED64-48B5-8BE8-AA08152E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E1881-89D9-4C6B-8AFD-1BE0128B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DEC7F-3BF2-4AEB-838A-D7AD019D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2BBAE-5960-462D-B162-012DD303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6CA5B-5501-4796-827E-BE5758A3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B75F-99EE-4CA1-8198-3CB59287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664B1-0890-4DD5-8B14-370C07E2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02D-299C-4EBC-BB56-F4F6E013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4BA0B-51EE-400D-BBF5-ED7431BD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2536-A919-4E9D-94FA-871C82D4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9B3-9BD9-4175-BCBD-7DB60296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0F8-903B-47B0-92E1-61438212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26D7-85EF-4FF6-B3DC-67C2D53E8B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952F-F3E2-4F09-B828-869CDF080D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0DAF-6C81-4E7B-AD6A-A30376FCFC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9E60-21A5-49DB-B0DA-139C6674C6E7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FF4D-C23D-44B7-8F5B-EA9E0E58FC0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334800" y="2505240"/>
            <a:ext cx="8448840" cy="1603080"/>
          </a:xfrm>
          <a:prstGeom prst="rect">
            <a:avLst/>
          </a:prstGeom>
          <a:ln w="0">
            <a:noFill/>
          </a:ln>
        </p:spPr>
      </p:pic>
      <p:pic>
        <p:nvPicPr>
          <p:cNvPr id="223" name="10 Imagen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1871640" cy="2073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http://www.diariopresente.com.mx/videos/investigacionespecial_main.jpg"/>
          <p:cNvPicPr/>
          <p:nvPr/>
        </p:nvPicPr>
        <p:blipFill>
          <a:blip r:embed="rId3"/>
          <a:srcRect l="8486" t="6196" r="0" b="13243"/>
          <a:stretch/>
        </p:blipFill>
        <p:spPr>
          <a:xfrm>
            <a:off x="6372360" y="0"/>
            <a:ext cx="27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http://4.bp.blogspot.com/_lpxunuhcniQ/S8hbgKMNSoI/AAAAAAAAAPk/TTgcTRRJwNU/s1600/justicia.gif"/>
          <p:cNvPicPr/>
          <p:nvPr/>
        </p:nvPicPr>
        <p:blipFill>
          <a:blip r:embed="rId4"/>
          <a:stretch/>
        </p:blipFill>
        <p:spPr>
          <a:xfrm>
            <a:off x="0" y="4286160"/>
            <a:ext cx="3795840" cy="25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7 Título"/>
          <p:cNvGrpSpPr/>
          <p:nvPr/>
        </p:nvGrpSpPr>
        <p:grpSpPr>
          <a:xfrm>
            <a:off x="781200" y="689040"/>
            <a:ext cx="7948440" cy="858600"/>
            <a:chOff x="781200" y="689040"/>
            <a:chExt cx="7948440" cy="858600"/>
          </a:xfrm>
        </p:grpSpPr>
        <p:pic>
          <p:nvPicPr>
            <p:cNvPr id="270" name="7 Título" descr=""/>
            <p:cNvPicPr/>
            <p:nvPr/>
          </p:nvPicPr>
          <p:blipFill>
            <a:blip r:embed="rId1"/>
            <a:stretch/>
          </p:blipFill>
          <p:spPr>
            <a:xfrm>
              <a:off x="781200" y="689040"/>
              <a:ext cx="794844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838080" y="762120"/>
              <a:ext cx="78310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Franklin Gothic Medium"/>
                </a:rPr>
                <a:t>SITUACIÓN FINANCIERA: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72" name="7 Marcador de contenido" descr=""/>
          <p:cNvPicPr/>
          <p:nvPr/>
        </p:nvPicPr>
        <p:blipFill>
          <a:blip r:embed="rId2"/>
          <a:stretch/>
        </p:blipFill>
        <p:spPr>
          <a:xfrm>
            <a:off x="828720" y="1523880"/>
            <a:ext cx="8126280" cy="4999320"/>
          </a:xfrm>
          <a:prstGeom prst="rect">
            <a:avLst/>
          </a:prstGeom>
          <a:ln w="0">
            <a:noFill/>
          </a:ln>
        </p:spPr>
      </p:pic>
      <p:sp>
        <p:nvSpPr>
          <p:cNvPr id="273" name="5 Rectángulo"/>
          <p:cNvSpPr/>
          <p:nvPr/>
        </p:nvSpPr>
        <p:spPr>
          <a:xfrm rot="16200000">
            <a:off x="-1839600" y="3213000"/>
            <a:ext cx="4518000" cy="368280"/>
          </a:xfrm>
          <a:prstGeom prst="rect">
            <a:avLst/>
          </a:prstGeom>
          <a:solidFill>
            <a:srgbClr val="b5c4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831080" cy="4572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fff00"/>
                </a:solidFill>
                <a:latin typeface="Franklin Gothic Medium"/>
              </a:rPr>
              <a:t>ELEMENTOS DE LOS ESTADOS FINANCIEROS</a:t>
            </a:r>
            <a:endParaRPr b="0" lang="en-US" sz="23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5" name="11 Marcador de contenido" descr=""/>
          <p:cNvPicPr/>
          <p:nvPr/>
        </p:nvPicPr>
        <p:blipFill>
          <a:blip r:embed="rId1"/>
          <a:stretch/>
        </p:blipFill>
        <p:spPr>
          <a:xfrm>
            <a:off x="1828800" y="1609560"/>
            <a:ext cx="5638680" cy="3711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"/>
          <p:cNvPicPr/>
          <p:nvPr/>
        </p:nvPicPr>
        <p:blipFill>
          <a:blip r:embed="rId2"/>
          <a:stretch/>
        </p:blipFill>
        <p:spPr>
          <a:xfrm>
            <a:off x="7620120" y="4578480"/>
            <a:ext cx="1371600" cy="12459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3"/>
          <a:stretch/>
        </p:blipFill>
        <p:spPr>
          <a:xfrm>
            <a:off x="1523880" y="3200400"/>
            <a:ext cx="762120" cy="793800"/>
          </a:xfrm>
          <a:prstGeom prst="rect">
            <a:avLst/>
          </a:prstGeom>
          <a:ln w="0">
            <a:noFill/>
          </a:ln>
        </p:spPr>
      </p:pic>
      <p:sp>
        <p:nvSpPr>
          <p:cNvPr id="278" name="9 Llamada de flecha hacia arriba"/>
          <p:cNvSpPr/>
          <p:nvPr/>
        </p:nvSpPr>
        <p:spPr>
          <a:xfrm>
            <a:off x="990720" y="5029200"/>
            <a:ext cx="5029200" cy="762120"/>
          </a:xfrm>
          <a:prstGeom prst="upArrowCallout">
            <a:avLst>
              <a:gd name="adj1" fmla="val 24993"/>
              <a:gd name="adj2" fmla="val 24991"/>
              <a:gd name="adj3" fmla="val 25000"/>
              <a:gd name="adj4" fmla="val 70041"/>
            </a:avLst>
          </a:prstGeom>
          <a:solidFill>
            <a:srgbClr val="ffc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10 Rectángulo"/>
          <p:cNvSpPr/>
          <p:nvPr/>
        </p:nvSpPr>
        <p:spPr>
          <a:xfrm rot="16200000">
            <a:off x="-2368080" y="3282480"/>
            <a:ext cx="571500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ranklin Gothic Book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831080" cy="60948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Franklin Gothic Medium"/>
              </a:rPr>
              <a:t>RESULTADO INTEGRAL TOTAL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1" name="9 Marcador de contenido" descr=""/>
          <p:cNvPicPr/>
          <p:nvPr/>
        </p:nvPicPr>
        <p:blipFill>
          <a:blip r:embed="rId1"/>
          <a:stretch/>
        </p:blipFill>
        <p:spPr>
          <a:xfrm>
            <a:off x="858960" y="1773360"/>
            <a:ext cx="7950240" cy="4779720"/>
          </a:xfrm>
          <a:prstGeom prst="rect">
            <a:avLst/>
          </a:prstGeom>
          <a:ln w="0">
            <a:noFill/>
          </a:ln>
        </p:spPr>
      </p:pic>
      <p:sp>
        <p:nvSpPr>
          <p:cNvPr id="282" name="5 Rectángulo"/>
          <p:cNvSpPr/>
          <p:nvPr/>
        </p:nvSpPr>
        <p:spPr>
          <a:xfrm rot="16200000">
            <a:off x="-2328480" y="3547800"/>
            <a:ext cx="5483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7924680" y="3581280"/>
            <a:ext cx="990720" cy="12384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7831080" cy="60948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Franklin Gothic Medium"/>
              </a:rPr>
              <a:t>ELEMENTOS DE LOS ESTADOS FINANCIEROS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5" name="9 Marcador de contenido" descr=""/>
          <p:cNvPicPr/>
          <p:nvPr/>
        </p:nvPicPr>
        <p:blipFill>
          <a:blip r:embed="rId2"/>
          <a:stretch/>
        </p:blipFill>
        <p:spPr>
          <a:xfrm>
            <a:off x="853920" y="1706400"/>
            <a:ext cx="7667640" cy="4164120"/>
          </a:xfrm>
          <a:prstGeom prst="rect">
            <a:avLst/>
          </a:prstGeom>
          <a:ln w="0">
            <a:noFill/>
          </a:ln>
        </p:spPr>
      </p:pic>
      <p:sp>
        <p:nvSpPr>
          <p:cNvPr id="286" name="6 Rectángulo"/>
          <p:cNvSpPr/>
          <p:nvPr/>
        </p:nvSpPr>
        <p:spPr>
          <a:xfrm rot="16200000">
            <a:off x="-2406240" y="3244680"/>
            <a:ext cx="5790960" cy="368280"/>
          </a:xfrm>
          <a:prstGeom prst="rect">
            <a:avLst/>
          </a:prstGeom>
          <a:solidFill>
            <a:srgbClr val="cdd7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625400" y="304920"/>
            <a:ext cx="6895800" cy="76176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00"/>
                </a:solidFill>
                <a:latin typeface="Franklin Gothic Medium"/>
              </a:rPr>
              <a:t>RECONOCIMIENTO DE LOS ELEMENTOS </a:t>
            </a:r>
            <a:br>
              <a:rPr sz="2100"/>
            </a:br>
            <a:r>
              <a:rPr b="1" lang="es-ES_tradnl" sz="2100" spc="-1" strike="noStrike">
                <a:solidFill>
                  <a:srgbClr val="ffff00"/>
                </a:solidFill>
                <a:latin typeface="Franklin Gothic Medium"/>
              </a:rPr>
              <a:t>EN LOS ESTADOS FINANCIEROS: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8" name="5 Marcador de contenido" descr=""/>
          <p:cNvPicPr/>
          <p:nvPr/>
        </p:nvPicPr>
        <p:blipFill>
          <a:blip r:embed="rId1"/>
          <a:stretch/>
        </p:blipFill>
        <p:spPr>
          <a:xfrm>
            <a:off x="890640" y="1219320"/>
            <a:ext cx="8454960" cy="5175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2"/>
          <a:stretch/>
        </p:blipFill>
        <p:spPr>
          <a:xfrm>
            <a:off x="1371600" y="3973680"/>
            <a:ext cx="838080" cy="7394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3"/>
          <a:stretch/>
        </p:blipFill>
        <p:spPr>
          <a:xfrm>
            <a:off x="7943760" y="4343400"/>
            <a:ext cx="743040" cy="942840"/>
          </a:xfrm>
          <a:prstGeom prst="rect">
            <a:avLst/>
          </a:prstGeom>
          <a:ln w="0">
            <a:noFill/>
          </a:ln>
        </p:spPr>
      </p:pic>
      <p:sp>
        <p:nvSpPr>
          <p:cNvPr id="291" name="7 Rectángulo"/>
          <p:cNvSpPr/>
          <p:nvPr/>
        </p:nvSpPr>
        <p:spPr>
          <a:xfrm rot="16200000">
            <a:off x="-1838160" y="3028680"/>
            <a:ext cx="50547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8 CuadroTexto"/>
          <p:cNvSpPr/>
          <p:nvPr/>
        </p:nvSpPr>
        <p:spPr>
          <a:xfrm>
            <a:off x="1600200" y="2133720"/>
            <a:ext cx="2743200" cy="1191240"/>
          </a:xfrm>
          <a:prstGeom prst="rect">
            <a:avLst/>
          </a:prstGeom>
          <a:solidFill>
            <a:srgbClr val="008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Franklin Gothic Book"/>
              </a:rPr>
              <a:t>Reconocimiento es el proceso de incorporar una partida en los estados financiero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76212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Franklin Gothic Medium"/>
              </a:rPr>
              <a:t>BASE CONTABLE DE LOS ESTADOS FINANCIEROS: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4" name="5 Marcador de contenido" descr=""/>
          <p:cNvPicPr/>
          <p:nvPr/>
        </p:nvPicPr>
        <p:blipFill>
          <a:blip r:embed="rId1"/>
          <a:stretch/>
        </p:blipFill>
        <p:spPr>
          <a:xfrm>
            <a:off x="536400" y="1219320"/>
            <a:ext cx="8998200" cy="54561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"/>
          <p:cNvPicPr/>
          <p:nvPr/>
        </p:nvPicPr>
        <p:blipFill>
          <a:blip r:embed="rId2"/>
          <a:stretch/>
        </p:blipFill>
        <p:spPr>
          <a:xfrm>
            <a:off x="2057400" y="2362320"/>
            <a:ext cx="838080" cy="739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2" descr=""/>
          <p:cNvPicPr/>
          <p:nvPr/>
        </p:nvPicPr>
        <p:blipFill>
          <a:blip r:embed="rId3"/>
          <a:stretch/>
        </p:blipFill>
        <p:spPr>
          <a:xfrm>
            <a:off x="7696080" y="4114800"/>
            <a:ext cx="743040" cy="942840"/>
          </a:xfrm>
          <a:prstGeom prst="rect">
            <a:avLst/>
          </a:prstGeom>
          <a:ln w="0">
            <a:noFill/>
          </a:ln>
        </p:spPr>
      </p:pic>
      <p:sp>
        <p:nvSpPr>
          <p:cNvPr id="297" name="7 Rectángulo"/>
          <p:cNvSpPr/>
          <p:nvPr/>
        </p:nvSpPr>
        <p:spPr>
          <a:xfrm rot="16200000">
            <a:off x="-2490480" y="3099960"/>
            <a:ext cx="5654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831080" cy="76176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00"/>
                </a:solidFill>
                <a:latin typeface="Franklin Gothic Medium"/>
              </a:rPr>
              <a:t>MEDICIÓN INICIAL DE LOS </a:t>
            </a:r>
            <a:br>
              <a:rPr sz="2100"/>
            </a:br>
            <a:r>
              <a:rPr b="1" lang="es-ES_tradnl" sz="2100" spc="-1" strike="noStrike">
                <a:solidFill>
                  <a:srgbClr val="ffff00"/>
                </a:solidFill>
                <a:latin typeface="Franklin Gothic Medium"/>
              </a:rPr>
              <a:t>ELEMENTOS DE LOS ESTADOS FINANCIEROS: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9" name="5 Marcador de contenido" descr=""/>
          <p:cNvPicPr/>
          <p:nvPr/>
        </p:nvPicPr>
        <p:blipFill>
          <a:blip r:embed="rId1"/>
          <a:stretch/>
        </p:blipFill>
        <p:spPr>
          <a:xfrm>
            <a:off x="785880" y="1255680"/>
            <a:ext cx="8029440" cy="4986360"/>
          </a:xfrm>
          <a:prstGeom prst="rect">
            <a:avLst/>
          </a:prstGeom>
          <a:ln w="0">
            <a:noFill/>
          </a:ln>
        </p:spPr>
      </p:pic>
      <p:sp>
        <p:nvSpPr>
          <p:cNvPr id="300" name="6 Rectángulo"/>
          <p:cNvSpPr/>
          <p:nvPr/>
        </p:nvSpPr>
        <p:spPr>
          <a:xfrm rot="16200000">
            <a:off x="-1922400" y="3578040"/>
            <a:ext cx="451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858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Franklin Gothic Medium"/>
              </a:rPr>
              <a:t>MEDICIÓN  POSTERIOR DE LOS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Franklin Gothic Medium"/>
              </a:rPr>
              <a:t>ELEMENTOS DE LOS ESTADOS FINANCIEROS: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2" name="5 Marcador de contenido" descr=""/>
          <p:cNvPicPr/>
          <p:nvPr/>
        </p:nvPicPr>
        <p:blipFill>
          <a:blip r:embed="rId1"/>
          <a:stretch/>
        </p:blipFill>
        <p:spPr>
          <a:xfrm>
            <a:off x="530280" y="1719360"/>
            <a:ext cx="8369280" cy="4913280"/>
          </a:xfrm>
          <a:prstGeom prst="rect">
            <a:avLst/>
          </a:prstGeom>
          <a:ln w="0">
            <a:noFill/>
          </a:ln>
        </p:spPr>
      </p:pic>
      <p:sp>
        <p:nvSpPr>
          <p:cNvPr id="303" name="6 Rectángulo"/>
          <p:cNvSpPr/>
          <p:nvPr/>
        </p:nvSpPr>
        <p:spPr>
          <a:xfrm rot="16200000">
            <a:off x="-1922400" y="342576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7 Rectángulo"/>
          <p:cNvSpPr/>
          <p:nvPr/>
        </p:nvSpPr>
        <p:spPr>
          <a:xfrm>
            <a:off x="2133720" y="6095880"/>
            <a:ext cx="6858000" cy="53352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Franklin Gothic Book"/>
              </a:rPr>
              <a:t>Resto de Activos y Pasivos Financieros a Valor Razonab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7924680" y="1828800"/>
            <a:ext cx="685800" cy="762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47920" y="914400"/>
            <a:ext cx="7238880" cy="83808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Franklin Gothic Medium"/>
              </a:rPr>
              <a:t>MEDICIÓN POSTERIOR DE LOS 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Franklin Gothic Medium"/>
              </a:rPr>
              <a:t>ELEMENTOS DE LOS ESTADOS FINANCIEROS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07" name="9 Marcador de contenido" descr=""/>
          <p:cNvPicPr/>
          <p:nvPr/>
        </p:nvPicPr>
        <p:blipFill>
          <a:blip r:embed="rId2"/>
          <a:stretch/>
        </p:blipFill>
        <p:spPr>
          <a:xfrm>
            <a:off x="676440" y="1981080"/>
            <a:ext cx="8248320" cy="4359240"/>
          </a:xfrm>
          <a:prstGeom prst="rect">
            <a:avLst/>
          </a:prstGeom>
          <a:ln w="0">
            <a:noFill/>
          </a:ln>
        </p:spPr>
      </p:pic>
      <p:sp>
        <p:nvSpPr>
          <p:cNvPr id="308" name="6 Rectángulo"/>
          <p:cNvSpPr/>
          <p:nvPr/>
        </p:nvSpPr>
        <p:spPr>
          <a:xfrm rot="16200000">
            <a:off x="-1846080" y="2968560"/>
            <a:ext cx="4518000" cy="368280"/>
          </a:xfrm>
          <a:prstGeom prst="rect">
            <a:avLst/>
          </a:prstGeom>
          <a:solidFill>
            <a:srgbClr val="cdd7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8310600" y="0"/>
            <a:ext cx="853920" cy="9907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98320" y="151920"/>
            <a:ext cx="7097760" cy="6858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Franklin Gothic Medium"/>
              </a:rPr>
              <a:t>MEDICIÓN  POSTERIOR DE LOS </a:t>
            </a:r>
            <a:br>
              <a:rPr sz="2200"/>
            </a:br>
            <a:r>
              <a:rPr b="1" lang="es-ES_tradnl" sz="2200" spc="-1" strike="noStrike">
                <a:solidFill>
                  <a:srgbClr val="ffff00"/>
                </a:solidFill>
                <a:latin typeface="Franklin Gothic Medium"/>
              </a:rPr>
              <a:t>ELEMENTOS DE LOS ESTADOS FINANCIEROS:</a:t>
            </a:r>
            <a:endParaRPr b="0" lang="en-US" sz="2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1" name="9 Marcador de contenido" descr=""/>
          <p:cNvPicPr/>
          <p:nvPr/>
        </p:nvPicPr>
        <p:blipFill>
          <a:blip r:embed="rId2"/>
          <a:stretch/>
        </p:blipFill>
        <p:spPr>
          <a:xfrm>
            <a:off x="596880" y="1158840"/>
            <a:ext cx="8613720" cy="5016600"/>
          </a:xfrm>
          <a:prstGeom prst="rect">
            <a:avLst/>
          </a:prstGeom>
          <a:ln w="0">
            <a:noFill/>
          </a:ln>
        </p:spPr>
      </p:pic>
      <p:sp>
        <p:nvSpPr>
          <p:cNvPr id="312" name="6 Rectángulo"/>
          <p:cNvSpPr/>
          <p:nvPr/>
        </p:nvSpPr>
        <p:spPr>
          <a:xfrm rot="16200000">
            <a:off x="-1846080" y="3365280"/>
            <a:ext cx="4518000" cy="368280"/>
          </a:xfrm>
          <a:prstGeom prst="rect">
            <a:avLst/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0"/>
          </a:gradFill>
          <a:ln w="9360">
            <a:solidFill>
              <a:srgbClr val="03a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ranklin Gothic Book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7 Título"/>
          <p:cNvGrpSpPr/>
          <p:nvPr/>
        </p:nvGrpSpPr>
        <p:grpSpPr>
          <a:xfrm>
            <a:off x="596880" y="566640"/>
            <a:ext cx="7967520" cy="1079640"/>
            <a:chOff x="596880" y="566640"/>
            <a:chExt cx="7967520" cy="1079640"/>
          </a:xfrm>
        </p:grpSpPr>
        <p:pic>
          <p:nvPicPr>
            <p:cNvPr id="227" name="7 Título" descr=""/>
            <p:cNvPicPr/>
            <p:nvPr/>
          </p:nvPicPr>
          <p:blipFill>
            <a:blip r:embed="rId1"/>
            <a:stretch/>
          </p:blipFill>
          <p:spPr>
            <a:xfrm>
              <a:off x="596880" y="566640"/>
              <a:ext cx="79675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55560" y="658800"/>
              <a:ext cx="78454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Franklin Gothic Medium"/>
                </a:rPr>
                <a:t>PROCESOS ESPECIALE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9" name="8 Marcador de contenido"/>
          <p:cNvGrpSpPr/>
          <p:nvPr/>
        </p:nvGrpSpPr>
        <p:grpSpPr>
          <a:xfrm>
            <a:off x="633240" y="1494000"/>
            <a:ext cx="8114040" cy="3363840"/>
            <a:chOff x="633240" y="1494000"/>
            <a:chExt cx="8114040" cy="3363840"/>
          </a:xfrm>
        </p:grpSpPr>
        <p:pic>
          <p:nvPicPr>
            <p:cNvPr id="230" name="8 Marcador de contenido" descr=""/>
            <p:cNvPicPr/>
            <p:nvPr/>
          </p:nvPicPr>
          <p:blipFill>
            <a:blip r:embed="rId2"/>
            <a:stretch/>
          </p:blipFill>
          <p:spPr>
            <a:xfrm>
              <a:off x="633240" y="1494000"/>
              <a:ext cx="811404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42960" y="1500120"/>
              <a:ext cx="8101080" cy="33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Fraudes y Abusos de Confianza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Problemas de valoración de activ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Negociación de Contratos y controles a los contrat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Reglamentación gubernamental , principalmente tributaria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Concordatos, Liquidación y quiebra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Peritazg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Informes Especiale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2" name="4 Rectángulo"/>
          <p:cNvSpPr/>
          <p:nvPr/>
        </p:nvSpPr>
        <p:spPr>
          <a:xfrm>
            <a:off x="129528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7 Rectángulo"/>
          <p:cNvSpPr/>
          <p:nvPr/>
        </p:nvSpPr>
        <p:spPr>
          <a:xfrm rot="16200000">
            <a:off x="-2732040" y="3189240"/>
            <a:ext cx="613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uditor como apoyo técnico al Frau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12" descr="https://encrypted-tbn3.gstatic.com/images?q=tbn:ANd9GcTEwPW1STsUQtdflxT89njj_UCS3HOI0CEgTUFMZcJJDqkyeMB0iA"/>
          <p:cNvPicPr/>
          <p:nvPr/>
        </p:nvPicPr>
        <p:blipFill>
          <a:blip r:embed="rId10"/>
          <a:stretch/>
        </p:blipFill>
        <p:spPr>
          <a:xfrm>
            <a:off x="7272360" y="4863960"/>
            <a:ext cx="1871640" cy="199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52120" y="1828440"/>
            <a:ext cx="6916680" cy="6858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300" spc="-1" strike="noStrike">
                <a:solidFill>
                  <a:srgbClr val="ffff00"/>
                </a:solidFill>
                <a:latin typeface="Franklin Gothic Medium"/>
              </a:rPr>
              <a:t>CASOS PRÁCTICOS</a:t>
            </a:r>
            <a:r>
              <a:rPr b="1" lang="es-ES_tradnl" sz="4900" spc="-1" strike="noStrike">
                <a:solidFill>
                  <a:srgbClr val="ffff00"/>
                </a:solidFill>
                <a:latin typeface="Franklin Gothic Medium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4" name="Picture 7" descr="el-mundo-sin-fronteras"/>
          <p:cNvPicPr/>
          <p:nvPr/>
        </p:nvPicPr>
        <p:blipFill>
          <a:blip r:embed="rId1"/>
          <a:stretch/>
        </p:blipFill>
        <p:spPr>
          <a:xfrm>
            <a:off x="2666880" y="3429000"/>
            <a:ext cx="3672000" cy="1846440"/>
          </a:xfrm>
          <a:prstGeom prst="rect">
            <a:avLst/>
          </a:prstGeom>
          <a:ln w="0">
            <a:noFill/>
          </a:ln>
        </p:spPr>
      </p:pic>
      <p:sp>
        <p:nvSpPr>
          <p:cNvPr id="315" name="7 Rectángulo"/>
          <p:cNvSpPr/>
          <p:nvPr/>
        </p:nvSpPr>
        <p:spPr>
          <a:xfrm rot="16200000">
            <a:off x="-1801800" y="3521520"/>
            <a:ext cx="4518000" cy="368280"/>
          </a:xfrm>
          <a:prstGeom prst="rect">
            <a:avLst/>
          </a:prstGeom>
          <a:gradFill rotWithShape="0">
            <a:gsLst>
              <a:gs pos="0">
                <a:srgbClr val="ff9d7d"/>
              </a:gs>
              <a:gs pos="100000">
                <a:srgbClr val="ffe1d9"/>
              </a:gs>
            </a:gsLst>
            <a:lin ang="0"/>
          </a:gra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ranklin Gothic Book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9 Rectángulo"/>
          <p:cNvGrpSpPr/>
          <p:nvPr/>
        </p:nvGrpSpPr>
        <p:grpSpPr>
          <a:xfrm>
            <a:off x="682560" y="2925720"/>
            <a:ext cx="9058320" cy="3346560"/>
            <a:chOff x="682560" y="2925720"/>
            <a:chExt cx="9058320" cy="3346560"/>
          </a:xfrm>
        </p:grpSpPr>
        <p:pic>
          <p:nvPicPr>
            <p:cNvPr id="317" name="9 Rectángulo" descr=""/>
            <p:cNvPicPr/>
            <p:nvPr/>
          </p:nvPicPr>
          <p:blipFill>
            <a:blip r:embed="rId1"/>
            <a:stretch/>
          </p:blipFill>
          <p:spPr>
            <a:xfrm>
              <a:off x="682560" y="2925720"/>
              <a:ext cx="9058320" cy="33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787320" y="2955960"/>
              <a:ext cx="7670880" cy="32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85840" indent="-285840" algn="just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Franklin Gothic Book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La comprensión de la realidad económica o financiera de la entidad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Por ejemplo: la separación de los pasivos y patrimonio neto de los activos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la clasificación de activos y pasivos en corrientes y no corriente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Permite la correcta elaboración de índices financiero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La presentación del resultado económico agrupando los ingresos y los gasto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285840" indent="-285840" algn="just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Franklin Gothic Book"/>
                </a:rPr>
                <a:t>La generación de flujos de efectivo en actividades de operación, inversión y  financiamiento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10 Rectángulo"/>
          <p:cNvGrpSpPr/>
          <p:nvPr/>
        </p:nvGrpSpPr>
        <p:grpSpPr>
          <a:xfrm>
            <a:off x="658800" y="2182680"/>
            <a:ext cx="8107200" cy="663840"/>
            <a:chOff x="658800" y="2182680"/>
            <a:chExt cx="8107200" cy="663840"/>
          </a:xfrm>
        </p:grpSpPr>
        <p:pic>
          <p:nvPicPr>
            <p:cNvPr id="320" name="10 Rectángulo" descr=""/>
            <p:cNvPicPr/>
            <p:nvPr/>
          </p:nvPicPr>
          <p:blipFill>
            <a:blip r:embed="rId2"/>
            <a:stretch/>
          </p:blipFill>
          <p:spPr>
            <a:xfrm>
              <a:off x="658800" y="2182680"/>
              <a:ext cx="810720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762120" y="2209680"/>
              <a:ext cx="7696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457200" algn="ctr">
                <a:lnSpc>
                  <a:spcPct val="100000"/>
                </a:lnSpc>
                <a:buClr>
                  <a:srgbClr val="cdd7d9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dd7d9"/>
                  </a:solidFill>
                  <a:latin typeface="Calibri"/>
                  <a:ea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¿Qué utilidad tiene para los usuarios la información relativa a la estructura financiera?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2" name="7 Título"/>
          <p:cNvGrpSpPr/>
          <p:nvPr/>
        </p:nvGrpSpPr>
        <p:grpSpPr>
          <a:xfrm>
            <a:off x="798480" y="633240"/>
            <a:ext cx="7662960" cy="1543320"/>
            <a:chOff x="798480" y="633240"/>
            <a:chExt cx="7662960" cy="1543320"/>
          </a:xfrm>
        </p:grpSpPr>
        <p:pic>
          <p:nvPicPr>
            <p:cNvPr id="323" name="7 Título" descr=""/>
            <p:cNvPicPr/>
            <p:nvPr/>
          </p:nvPicPr>
          <p:blipFill>
            <a:blip r:embed="rId3"/>
            <a:stretch/>
          </p:blipFill>
          <p:spPr>
            <a:xfrm>
              <a:off x="798480" y="633240"/>
              <a:ext cx="7662960" cy="15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857160" y="714240"/>
              <a:ext cx="75438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500" spc="-1" strike="noStrike">
                  <a:solidFill>
                    <a:srgbClr val="ffffff"/>
                  </a:solidFill>
                  <a:latin typeface="Franklin Gothic Medium"/>
                </a:rPr>
                <a:t>ACTIVIDAD 1: </a:t>
              </a:r>
              <a:br>
                <a:rPr sz="2500"/>
              </a:br>
              <a:r>
                <a:rPr b="1" lang="es-ES_tradnl" sz="2500" spc="-1" strike="noStrike">
                  <a:solidFill>
                    <a:srgbClr val="ffffff"/>
                  </a:solidFill>
                  <a:latin typeface="Franklin Gothic Medium"/>
                </a:rPr>
                <a:t>RESPONDA LAS SIGUIENTES PREGUNTAS SOBRE</a:t>
              </a:r>
              <a:br>
                <a:rPr sz="2500"/>
              </a:br>
              <a:r>
                <a:rPr b="1" lang="es-ES_tradnl" sz="2500" spc="-1" strike="noStrike">
                  <a:solidFill>
                    <a:srgbClr val="ffffff"/>
                  </a:solidFill>
                  <a:latin typeface="Franklin Gothic Medium"/>
                </a:rPr>
                <a:t>ESTRUCTURA DE LA INFORMACIÓN</a:t>
              </a:r>
              <a:r>
                <a:rPr b="1" lang="es-ES" sz="2500" spc="-1" strike="noStrike">
                  <a:solidFill>
                    <a:srgbClr val="ffffff"/>
                  </a:solidFill>
                  <a:latin typeface="Franklin Gothic Medium"/>
                </a:rPr>
                <a:t> FINANCIERA</a:t>
              </a:r>
              <a:r>
                <a:rPr b="1" lang="es-ES" sz="2500" spc="-1" strike="noStrike">
                  <a:solidFill>
                    <a:srgbClr val="ffff00"/>
                  </a:solidFill>
                  <a:latin typeface="Franklin Gothic Medium"/>
                </a:rPr>
                <a:t>.</a:t>
              </a:r>
              <a:r>
                <a:rPr b="0" lang="es-ES" sz="2500" spc="-1" strike="noStrike">
                  <a:solidFill>
                    <a:srgbClr val="ffff00"/>
                  </a:solidFill>
                  <a:latin typeface="Franklin Gothic Medium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6 Rectángulo"/>
          <p:cNvSpPr/>
          <p:nvPr/>
        </p:nvSpPr>
        <p:spPr>
          <a:xfrm rot="16200000">
            <a:off x="-1846080" y="3197160"/>
            <a:ext cx="451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1760" y="1066680"/>
            <a:ext cx="7924680" cy="18288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Franklin Gothic Medium"/>
              </a:rPr>
              <a:t>ACTIVIDAD 2: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Franklin Gothic Medium"/>
              </a:rPr>
              <a:t>CONCEPTOS Y PRINCIPIOS GENERALES</a:t>
            </a:r>
            <a:br>
              <a:rPr sz="2800"/>
            </a:br>
            <a:r>
              <a:rPr b="1" lang="es-ES_tradnl" sz="2400" spc="-1" strike="noStrike">
                <a:solidFill>
                  <a:srgbClr val="ffffff"/>
                </a:solidFill>
                <a:latin typeface="Franklin Gothic Medium"/>
              </a:rPr>
              <a:t>CARACTERÍSTICAS CUALITATIVAS DE LA INFORMACIÓN EN LOS ESTADOS FINANCIEROS</a:t>
            </a:r>
            <a:r>
              <a:rPr b="0" lang="es-ES" sz="24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327" name="5 Rectángulo redondeado"/>
          <p:cNvGrpSpPr/>
          <p:nvPr/>
        </p:nvGrpSpPr>
        <p:grpSpPr>
          <a:xfrm>
            <a:off x="811080" y="3402000"/>
            <a:ext cx="8429760" cy="2035080"/>
            <a:chOff x="811080" y="3402000"/>
            <a:chExt cx="8429760" cy="2035080"/>
          </a:xfrm>
        </p:grpSpPr>
        <p:pic>
          <p:nvPicPr>
            <p:cNvPr id="328" name="5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811080" y="3402000"/>
              <a:ext cx="842976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932040" y="3522600"/>
              <a:ext cx="7508520" cy="17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Franklin Gothic Book"/>
                </a:rPr>
                <a:t>¿Qué características se afectan cuando se refleja la siguiente información en los Estados Financieros?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" name="6 Rectángulo"/>
          <p:cNvSpPr/>
          <p:nvPr/>
        </p:nvSpPr>
        <p:spPr>
          <a:xfrm rot="16200000">
            <a:off x="-1846080" y="3501720"/>
            <a:ext cx="451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9 Rectángulo"/>
          <p:cNvGrpSpPr/>
          <p:nvPr/>
        </p:nvGrpSpPr>
        <p:grpSpPr>
          <a:xfrm>
            <a:off x="579600" y="1036800"/>
            <a:ext cx="8442000" cy="669600"/>
            <a:chOff x="579600" y="1036800"/>
            <a:chExt cx="8442000" cy="669600"/>
          </a:xfrm>
        </p:grpSpPr>
        <p:pic>
          <p:nvPicPr>
            <p:cNvPr id="332" name="9 Rectángulo" descr=""/>
            <p:cNvPicPr/>
            <p:nvPr/>
          </p:nvPicPr>
          <p:blipFill>
            <a:blip r:embed="rId1"/>
            <a:stretch/>
          </p:blipFill>
          <p:spPr>
            <a:xfrm>
              <a:off x="579600" y="1036800"/>
              <a:ext cx="8442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609480" y="1066680"/>
              <a:ext cx="8382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Información sobre la venta de un activo, donde la entidad sigue disfrutando de los beneficios del mismo. 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4" name="10 Rectángulo"/>
          <p:cNvGrpSpPr/>
          <p:nvPr/>
        </p:nvGrpSpPr>
        <p:grpSpPr>
          <a:xfrm>
            <a:off x="579600" y="1725480"/>
            <a:ext cx="8442000" cy="1730520"/>
            <a:chOff x="579600" y="1725480"/>
            <a:chExt cx="8442000" cy="1730520"/>
          </a:xfrm>
        </p:grpSpPr>
        <p:pic>
          <p:nvPicPr>
            <p:cNvPr id="335" name="10 Rectángulo" descr=""/>
            <p:cNvPicPr/>
            <p:nvPr/>
          </p:nvPicPr>
          <p:blipFill>
            <a:blip r:embed="rId2"/>
            <a:stretch/>
          </p:blipFill>
          <p:spPr>
            <a:xfrm>
              <a:off x="579600" y="1725480"/>
              <a:ext cx="844200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609480" y="1752480"/>
              <a:ext cx="83822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000000"/>
                  </a:solidFill>
                  <a:latin typeface="Franklin Gothic Book"/>
                </a:rPr>
                <a:t>Esencia sobre la Forma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37" name="11 Rectángulo"/>
          <p:cNvGrpSpPr/>
          <p:nvPr/>
        </p:nvGrpSpPr>
        <p:grpSpPr>
          <a:xfrm>
            <a:off x="579600" y="3475080"/>
            <a:ext cx="8442000" cy="743040"/>
            <a:chOff x="579600" y="3475080"/>
            <a:chExt cx="8442000" cy="743040"/>
          </a:xfrm>
        </p:grpSpPr>
        <p:pic>
          <p:nvPicPr>
            <p:cNvPr id="338" name="11 Rectángulo" descr=""/>
            <p:cNvPicPr/>
            <p:nvPr/>
          </p:nvPicPr>
          <p:blipFill>
            <a:blip r:embed="rId3"/>
            <a:stretch/>
          </p:blipFill>
          <p:spPr>
            <a:xfrm>
              <a:off x="579600" y="3475080"/>
              <a:ext cx="844200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609480" y="3505320"/>
              <a:ext cx="83822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dd7d9"/>
                  </a:solidFill>
                  <a:latin typeface="Calibri"/>
                </a:rPr>
                <a:t>No se reflejan los métodos de valoración de los elementos de los estados financieros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0" name="12 Rectángulo"/>
          <p:cNvGrpSpPr/>
          <p:nvPr/>
        </p:nvGrpSpPr>
        <p:grpSpPr>
          <a:xfrm>
            <a:off x="579600" y="4316400"/>
            <a:ext cx="8442000" cy="1730520"/>
            <a:chOff x="579600" y="4316400"/>
            <a:chExt cx="8442000" cy="1730520"/>
          </a:xfrm>
        </p:grpSpPr>
        <p:pic>
          <p:nvPicPr>
            <p:cNvPr id="341" name="12 Rectángulo" descr=""/>
            <p:cNvPicPr/>
            <p:nvPr/>
          </p:nvPicPr>
          <p:blipFill>
            <a:blip r:embed="rId4"/>
            <a:stretch/>
          </p:blipFill>
          <p:spPr>
            <a:xfrm>
              <a:off x="579600" y="4316400"/>
              <a:ext cx="844200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09480" y="4343400"/>
              <a:ext cx="838224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800" spc="-1" strike="noStrike">
                  <a:solidFill>
                    <a:srgbClr val="000000"/>
                  </a:solidFill>
                  <a:latin typeface="Franklin Gothic Book"/>
                </a:rPr>
                <a:t>Integridad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3" name="7 Rectángulo"/>
          <p:cNvSpPr/>
          <p:nvPr/>
        </p:nvSpPr>
        <p:spPr>
          <a:xfrm rot="16200000">
            <a:off x="-1863720" y="359064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7 Rectángulo"/>
          <p:cNvGrpSpPr/>
          <p:nvPr/>
        </p:nvGrpSpPr>
        <p:grpSpPr>
          <a:xfrm>
            <a:off x="506520" y="884160"/>
            <a:ext cx="8435880" cy="669960"/>
            <a:chOff x="506520" y="884160"/>
            <a:chExt cx="8435880" cy="669960"/>
          </a:xfrm>
        </p:grpSpPr>
        <p:pic>
          <p:nvPicPr>
            <p:cNvPr id="345" name="7 Rectángulo" descr=""/>
            <p:cNvPicPr/>
            <p:nvPr/>
          </p:nvPicPr>
          <p:blipFill>
            <a:blip r:embed="rId1"/>
            <a:stretch/>
          </p:blipFill>
          <p:spPr>
            <a:xfrm>
              <a:off x="506520" y="884160"/>
              <a:ext cx="84358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33520" y="91440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dd7d9"/>
                  </a:solidFill>
                  <a:latin typeface="Calibri"/>
                </a:rPr>
                <a:t>Cambios en políticas contables de un período a otro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8 Rectángulo"/>
          <p:cNvGrpSpPr/>
          <p:nvPr/>
        </p:nvGrpSpPr>
        <p:grpSpPr>
          <a:xfrm>
            <a:off x="506520" y="1573200"/>
            <a:ext cx="8435880" cy="1730520"/>
            <a:chOff x="506520" y="1573200"/>
            <a:chExt cx="8435880" cy="1730520"/>
          </a:xfrm>
        </p:grpSpPr>
        <p:pic>
          <p:nvPicPr>
            <p:cNvPr id="348" name="8 Rectángulo" descr=""/>
            <p:cNvPicPr/>
            <p:nvPr/>
          </p:nvPicPr>
          <p:blipFill>
            <a:blip r:embed="rId2"/>
            <a:stretch/>
          </p:blipFill>
          <p:spPr>
            <a:xfrm>
              <a:off x="506520" y="1573200"/>
              <a:ext cx="8435880" cy="17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533520" y="1600200"/>
              <a:ext cx="83818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800" spc="-1" strike="noStrike">
                  <a:solidFill>
                    <a:srgbClr val="000000"/>
                  </a:solidFill>
                  <a:latin typeface="Franklin Gothic Book"/>
                </a:rPr>
                <a:t>Comparabilidad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0" name="9 Rectángulo"/>
          <p:cNvGrpSpPr/>
          <p:nvPr/>
        </p:nvGrpSpPr>
        <p:grpSpPr>
          <a:xfrm>
            <a:off x="506520" y="3554280"/>
            <a:ext cx="8435880" cy="663840"/>
            <a:chOff x="506520" y="3554280"/>
            <a:chExt cx="8435880" cy="663840"/>
          </a:xfrm>
        </p:grpSpPr>
        <p:pic>
          <p:nvPicPr>
            <p:cNvPr id="351" name="9 Rectángulo" descr=""/>
            <p:cNvPicPr/>
            <p:nvPr/>
          </p:nvPicPr>
          <p:blipFill>
            <a:blip r:embed="rId3"/>
            <a:stretch/>
          </p:blipFill>
          <p:spPr>
            <a:xfrm>
              <a:off x="506520" y="3554280"/>
              <a:ext cx="8435880" cy="6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33520" y="3581280"/>
              <a:ext cx="83818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dd7d9"/>
                  </a:solidFill>
                  <a:latin typeface="Calibri"/>
                </a:rPr>
                <a:t>Presentación anticipada de la información sobre un litigio aún sin resolver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10 Rectángulo"/>
          <p:cNvGrpSpPr/>
          <p:nvPr/>
        </p:nvGrpSpPr>
        <p:grpSpPr>
          <a:xfrm>
            <a:off x="506520" y="4237200"/>
            <a:ext cx="8435880" cy="1736640"/>
            <a:chOff x="506520" y="4237200"/>
            <a:chExt cx="8435880" cy="1736640"/>
          </a:xfrm>
        </p:grpSpPr>
        <p:pic>
          <p:nvPicPr>
            <p:cNvPr id="354" name="10 Rectángulo" descr=""/>
            <p:cNvPicPr/>
            <p:nvPr/>
          </p:nvPicPr>
          <p:blipFill>
            <a:blip r:embed="rId4"/>
            <a:stretch/>
          </p:blipFill>
          <p:spPr>
            <a:xfrm>
              <a:off x="506520" y="4237200"/>
              <a:ext cx="8435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33520" y="4267080"/>
              <a:ext cx="83818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6000" spc="-1" strike="noStrike">
                  <a:solidFill>
                    <a:srgbClr val="000000"/>
                  </a:solidFill>
                  <a:latin typeface="Franklin Gothic Book"/>
                </a:rPr>
                <a:t>Prudencia</a:t>
              </a: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6" name="11 Rectángulo"/>
          <p:cNvSpPr/>
          <p:nvPr/>
        </p:nvSpPr>
        <p:spPr>
          <a:xfrm rot="16200000">
            <a:off x="-1927080" y="304452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7 Rectángulo"/>
          <p:cNvGrpSpPr/>
          <p:nvPr/>
        </p:nvGrpSpPr>
        <p:grpSpPr>
          <a:xfrm>
            <a:off x="506520" y="884160"/>
            <a:ext cx="8435880" cy="743040"/>
            <a:chOff x="506520" y="884160"/>
            <a:chExt cx="8435880" cy="743040"/>
          </a:xfrm>
        </p:grpSpPr>
        <p:pic>
          <p:nvPicPr>
            <p:cNvPr id="358" name="7 Rectángulo" descr=""/>
            <p:cNvPicPr/>
            <p:nvPr/>
          </p:nvPicPr>
          <p:blipFill>
            <a:blip r:embed="rId1"/>
            <a:stretch/>
          </p:blipFill>
          <p:spPr>
            <a:xfrm>
              <a:off x="506520" y="884160"/>
              <a:ext cx="843588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33520" y="914400"/>
              <a:ext cx="83818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dd7d9"/>
                  </a:solidFill>
                  <a:latin typeface="Calibri"/>
                </a:rPr>
                <a:t>Cuando la información está libre de errores materiales y de sesgos o prejuicios y los usuarios pueden confiar  que es la imagen fiel de lo que se pretende representar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0" name="8 Rectángulo"/>
          <p:cNvGrpSpPr/>
          <p:nvPr/>
        </p:nvGrpSpPr>
        <p:grpSpPr>
          <a:xfrm>
            <a:off x="506520" y="1646280"/>
            <a:ext cx="8435880" cy="1736640"/>
            <a:chOff x="506520" y="1646280"/>
            <a:chExt cx="8435880" cy="1736640"/>
          </a:xfrm>
        </p:grpSpPr>
        <p:pic>
          <p:nvPicPr>
            <p:cNvPr id="361" name="8 Rectángulo" descr=""/>
            <p:cNvPicPr/>
            <p:nvPr/>
          </p:nvPicPr>
          <p:blipFill>
            <a:blip r:embed="rId2"/>
            <a:stretch/>
          </p:blipFill>
          <p:spPr>
            <a:xfrm>
              <a:off x="506520" y="1646280"/>
              <a:ext cx="8435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533520" y="1676520"/>
              <a:ext cx="838188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400" spc="-1" strike="noStrike">
                  <a:solidFill>
                    <a:srgbClr val="000000"/>
                  </a:solidFill>
                  <a:latin typeface="Franklin Gothic Book"/>
                </a:rPr>
                <a:t>Fiabilidad</a:t>
              </a:r>
              <a:endParaRPr b="0" lang="en-US" sz="5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3" name="9 Rectángulo"/>
          <p:cNvGrpSpPr/>
          <p:nvPr/>
        </p:nvGrpSpPr>
        <p:grpSpPr>
          <a:xfrm>
            <a:off x="506520" y="3475080"/>
            <a:ext cx="8435880" cy="669960"/>
            <a:chOff x="506520" y="3475080"/>
            <a:chExt cx="8435880" cy="669960"/>
          </a:xfrm>
        </p:grpSpPr>
        <p:pic>
          <p:nvPicPr>
            <p:cNvPr id="364" name="9 Rectángulo" descr=""/>
            <p:cNvPicPr/>
            <p:nvPr/>
          </p:nvPicPr>
          <p:blipFill>
            <a:blip r:embed="rId3"/>
            <a:stretch/>
          </p:blipFill>
          <p:spPr>
            <a:xfrm>
              <a:off x="506520" y="3475080"/>
              <a:ext cx="843588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533520" y="3505320"/>
              <a:ext cx="8381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alibri"/>
                </a:rPr>
                <a:t>La obtención de la información está sujeta a costos excesivo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6" name="10 Rectángulo"/>
          <p:cNvGrpSpPr/>
          <p:nvPr/>
        </p:nvGrpSpPr>
        <p:grpSpPr>
          <a:xfrm>
            <a:off x="506520" y="4237200"/>
            <a:ext cx="8435880" cy="1736640"/>
            <a:chOff x="506520" y="4237200"/>
            <a:chExt cx="8435880" cy="1736640"/>
          </a:xfrm>
        </p:grpSpPr>
        <p:pic>
          <p:nvPicPr>
            <p:cNvPr id="367" name="10 Rectángulo" descr=""/>
            <p:cNvPicPr/>
            <p:nvPr/>
          </p:nvPicPr>
          <p:blipFill>
            <a:blip r:embed="rId4"/>
            <a:stretch/>
          </p:blipFill>
          <p:spPr>
            <a:xfrm>
              <a:off x="506520" y="4237200"/>
              <a:ext cx="8435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533520" y="4267080"/>
              <a:ext cx="838188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4000" spc="-1" strike="noStrike">
                  <a:solidFill>
                    <a:srgbClr val="ffffff"/>
                  </a:solidFill>
                  <a:latin typeface="Franklin Gothic Book"/>
                </a:rPr>
                <a:t>Equilibrio entre Costo y Beneficio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9" name="11 Rectángulo"/>
          <p:cNvSpPr/>
          <p:nvPr/>
        </p:nvSpPr>
        <p:spPr>
          <a:xfrm rot="16200000">
            <a:off x="-1923840" y="312408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1760" y="1523880"/>
            <a:ext cx="8001000" cy="236232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s-AR" sz="3600" spc="-1" strike="noStrike">
                <a:solidFill>
                  <a:srgbClr val="ffff00"/>
                </a:solidFill>
                <a:latin typeface="Franklin Gothic Medium"/>
              </a:rPr>
              <a:t>ACTIVIDAD 3:</a:t>
            </a:r>
            <a:br>
              <a:rPr sz="3600"/>
            </a:br>
            <a:r>
              <a:rPr b="1" lang="es-AR" sz="3600" spc="-1" strike="noStrike">
                <a:solidFill>
                  <a:srgbClr val="ffff00"/>
                </a:solidFill>
                <a:latin typeface="Franklin Gothic Medium"/>
              </a:rPr>
              <a:t> EJERCICIO 1 </a:t>
            </a:r>
            <a:br>
              <a:rPr sz="3600"/>
            </a:br>
            <a:r>
              <a:rPr b="1" lang="es-AR" sz="3600" spc="-1" strike="noStrike">
                <a:solidFill>
                  <a:srgbClr val="ffff00"/>
                </a:solidFill>
                <a:latin typeface="Franklin Gothic Medium"/>
              </a:rPr>
              <a:t>MARCO CONCEPTUAL DE LA</a:t>
            </a:r>
            <a:br>
              <a:rPr sz="3600"/>
            </a:br>
            <a:r>
              <a:rPr b="1" lang="es-AR" sz="3600" spc="-1" strike="noStrike">
                <a:solidFill>
                  <a:srgbClr val="ffff00"/>
                </a:solidFill>
                <a:latin typeface="Franklin Gothic Medium"/>
              </a:rPr>
              <a:t> NIIF – PYME.</a:t>
            </a:r>
            <a:br>
              <a:rPr sz="43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5 Rectángulo"/>
          <p:cNvSpPr/>
          <p:nvPr/>
        </p:nvSpPr>
        <p:spPr>
          <a:xfrm rot="16200000">
            <a:off x="-1846080" y="296856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7 Rectángulo"/>
          <p:cNvGrpSpPr/>
          <p:nvPr/>
        </p:nvGrpSpPr>
        <p:grpSpPr>
          <a:xfrm>
            <a:off x="944640" y="1706400"/>
            <a:ext cx="7407360" cy="4432320"/>
            <a:chOff x="944640" y="1706400"/>
            <a:chExt cx="7407360" cy="4432320"/>
          </a:xfrm>
        </p:grpSpPr>
        <p:pic>
          <p:nvPicPr>
            <p:cNvPr id="373" name="7 Rectángulo" descr=""/>
            <p:cNvPicPr/>
            <p:nvPr/>
          </p:nvPicPr>
          <p:blipFill>
            <a:blip r:embed="rId1"/>
            <a:stretch/>
          </p:blipFill>
          <p:spPr>
            <a:xfrm>
              <a:off x="944640" y="1706400"/>
              <a:ext cx="7407360" cy="44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990720" y="1752480"/>
              <a:ext cx="73152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90720" y="674640"/>
            <a:ext cx="7315200" cy="8352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es-AR" sz="1800" spc="-1" strike="noStrike">
                <a:solidFill>
                  <a:srgbClr val="ffff00"/>
                </a:solidFill>
                <a:latin typeface="Franklin Gothic Medium"/>
              </a:rPr>
              <a:t>ACTIVIDAD 3, EJERCICIO 1: MARCO CONCEPTUAL DE LA NIIF - PYM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376" name="1 CuadroTexto"/>
          <p:cNvGrpSpPr/>
          <p:nvPr/>
        </p:nvGrpSpPr>
        <p:grpSpPr>
          <a:xfrm>
            <a:off x="1109520" y="1871640"/>
            <a:ext cx="7077240" cy="4029120"/>
            <a:chOff x="1109520" y="1871640"/>
            <a:chExt cx="7077240" cy="4029120"/>
          </a:xfrm>
        </p:grpSpPr>
        <p:pic>
          <p:nvPicPr>
            <p:cNvPr id="377" name="1 CuadroTexto" descr=""/>
            <p:cNvPicPr/>
            <p:nvPr/>
          </p:nvPicPr>
          <p:blipFill>
            <a:blip r:embed="rId2"/>
            <a:stretch/>
          </p:blipFill>
          <p:spPr>
            <a:xfrm>
              <a:off x="1109520" y="1871640"/>
              <a:ext cx="7077240" cy="40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143000" y="1905120"/>
              <a:ext cx="7010280" cy="39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0" tIns="3672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Franklin Gothic Medium"/>
                </a:rPr>
                <a:t>COSTO HISTÓRICO DE UN ACTIVO</a:t>
              </a:r>
              <a:r>
                <a:rPr b="0" lang="es-ES" sz="1800" spc="-1" strike="noStrike">
                  <a:solidFill>
                    <a:srgbClr val="000000"/>
                  </a:solidFill>
                  <a:latin typeface="Franklin Gothic Medium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La empresa </a:t>
              </a:r>
              <a:r>
                <a:rPr b="1" lang="es-ES" sz="1800" spc="-1" strike="noStrike">
                  <a:solidFill>
                    <a:srgbClr val="0d0d0d"/>
                  </a:solidFill>
                  <a:latin typeface="Franklin Gothic Medium"/>
                </a:rPr>
                <a:t>"NIIF - PYME, C. A."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 adquirió un galpón para usarlo como depósito por  </a:t>
              </a:r>
              <a:r>
                <a:rPr b="1" lang="es-ES" sz="1800" spc="-1" strike="noStrike">
                  <a:solidFill>
                    <a:srgbClr val="0d0d0d"/>
                  </a:solidFill>
                  <a:latin typeface="Franklin Gothic Medium"/>
                </a:rPr>
                <a:t>US$ 1.000.000.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 En el momento de la adquisición incurrió en los siguientes gastos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-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Honorarios y registros = 2.50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-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Sustitución de paredes = 50.00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-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Gastos de administración =  1.00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Las paredes sustituidas se encontraban totalmente deterioradas y eran necesarias para poner el activo en funcionamiento</a:t>
              </a:r>
              <a:r>
                <a:rPr b="0" lang="es-ES" sz="1800" spc="-1" strike="noStrike">
                  <a:solidFill>
                    <a:srgbClr val="0d0d0d"/>
                  </a:solidFill>
                  <a:latin typeface="Franklin Gothic Medium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9" name="8 Rectángulo"/>
          <p:cNvSpPr/>
          <p:nvPr/>
        </p:nvSpPr>
        <p:spPr>
          <a:xfrm rot="16200000">
            <a:off x="-1846080" y="3120840"/>
            <a:ext cx="4518000" cy="3682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5 Rectángulo"/>
          <p:cNvSpPr/>
          <p:nvPr/>
        </p:nvSpPr>
        <p:spPr>
          <a:xfrm>
            <a:off x="762120" y="106668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Franklin Gothic Medium"/>
              </a:rPr>
              <a:t>Cálculos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Franklin Gothic Medium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Franklin Gothic Medium"/>
              </a:rPr>
              <a:t>La empresa procederá en el momento de la compra a realizar lo siguiente</a:t>
            </a:r>
            <a:r>
              <a:rPr b="0" lang="es-ES" sz="2000" spc="-1" strike="noStrike">
                <a:solidFill>
                  <a:srgbClr val="000000"/>
                </a:solidFill>
                <a:latin typeface="Franklin Gothic Medium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219320" y="2362320"/>
          <a:ext cx="6933960" cy="1371600"/>
        </p:xfrm>
        <a:graphic>
          <a:graphicData uri="http://schemas.openxmlformats.org/drawingml/2006/table">
            <a:tbl>
              <a:tblPr/>
              <a:tblGrid>
                <a:gridCol w="1224000"/>
                <a:gridCol w="990360"/>
                <a:gridCol w="1224000"/>
                <a:gridCol w="988920"/>
                <a:gridCol w="989280"/>
                <a:gridCol w="1517400"/>
              </a:tblGrid>
              <a:tr h="274680"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ecio Pagad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.000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90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Gastos de honorarios y regist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.500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Sustitución de pare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0.000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Total Costo Histó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.052.5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4 CuadroTexto"/>
          <p:cNvSpPr/>
          <p:nvPr/>
        </p:nvSpPr>
        <p:spPr>
          <a:xfrm>
            <a:off x="1371600" y="3733920"/>
            <a:ext cx="6858000" cy="2209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720" rIns="36720" tIns="32040" bIns="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Franklin Gothic Medium"/>
              </a:rPr>
              <a:t>Comentario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Franklin Gothic Medium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Franklin Gothic Medium"/>
              </a:rPr>
              <a:t>Forman parte del costo el precio pagado por la adquisición, más todos los costos directamente atribuibles a la adquisición del activo, igualmente aquellos costos necesarios para poner el activo en funcionamiento, en consecuencia los gastos de administración quedarían excluidos y se llevan a resultados del ejercicio</a:t>
            </a:r>
            <a:r>
              <a:rPr b="1" lang="es-ES" sz="18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8 Rectángulo"/>
          <p:cNvSpPr/>
          <p:nvPr/>
        </p:nvSpPr>
        <p:spPr>
          <a:xfrm rot="16200000">
            <a:off x="-1682640" y="327312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1676520" y="838080"/>
          <a:ext cx="5790960" cy="1428840"/>
        </p:xfrm>
        <a:graphic>
          <a:graphicData uri="http://schemas.openxmlformats.org/drawingml/2006/table">
            <a:tbl>
              <a:tblPr/>
              <a:tblGrid>
                <a:gridCol w="2958840"/>
                <a:gridCol w="638280"/>
                <a:gridCol w="1090800"/>
                <a:gridCol w="1103040"/>
              </a:tblGrid>
              <a:tr h="2383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/12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RESA NIIF - PYME, C.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ENTOS CONT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 VEZ ADOPTADA LA NIIF-PY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796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presados en US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1371600" y="2514600"/>
          <a:ext cx="7543800" cy="3086280"/>
        </p:xfrm>
        <a:graphic>
          <a:graphicData uri="http://schemas.openxmlformats.org/drawingml/2006/table">
            <a:tbl>
              <a:tblPr/>
              <a:tblGrid>
                <a:gridCol w="331920"/>
                <a:gridCol w="3684600"/>
                <a:gridCol w="793440"/>
                <a:gridCol w="1359000"/>
                <a:gridCol w="1374840"/>
              </a:tblGrid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P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.0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.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c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2.50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registrar adquisición de galp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 uso de depósito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7 Rectángulo"/>
          <p:cNvSpPr/>
          <p:nvPr/>
        </p:nvSpPr>
        <p:spPr>
          <a:xfrm rot="16200000">
            <a:off x="-1846080" y="3654360"/>
            <a:ext cx="45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033560"/>
            <a:ext cx="7772400" cy="4572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Franklin Gothic Medium"/>
              </a:rPr>
              <a:t>El Contador Publico: 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236" name="8 Marcador de contenido"/>
          <p:cNvGrpSpPr/>
          <p:nvPr/>
        </p:nvGrpSpPr>
        <p:grpSpPr>
          <a:xfrm>
            <a:off x="1060560" y="1749600"/>
            <a:ext cx="7785000" cy="3870000"/>
            <a:chOff x="1060560" y="1749600"/>
            <a:chExt cx="7785000" cy="3870000"/>
          </a:xfrm>
        </p:grpSpPr>
        <p:pic>
          <p:nvPicPr>
            <p:cNvPr id="237" name="8 Marcador de contenido" descr=""/>
            <p:cNvPicPr/>
            <p:nvPr/>
          </p:nvPicPr>
          <p:blipFill>
            <a:blip r:embed="rId1"/>
            <a:stretch/>
          </p:blipFill>
          <p:spPr>
            <a:xfrm>
              <a:off x="1060560" y="1749600"/>
              <a:ext cx="7785000" cy="38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1066680" y="1752480"/>
              <a:ext cx="777240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Debe de recordar la intención y propósito de la investigación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Tener la habilidad Técnica y razonamiento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La independencia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Imaginación e integridad distintas a nuestra profesión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0" y="5668920"/>
            <a:ext cx="1630440" cy="11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7696080" cy="419112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s-AR" sz="4000" spc="-1" strike="noStrike">
                <a:solidFill>
                  <a:srgbClr val="ffff00"/>
                </a:solidFill>
                <a:latin typeface="Franklin Gothic Medium"/>
              </a:rPr>
              <a:t>ACTIVIDAD 4:</a:t>
            </a:r>
            <a:br>
              <a:rPr sz="4000"/>
            </a:br>
            <a:r>
              <a:rPr b="1" lang="es-AR" sz="4000" spc="-1" strike="noStrike">
                <a:solidFill>
                  <a:srgbClr val="ffff00"/>
                </a:solidFill>
                <a:latin typeface="Franklin Gothic Medium"/>
              </a:rPr>
              <a:t>EJERCICIO 2</a:t>
            </a:r>
            <a:br>
              <a:rPr sz="4000"/>
            </a:br>
            <a:r>
              <a:rPr b="1" lang="es-AR" sz="4000" spc="-1" strike="noStrike">
                <a:solidFill>
                  <a:srgbClr val="ffff00"/>
                </a:solidFill>
                <a:latin typeface="Franklin Gothic Medium"/>
              </a:rPr>
              <a:t>MARCO CONCEPTUAL DE LA</a:t>
            </a:r>
            <a:br>
              <a:rPr sz="4000"/>
            </a:br>
            <a:r>
              <a:rPr b="1" lang="es-AR" sz="4000" spc="-1" strike="noStrike">
                <a:solidFill>
                  <a:srgbClr val="ffff00"/>
                </a:solidFill>
                <a:latin typeface="Franklin Gothic Medium"/>
              </a:rPr>
              <a:t>NIIF – PY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8" name="5 Rectángulo"/>
          <p:cNvSpPr/>
          <p:nvPr/>
        </p:nvSpPr>
        <p:spPr>
          <a:xfrm rot="16200000">
            <a:off x="-1693800" y="3349440"/>
            <a:ext cx="4518000" cy="368280"/>
          </a:xfrm>
          <a:prstGeom prst="rect">
            <a:avLst/>
          </a:prstGeom>
          <a:solidFill>
            <a:srgbClr val="cdd7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6 Rectángulo"/>
          <p:cNvGrpSpPr/>
          <p:nvPr/>
        </p:nvGrpSpPr>
        <p:grpSpPr>
          <a:xfrm>
            <a:off x="1036800" y="1646280"/>
            <a:ext cx="7905600" cy="3790800"/>
            <a:chOff x="1036800" y="1646280"/>
            <a:chExt cx="7905600" cy="3790800"/>
          </a:xfrm>
        </p:grpSpPr>
        <p:pic>
          <p:nvPicPr>
            <p:cNvPr id="390" name="6 Rectángulo" descr=""/>
            <p:cNvPicPr/>
            <p:nvPr/>
          </p:nvPicPr>
          <p:blipFill>
            <a:blip r:embed="rId1"/>
            <a:stretch/>
          </p:blipFill>
          <p:spPr>
            <a:xfrm>
              <a:off x="1036800" y="1646280"/>
              <a:ext cx="7905600" cy="37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1066680" y="1676520"/>
              <a:ext cx="7848720" cy="37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250920"/>
            <a:ext cx="8001000" cy="45720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Franklin Gothic Medium"/>
              </a:rPr>
              <a:t>ACTIVIDAD 4, EJERCICIO 2: MARCO CONCEPTUAL DE LA NIIF – PYME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1066680" y="1600200"/>
          <a:ext cx="7696440" cy="3362400"/>
        </p:xfrm>
        <a:graphic>
          <a:graphicData uri="http://schemas.openxmlformats.org/drawingml/2006/table">
            <a:tbl>
              <a:tblPr/>
              <a:tblGrid>
                <a:gridCol w="7696440"/>
              </a:tblGrid>
              <a:tr h="366876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 empresa "Conceptos S.A." adquirió unas instalaciones industriales por </a:t>
                      </a: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$ 500.000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 En el momento de la compra se concedió un descuento sobre el precio de contado del </a:t>
                      </a: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%. 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nto el transporte como los seguros por el traslado, que ascendieron a </a:t>
                      </a: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$ 20.000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son por cuenta del comprador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 pagó también un seguro especial a favor del conductor del camión, por importe de </a:t>
                      </a: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$ 5.000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el cual se acordó que fuera por cuenta del vendedor de la instalación industrial. Por el adiestramiento a un empleado en el manejo de la instalaciones se pagó a un representante de la empresa vendedora, un total de </a:t>
                      </a:r>
                      <a:r>
                        <a:rPr b="1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$ 20.000</a:t>
                      </a: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cantidad pagada al contad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4" name="8 Rectángulo"/>
          <p:cNvGrpSpPr/>
          <p:nvPr/>
        </p:nvGrpSpPr>
        <p:grpSpPr>
          <a:xfrm>
            <a:off x="1036800" y="871560"/>
            <a:ext cx="7905600" cy="665280"/>
            <a:chOff x="1036800" y="871560"/>
            <a:chExt cx="7905600" cy="665280"/>
          </a:xfrm>
        </p:grpSpPr>
        <p:pic>
          <p:nvPicPr>
            <p:cNvPr id="395" name="8 Rectángulo" descr=""/>
            <p:cNvPicPr/>
            <p:nvPr/>
          </p:nvPicPr>
          <p:blipFill>
            <a:blip r:embed="rId2"/>
            <a:stretch/>
          </p:blipFill>
          <p:spPr>
            <a:xfrm>
              <a:off x="1036800" y="871560"/>
              <a:ext cx="79056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066680" y="898560"/>
              <a:ext cx="784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Franklin Gothic Book"/>
                </a:rPr>
                <a:t>COSTO HISTORICO DE UN ACTIV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7" name="7 Rectángulo"/>
          <p:cNvSpPr/>
          <p:nvPr/>
        </p:nvSpPr>
        <p:spPr>
          <a:xfrm rot="16200000">
            <a:off x="-1922400" y="3425760"/>
            <a:ext cx="45180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9 Rectángulo"/>
          <p:cNvGrpSpPr/>
          <p:nvPr/>
        </p:nvGrpSpPr>
        <p:grpSpPr>
          <a:xfrm>
            <a:off x="884160" y="3925800"/>
            <a:ext cx="8820360" cy="1974960"/>
            <a:chOff x="884160" y="3925800"/>
            <a:chExt cx="8820360" cy="1974960"/>
          </a:xfrm>
        </p:grpSpPr>
        <p:pic>
          <p:nvPicPr>
            <p:cNvPr id="399" name="9 Rectángulo" descr=""/>
            <p:cNvPicPr/>
            <p:nvPr/>
          </p:nvPicPr>
          <p:blipFill>
            <a:blip r:embed="rId1"/>
            <a:stretch/>
          </p:blipFill>
          <p:spPr>
            <a:xfrm>
              <a:off x="884160" y="3925800"/>
              <a:ext cx="8820360" cy="197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990720" y="3962520"/>
              <a:ext cx="792468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401" name=""/>
          <p:cNvGraphicFramePr/>
          <p:nvPr/>
        </p:nvGraphicFramePr>
        <p:xfrm>
          <a:off x="673200" y="1295280"/>
          <a:ext cx="7924680" cy="61920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La empresa procederá en el momento de la compra a realizar lo siguient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990720" y="2133720"/>
          <a:ext cx="7772400" cy="160020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560"/>
                <a:gridCol w="1554480"/>
                <a:gridCol w="1554120"/>
              </a:tblGrid>
              <a:tr h="3999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ecio Pagad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500.000    *   0,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465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Transporte y Seguros (valor razonabl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Medium"/>
                        </a:rPr>
                        <a:t>    </a:t>
                      </a:r>
                      <a:r>
                        <a:rPr b="0" lang="es-ES" sz="1800" spc="-1" strike="noStrike" u="sng">
                          <a:solidFill>
                            <a:srgbClr val="000000"/>
                          </a:solidFill>
                          <a:uFillTx/>
                          <a:latin typeface="Franklin Gothic Medium"/>
                        </a:rPr>
                        <a:t>20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Total costo Histór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485.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03" name="7 Rectángulo"/>
          <p:cNvGrpSpPr/>
          <p:nvPr/>
        </p:nvGrpSpPr>
        <p:grpSpPr>
          <a:xfrm>
            <a:off x="3005280" y="201600"/>
            <a:ext cx="3255840" cy="663480"/>
            <a:chOff x="3005280" y="201600"/>
            <a:chExt cx="3255840" cy="663480"/>
          </a:xfrm>
        </p:grpSpPr>
        <p:pic>
          <p:nvPicPr>
            <p:cNvPr id="404" name="7 Rectángulo" descr=""/>
            <p:cNvPicPr/>
            <p:nvPr/>
          </p:nvPicPr>
          <p:blipFill>
            <a:blip r:embed="rId2"/>
            <a:stretch/>
          </p:blipFill>
          <p:spPr>
            <a:xfrm>
              <a:off x="3005280" y="201600"/>
              <a:ext cx="325584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3035160" y="22860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Franklin Gothic Book"/>
                </a:rPr>
                <a:t>CALCULOS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990720" y="3936960"/>
          <a:ext cx="7924680" cy="185436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854360">
                <a:tc>
                  <a:txBody>
                    <a:bodyPr lIns="9360" rIns="9360" tIns="9360" bIns="0" anchor="b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800" spc="-1" strike="noStrike" u="sng">
                          <a:solidFill>
                            <a:srgbClr val="ffffff"/>
                          </a:solidFill>
                          <a:uFillTx/>
                          <a:latin typeface="Franklin Gothic Medium"/>
                        </a:rPr>
                        <a:t>Comentario</a:t>
                      </a: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Franklin Gothic Medium"/>
                        </a:rPr>
                        <a:t>:     El resto de las partidas no son por cuenta del comprador, por lo que no forman parte del costo de adquisición. En lo que se refiere a los gastos de adiestramiento, es evidente que no constituirán costo de adquisición, pues no son gastos necesarios para dejar el activo instalado conforme a la Gerencia, susceptible de funcionar, por tanto, constituirán gastos del ejercicio económic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sp>
        <p:nvSpPr>
          <p:cNvPr id="407" name="10 Rectángulo"/>
          <p:cNvSpPr/>
          <p:nvPr/>
        </p:nvSpPr>
        <p:spPr>
          <a:xfrm rot="16200000">
            <a:off x="-1846080" y="3095280"/>
            <a:ext cx="4518000" cy="36828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"/>
          <p:cNvGraphicFramePr/>
          <p:nvPr/>
        </p:nvGraphicFramePr>
        <p:xfrm>
          <a:off x="838080" y="2819520"/>
          <a:ext cx="7696440" cy="2743200"/>
        </p:xfrm>
        <a:graphic>
          <a:graphicData uri="http://schemas.openxmlformats.org/drawingml/2006/table">
            <a:tbl>
              <a:tblPr/>
              <a:tblGrid>
                <a:gridCol w="451080"/>
                <a:gridCol w="3870360"/>
                <a:gridCol w="795240"/>
                <a:gridCol w="1289160"/>
                <a:gridCol w="1290600"/>
              </a:tblGrid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DESCRIP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RE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DE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HA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opiedades, Planta y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Fac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465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ropiedades, Planta y Equi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Fac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20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Banco (Instrumento Financier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Che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485.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Para registrar adquisición de Instalación Industrial a Costo Histór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Franklin Gothic Medium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1371600" y="380880"/>
          <a:ext cx="6781680" cy="2210040"/>
        </p:xfrm>
        <a:graphic>
          <a:graphicData uri="http://schemas.openxmlformats.org/drawingml/2006/table">
            <a:tbl>
              <a:tblPr/>
              <a:tblGrid>
                <a:gridCol w="3465360"/>
                <a:gridCol w="746280"/>
                <a:gridCol w="1278000"/>
                <a:gridCol w="1292040"/>
              </a:tblGrid>
              <a:tr h="368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/12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64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PRESA “Conceptos, C.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ENTOS CONT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A VEZ ADOPTADAS LAS VEN-N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xpresados en US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0" name="7 Rectángulo"/>
          <p:cNvSpPr/>
          <p:nvPr/>
        </p:nvSpPr>
        <p:spPr>
          <a:xfrm rot="16200000">
            <a:off x="-1693800" y="2892240"/>
            <a:ext cx="4518000" cy="368280"/>
          </a:xfrm>
          <a:prstGeom prst="rect">
            <a:avLst/>
          </a:prstGeom>
          <a:gradFill rotWithShape="0">
            <a:gsLst>
              <a:gs pos="0">
                <a:srgbClr val="8adcff"/>
              </a:gs>
              <a:gs pos="100000">
                <a:srgbClr val="def4ff"/>
              </a:gs>
            </a:gsLst>
            <a:lin ang="0"/>
          </a:gradFill>
          <a:ln w="9360">
            <a:solidFill>
              <a:srgbClr val="03a0d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Franklin Gothic Book"/>
              </a:rPr>
              <a:t>CONCEPTOS Y PRINCIPIOS GENER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5 Marcador de número de diapositiva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8DB5-DA05-4C3A-9EF2-3C93D402E227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006640"/>
            <a:ext cx="8077320" cy="9907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UCHAS GRACIA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413" name="Picture 2" descr="http://sites.google.com/site/reveniif/home/NIIFPyMEs.JPG?attredirects=0"/>
          <p:cNvPicPr/>
          <p:nvPr/>
        </p:nvPicPr>
        <p:blipFill>
          <a:blip r:embed="rId1"/>
          <a:stretch/>
        </p:blipFill>
        <p:spPr>
          <a:xfrm rot="791400">
            <a:off x="5740560" y="3359160"/>
            <a:ext cx="1720800" cy="24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98320" y="304920"/>
            <a:ext cx="7097760" cy="73008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Franklin Gothic Medium"/>
              </a:rPr>
              <a:t>Pero como llevar acabo una investigación especial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8 Marcador de contenido" descr=""/>
          <p:cNvPicPr/>
          <p:nvPr/>
        </p:nvPicPr>
        <p:blipFill>
          <a:blip r:embed="rId1"/>
          <a:stretch/>
        </p:blipFill>
        <p:spPr>
          <a:xfrm>
            <a:off x="669960" y="1670040"/>
            <a:ext cx="7547040" cy="4060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https://encrypted-tbn0.gstatic.com/images?q=tbn:ANd9GcTZ3Zbb0AJTC00a1FcP4VIGN47SkAu_KvC6u4z607lfOd5ukCwO90X1tDQY"/>
          <p:cNvPicPr/>
          <p:nvPr/>
        </p:nvPicPr>
        <p:blipFill>
          <a:blip r:embed="rId2"/>
          <a:stretch/>
        </p:blipFill>
        <p:spPr>
          <a:xfrm>
            <a:off x="7623000" y="0"/>
            <a:ext cx="1521000" cy="112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454040" y="122400"/>
            <a:ext cx="995400" cy="80964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7831080" cy="761760"/>
          </a:xfrm>
          <a:prstGeom prst="rect">
            <a:avLst/>
          </a:prstGeom>
          <a:solidFill>
            <a:srgbClr val="ca4b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00"/>
                </a:solidFill>
                <a:latin typeface="Franklin Gothic Medium"/>
              </a:rPr>
              <a:t>1. Planeación de Programa auditoria Especial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14 Rectángulo redondeado"/>
          <p:cNvSpPr/>
          <p:nvPr/>
        </p:nvSpPr>
        <p:spPr>
          <a:xfrm>
            <a:off x="684360" y="2565360"/>
            <a:ext cx="7848360" cy="151128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Franklin Gothic Book"/>
              </a:rPr>
              <a:t>Entender Claramente los Objetivos y procedimi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Franklin Gothic Book"/>
              </a:rPr>
              <a:t>Estudio e interpretación de términos contractuales, bajo una CARTA DE COMPROMI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920" y="1142640"/>
            <a:ext cx="7410240" cy="917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Franklin Gothic Medium"/>
              </a:rPr>
              <a:t>Factores de no seguridad en la investigación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50920" y="5315040"/>
            <a:ext cx="1365120" cy="1542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7477200" y="2498760"/>
            <a:ext cx="1009440" cy="1152360"/>
          </a:xfrm>
          <a:prstGeom prst="rect">
            <a:avLst/>
          </a:prstGeom>
          <a:ln w="0">
            <a:noFill/>
          </a:ln>
        </p:spPr>
      </p:pic>
      <p:sp>
        <p:nvSpPr>
          <p:cNvPr id="249" name="6 Esquina doblada"/>
          <p:cNvSpPr/>
          <p:nvPr/>
        </p:nvSpPr>
        <p:spPr>
          <a:xfrm>
            <a:off x="1692360" y="2349360"/>
            <a:ext cx="5616360" cy="3240360"/>
          </a:xfrm>
          <a:prstGeom prst="foldedCorner">
            <a:avLst>
              <a:gd name="adj" fmla="val 16666"/>
            </a:avLst>
          </a:prstGeom>
          <a:solidFill>
            <a:srgbClr val="04516d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os Registros y Documentos Disponibles insuficien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a variedad de posibles métodos de fraude o desfalc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a relación Costo/Beneficio de la investig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107640"/>
            <a:ext cx="6782040" cy="103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Franklin Gothic Medium"/>
              </a:rPr>
              <a:t>Reserva y Oportunidades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1" name="15 Marcador de contenido" descr=""/>
          <p:cNvPicPr/>
          <p:nvPr/>
        </p:nvPicPr>
        <p:blipFill>
          <a:blip r:embed="rId1"/>
          <a:stretch/>
        </p:blipFill>
        <p:spPr>
          <a:xfrm>
            <a:off x="841320" y="1249200"/>
            <a:ext cx="8113680" cy="5718240"/>
          </a:xfrm>
          <a:prstGeom prst="rect">
            <a:avLst/>
          </a:prstGeom>
          <a:ln w="0">
            <a:noFill/>
          </a:ln>
        </p:spPr>
      </p:pic>
      <p:sp>
        <p:nvSpPr>
          <p:cNvPr id="252" name="4 Rectángulo"/>
          <p:cNvSpPr/>
          <p:nvPr/>
        </p:nvSpPr>
        <p:spPr>
          <a:xfrm>
            <a:off x="129528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17 Llamada rectangular"/>
          <p:cNvSpPr/>
          <p:nvPr/>
        </p:nvSpPr>
        <p:spPr>
          <a:xfrm>
            <a:off x="3564000" y="3683160"/>
            <a:ext cx="2531880" cy="6094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96a1b"/>
          </a:solidFill>
          <a:ln w="25560">
            <a:solidFill>
              <a:srgbClr val="5c2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d0d0d"/>
                </a:solidFill>
                <a:latin typeface="Franklin Gothic Book"/>
              </a:rPr>
              <a:t>¿Cuándo se sospecha de fraude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1442880" cy="13460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http://t0.gstatic.com/images?q=tbn:ANd9GcRRwCSZ9I4kgRBBwg-Jn3mag4KAlWkFFVRyavRwq7PKQX0uSvQHHURsECrz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99920" y="514440"/>
            <a:ext cx="7831080" cy="457200"/>
          </a:xfrm>
          <a:prstGeom prst="rect">
            <a:avLst/>
          </a:prstGeom>
          <a:solidFill>
            <a:srgbClr val="0679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Franklin Gothic Medium"/>
              </a:rPr>
              <a:t>PROBLEMAS DE VALUACION:</a:t>
            </a:r>
            <a:endParaRPr b="0" lang="en-US" sz="2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7" name="8 Marcador de contenido" descr=""/>
          <p:cNvPicPr/>
          <p:nvPr/>
        </p:nvPicPr>
        <p:blipFill>
          <a:blip r:embed="rId1"/>
          <a:stretch/>
        </p:blipFill>
        <p:spPr>
          <a:xfrm>
            <a:off x="914400" y="1279440"/>
            <a:ext cx="7772400" cy="4835520"/>
          </a:xfrm>
          <a:prstGeom prst="rect">
            <a:avLst/>
          </a:prstGeom>
          <a:ln w="0">
            <a:noFill/>
          </a:ln>
        </p:spPr>
      </p:pic>
      <p:sp>
        <p:nvSpPr>
          <p:cNvPr id="258" name="4 Rectángulo"/>
          <p:cNvSpPr/>
          <p:nvPr/>
        </p:nvSpPr>
        <p:spPr>
          <a:xfrm>
            <a:off x="1042920" y="54936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" name="10 Rectángulo"/>
          <p:cNvGrpSpPr/>
          <p:nvPr/>
        </p:nvGrpSpPr>
        <p:grpSpPr>
          <a:xfrm>
            <a:off x="3249720" y="5181480"/>
            <a:ext cx="3114720" cy="706680"/>
            <a:chOff x="3249720" y="5181480"/>
            <a:chExt cx="3114720" cy="706680"/>
          </a:xfrm>
        </p:grpSpPr>
        <p:pic>
          <p:nvPicPr>
            <p:cNvPr id="260" name="10 Rectángulo" descr=""/>
            <p:cNvPicPr/>
            <p:nvPr/>
          </p:nvPicPr>
          <p:blipFill>
            <a:blip r:embed="rId2"/>
            <a:stretch/>
          </p:blipFill>
          <p:spPr>
            <a:xfrm>
              <a:off x="3249720" y="5181480"/>
              <a:ext cx="3114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3276720" y="5207040"/>
              <a:ext cx="30556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Berlin Sans FB Demi"/>
                </a:rPr>
                <a:t>Los Aspectos Fiscale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762120" y="553392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3" descr="http://www.consar.gob.mx/principal/imss_fusiones/imagen1.gif"/>
          <p:cNvPicPr/>
          <p:nvPr/>
        </p:nvPicPr>
        <p:blipFill>
          <a:blip r:embed="rId4"/>
          <a:stretch/>
        </p:blipFill>
        <p:spPr>
          <a:xfrm>
            <a:off x="5292720" y="3716280"/>
            <a:ext cx="4457880" cy="1482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7" descr="http://1.bp.blogspot.com/-jZAxBomLLng/TXT8hpEER3I/AAAAAAAAAZ4/uwWQsafItt0/s1600/contratos.jpg"/>
          <p:cNvPicPr/>
          <p:nvPr/>
        </p:nvPicPr>
        <p:blipFill>
          <a:blip r:embed="rId5"/>
          <a:stretch/>
        </p:blipFill>
        <p:spPr>
          <a:xfrm>
            <a:off x="179280" y="3141720"/>
            <a:ext cx="2067120" cy="16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7 Título"/>
          <p:cNvGrpSpPr/>
          <p:nvPr/>
        </p:nvGrpSpPr>
        <p:grpSpPr>
          <a:xfrm>
            <a:off x="536400" y="23760"/>
            <a:ext cx="8223480" cy="1457280"/>
            <a:chOff x="536400" y="23760"/>
            <a:chExt cx="8223480" cy="1457280"/>
          </a:xfrm>
        </p:grpSpPr>
        <p:pic>
          <p:nvPicPr>
            <p:cNvPr id="266" name="7 Título" descr=""/>
            <p:cNvPicPr/>
            <p:nvPr/>
          </p:nvPicPr>
          <p:blipFill>
            <a:blip r:embed="rId1"/>
            <a:stretch/>
          </p:blipFill>
          <p:spPr>
            <a:xfrm>
              <a:off x="536400" y="23760"/>
              <a:ext cx="8223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611280" y="189000"/>
              <a:ext cx="800100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Franklin Gothic Medium"/>
                </a:rPr>
                <a:t>Procedimientos adicionales a Investigación General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8" name="8 Marcador de contenido" descr=""/>
          <p:cNvPicPr/>
          <p:nvPr/>
        </p:nvPicPr>
        <p:blipFill>
          <a:blip r:embed="rId2"/>
          <a:stretch/>
        </p:blipFill>
        <p:spPr>
          <a:xfrm>
            <a:off x="743040" y="1182600"/>
            <a:ext cx="7547040" cy="4437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5:46:24Z</dcterms:created>
  <dc:creator>WENDY MENJIVAR</dc:creator>
  <dc:description/>
  <dc:language>en-US</dc:language>
  <cp:lastModifiedBy>WinuE</cp:lastModifiedBy>
  <dcterms:modified xsi:type="dcterms:W3CDTF">2013-11-15T05:00:29Z</dcterms:modified>
  <cp:revision>696</cp:revision>
  <dc:subject/>
  <dc:title>Taller NIIF-PYME  El Salvad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3082</vt:lpwstr>
  </property>
</Properties>
</file>