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31.png" ContentType="image/png"/>
  <Override PartName="/ppt/media/image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2.png" ContentType="image/png"/>
  <Override PartName="/ppt/media/image63.png" ContentType="image/png"/>
  <Override PartName="/ppt/media/image26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14.gif" ContentType="image/gif"/>
  <Override PartName="/ppt/media/image5.png" ContentType="image/png"/>
  <Override PartName="/ppt/media/image35.png" ContentType="image/png"/>
  <Override PartName="/ppt/media/image10.jpeg" ContentType="image/jpe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6D02-D60E-4F86-8D8A-2DECDAB2EB9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F7B6-03BB-41A2-901D-C444B01C7F6B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E10-A6B9-4636-96D3-94A85C740DC1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DDA6-CC2C-4507-AA7B-3813387270C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2CE-4049-4DFD-A388-1B86B4BB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3BC7-4195-42F6-9D1D-A7DC1F40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FC2-3D34-4E66-8393-3B69D34E6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3CA-65FB-49D5-BD00-BEAFCB2A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D9D3-D8A7-4B39-BA06-2881023CD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7AE2-08A1-42BB-9E16-DC459C96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A36F-80A3-4D48-9676-D7C5792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4FBB-BFB7-4A4B-82E7-FC7BDE24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E2DE-D29E-4E44-BDBA-8687DDB1B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9531-8EA0-4F37-B221-429EDC0D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62D9-7156-41A3-8E4D-60B0612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F86-E058-447D-8E48-F4F63107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AD12-CE90-4AA0-91BE-E763EB5C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99CC-B621-4CAC-9EAD-0F1F31DF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D4AF-5E12-4679-B6D1-9BAB819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F158-6F78-41E0-BFD3-C34BC6456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CE01-E64C-43EF-8859-92B8B7C2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F069-985B-44BA-9A0C-2608749C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3590-863A-4F9A-9BDE-C06FF834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947B6-4AA9-49DB-BF26-F2C58C3C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EF6D-8A67-464F-B5CE-31C02F7C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C56A-B884-4A76-8B6D-B234BD5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D35-8715-420F-A268-82062141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1BC86-0541-43E0-86E9-73A44C40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F463-A217-45FF-A570-3EECBF2C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FAFE-C4D1-46D5-823C-230A24A8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4B9B-D5D1-4DEE-8186-D1BE3CD4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398C0-F072-4216-854A-560E65DB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67E8C-2EA2-432E-BDB3-C1D2CA065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2AEF-1642-4571-A136-F1FB9900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78440-08EA-4662-A276-86C794B95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465BC-0B10-453A-AFAC-79E86AE1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B94D9-08DE-41DA-9588-720B619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BFB-068D-42B1-BDF2-395EB046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E741-A6BA-48EC-9F49-CFD30315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9B8A-FC32-46FD-9466-CDD08BA2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450A8-76B5-4B25-B8CF-82228473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E4730-E1AF-40C9-A9EC-C2C785FD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0BA7-2C19-49CE-81AF-57816FF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DE4B-BCCF-4FB8-8099-333A8B31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B128E-8552-4595-89FD-24313E89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8508-7079-4491-8906-6B57DABA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47DC3-7709-4C4E-8D78-0931B514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438D-3EC3-4872-971B-965DF454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6A62-513E-4091-8D2F-2FBDF738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72BD5-6989-4215-93AF-CBC1AD03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A765F-646D-4710-9437-4D997CD4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DB0E7-20BD-4AF0-AF3D-67FC5F41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2DBEF-0B0B-4B2C-8740-ADC68533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4DD1-F60A-44F9-84E6-100B12AB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FD423-F713-42D8-BE52-98DE00B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A2FDC-6CC3-473E-8F9A-D803D5E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C9BAF-579B-4811-985F-76A477AF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DB441-4337-4FAC-B5A2-4E8BD27F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5599-8BBB-44AE-BBA8-E8A7A516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3D27-BB80-4E2F-AF2F-7273B57D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679E-A665-48CE-9755-3DBDB191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4EEF-4CC8-41EA-AC1B-7251858B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5C4-4922-4A37-A8C3-507BCDB1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036-8B22-4810-80B3-DA24E94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F975-7A0D-4B0F-98CC-A1532AA5CF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5D1-93D6-4E54-86AB-2637C4A5392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853F-BBE7-48E0-985D-2F0FE8BF1B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A0AC-7920-472B-BAAA-B0726CAAB8C0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6908-D0F7-426F-9126-D394944E8A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334800" y="2505240"/>
            <a:ext cx="8448840" cy="1603080"/>
          </a:xfrm>
          <a:prstGeom prst="rect">
            <a:avLst/>
          </a:prstGeom>
          <a:ln w="0">
            <a:noFill/>
          </a:ln>
        </p:spPr>
      </p:pic>
      <p:pic>
        <p:nvPicPr>
          <p:cNvPr id="223" name="10 Imagen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871640" cy="2073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diariopresente.com.mx/videos/investigacionespecial_main.jpg"/>
          <p:cNvPicPr/>
          <p:nvPr/>
        </p:nvPicPr>
        <p:blipFill>
          <a:blip r:embed="rId3"/>
          <a:srcRect l="8486" t="6196" r="0" b="13243"/>
          <a:stretch/>
        </p:blipFill>
        <p:spPr>
          <a:xfrm>
            <a:off x="6372360" y="0"/>
            <a:ext cx="27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http://4.bp.blogspot.com/_lpxunuhcniQ/S8hbgKMNSoI/AAAAAAAAAPk/TTgcTRRJwNU/s1600/justicia.gif"/>
          <p:cNvPicPr/>
          <p:nvPr/>
        </p:nvPicPr>
        <p:blipFill>
          <a:blip r:embed="rId4"/>
          <a:stretch/>
        </p:blipFill>
        <p:spPr>
          <a:xfrm>
            <a:off x="0" y="4286160"/>
            <a:ext cx="379584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7 Título"/>
          <p:cNvGrpSpPr/>
          <p:nvPr/>
        </p:nvGrpSpPr>
        <p:grpSpPr>
          <a:xfrm>
            <a:off x="781200" y="689040"/>
            <a:ext cx="7948440" cy="858600"/>
            <a:chOff x="781200" y="689040"/>
            <a:chExt cx="7948440" cy="858600"/>
          </a:xfrm>
        </p:grpSpPr>
        <p:pic>
          <p:nvPicPr>
            <p:cNvPr id="270" name="7 Título" descr=""/>
            <p:cNvPicPr/>
            <p:nvPr/>
          </p:nvPicPr>
          <p:blipFill>
            <a:blip r:embed="rId1"/>
            <a:stretch/>
          </p:blipFill>
          <p:spPr>
            <a:xfrm>
              <a:off x="781200" y="689040"/>
              <a:ext cx="794844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38080" y="762120"/>
              <a:ext cx="7831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Franklin Gothic Medium"/>
                </a:rPr>
                <a:t>SITUACIÓN FINANCIERA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2" name="7 Marcador de contenido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8126280" cy="4999320"/>
          </a:xfrm>
          <a:prstGeom prst="rect">
            <a:avLst/>
          </a:prstGeom>
          <a:ln w="0">
            <a:noFill/>
          </a:ln>
        </p:spPr>
      </p:pic>
      <p:sp>
        <p:nvSpPr>
          <p:cNvPr id="273" name="5 Rectángulo"/>
          <p:cNvSpPr/>
          <p:nvPr/>
        </p:nvSpPr>
        <p:spPr>
          <a:xfrm rot="16200000">
            <a:off x="-1839600" y="3213000"/>
            <a:ext cx="4518000" cy="368280"/>
          </a:xfrm>
          <a:prstGeom prst="rect">
            <a:avLst/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831080" cy="4572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00"/>
                </a:solidFill>
                <a:latin typeface="Franklin Gothic Medium"/>
              </a:rPr>
              <a:t>ELEMENTOS DE LOS ESTADOS FINANCIEROS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5" name="11 Marcador de contenido" descr=""/>
          <p:cNvPicPr/>
          <p:nvPr/>
        </p:nvPicPr>
        <p:blipFill>
          <a:blip r:embed="rId1"/>
          <a:stretch/>
        </p:blipFill>
        <p:spPr>
          <a:xfrm>
            <a:off x="1828800" y="1609560"/>
            <a:ext cx="5638680" cy="3711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7620120" y="4578480"/>
            <a:ext cx="1371600" cy="1245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762120" cy="793800"/>
          </a:xfrm>
          <a:prstGeom prst="rect">
            <a:avLst/>
          </a:prstGeom>
          <a:ln w="0">
            <a:noFill/>
          </a:ln>
        </p:spPr>
      </p:pic>
      <p:sp>
        <p:nvSpPr>
          <p:cNvPr id="278" name="9 Llamada de flecha hacia arriba"/>
          <p:cNvSpPr/>
          <p:nvPr/>
        </p:nvSpPr>
        <p:spPr>
          <a:xfrm>
            <a:off x="990720" y="5029200"/>
            <a:ext cx="5029200" cy="762120"/>
          </a:xfrm>
          <a:prstGeom prst="upArrowCallout">
            <a:avLst>
              <a:gd name="adj1" fmla="val 24993"/>
              <a:gd name="adj2" fmla="val 24991"/>
              <a:gd name="adj3" fmla="val 25000"/>
              <a:gd name="adj4" fmla="val 70041"/>
            </a:avLst>
          </a:prstGeom>
          <a:solidFill>
            <a:srgbClr val="ffc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10 Rectángulo"/>
          <p:cNvSpPr/>
          <p:nvPr/>
        </p:nvSpPr>
        <p:spPr>
          <a:xfrm rot="16200000">
            <a:off x="-2368080" y="3282480"/>
            <a:ext cx="57150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831080" cy="6094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Franklin Gothic Medium"/>
              </a:rPr>
              <a:t>RESULTADO INTEGRAL TOTAL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1" name="9 Marcador de contenido" descr=""/>
          <p:cNvPicPr/>
          <p:nvPr/>
        </p:nvPicPr>
        <p:blipFill>
          <a:blip r:embed="rId1"/>
          <a:stretch/>
        </p:blipFill>
        <p:spPr>
          <a:xfrm>
            <a:off x="858960" y="1773360"/>
            <a:ext cx="7950240" cy="4779720"/>
          </a:xfrm>
          <a:prstGeom prst="rect">
            <a:avLst/>
          </a:prstGeom>
          <a:ln w="0">
            <a:noFill/>
          </a:ln>
        </p:spPr>
      </p:pic>
      <p:sp>
        <p:nvSpPr>
          <p:cNvPr id="282" name="5 Rectángulo"/>
          <p:cNvSpPr/>
          <p:nvPr/>
        </p:nvSpPr>
        <p:spPr>
          <a:xfrm rot="16200000">
            <a:off x="-2328480" y="3547800"/>
            <a:ext cx="548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7924680" y="3581280"/>
            <a:ext cx="990720" cy="12384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831080" cy="6094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5" name="9 Marcador de contenido" descr=""/>
          <p:cNvPicPr/>
          <p:nvPr/>
        </p:nvPicPr>
        <p:blipFill>
          <a:blip r:embed="rId2"/>
          <a:stretch/>
        </p:blipFill>
        <p:spPr>
          <a:xfrm>
            <a:off x="853920" y="1706400"/>
            <a:ext cx="7667640" cy="4164120"/>
          </a:xfrm>
          <a:prstGeom prst="rect">
            <a:avLst/>
          </a:prstGeom>
          <a:ln w="0">
            <a:noFill/>
          </a:ln>
        </p:spPr>
      </p:pic>
      <p:sp>
        <p:nvSpPr>
          <p:cNvPr id="286" name="6 Rectángulo"/>
          <p:cNvSpPr/>
          <p:nvPr/>
        </p:nvSpPr>
        <p:spPr>
          <a:xfrm rot="16200000">
            <a:off x="-2406240" y="3244680"/>
            <a:ext cx="5790960" cy="368280"/>
          </a:xfrm>
          <a:prstGeom prst="rect">
            <a:avLst/>
          </a:prstGeom>
          <a:solidFill>
            <a:srgbClr val="cdd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25400" y="304920"/>
            <a:ext cx="6895800" cy="76176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RECONOCIMIENTO DE LOS ELEMENTOS </a:t>
            </a:r>
            <a:br>
              <a:rPr sz="2100"/>
            </a:b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EN LOS ESTADOS FINANCIEROS: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8" name="5 Marcador de contenido" descr=""/>
          <p:cNvPicPr/>
          <p:nvPr/>
        </p:nvPicPr>
        <p:blipFill>
          <a:blip r:embed="rId1"/>
          <a:stretch/>
        </p:blipFill>
        <p:spPr>
          <a:xfrm>
            <a:off x="890640" y="1219320"/>
            <a:ext cx="8454960" cy="517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1371600" y="3973680"/>
            <a:ext cx="838080" cy="739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7943760" y="4343400"/>
            <a:ext cx="743040" cy="942840"/>
          </a:xfrm>
          <a:prstGeom prst="rect">
            <a:avLst/>
          </a:prstGeom>
          <a:ln w="0">
            <a:noFill/>
          </a:ln>
        </p:spPr>
      </p:pic>
      <p:sp>
        <p:nvSpPr>
          <p:cNvPr id="291" name="7 Rectángulo"/>
          <p:cNvSpPr/>
          <p:nvPr/>
        </p:nvSpPr>
        <p:spPr>
          <a:xfrm rot="16200000">
            <a:off x="-1838160" y="3028680"/>
            <a:ext cx="50547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8 CuadroTexto"/>
          <p:cNvSpPr/>
          <p:nvPr/>
        </p:nvSpPr>
        <p:spPr>
          <a:xfrm>
            <a:off x="1600200" y="2133720"/>
            <a:ext cx="2743200" cy="119124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Franklin Gothic Book"/>
              </a:rPr>
              <a:t>Reconocimiento es el proceso de incorporar una partida en los estados financiero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76212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Franklin Gothic Medium"/>
              </a:rPr>
              <a:t>BASE CONTABLE DE LOS ESTADOS FINANCIEROS: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4" name="5 Marcador de contenido" descr=""/>
          <p:cNvPicPr/>
          <p:nvPr/>
        </p:nvPicPr>
        <p:blipFill>
          <a:blip r:embed="rId1"/>
          <a:stretch/>
        </p:blipFill>
        <p:spPr>
          <a:xfrm>
            <a:off x="536400" y="1219320"/>
            <a:ext cx="8998200" cy="5456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838080" cy="73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7696080" y="4114800"/>
            <a:ext cx="743040" cy="942840"/>
          </a:xfrm>
          <a:prstGeom prst="rect">
            <a:avLst/>
          </a:prstGeom>
          <a:ln w="0">
            <a:noFill/>
          </a:ln>
        </p:spPr>
      </p:pic>
      <p:sp>
        <p:nvSpPr>
          <p:cNvPr id="297" name="7 Rectángulo"/>
          <p:cNvSpPr/>
          <p:nvPr/>
        </p:nvSpPr>
        <p:spPr>
          <a:xfrm rot="16200000">
            <a:off x="-2490480" y="3099960"/>
            <a:ext cx="5654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31080" cy="76176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MEDICIÓN INICIAL DE LOS </a:t>
            </a:r>
            <a:br>
              <a:rPr sz="2100"/>
            </a:b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9" name="5 Marcador de contenido" descr=""/>
          <p:cNvPicPr/>
          <p:nvPr/>
        </p:nvPicPr>
        <p:blipFill>
          <a:blip r:embed="rId1"/>
          <a:stretch/>
        </p:blipFill>
        <p:spPr>
          <a:xfrm>
            <a:off x="785880" y="1255680"/>
            <a:ext cx="8029440" cy="4986360"/>
          </a:xfrm>
          <a:prstGeom prst="rect">
            <a:avLst/>
          </a:prstGeom>
          <a:ln w="0">
            <a:noFill/>
          </a:ln>
        </p:spPr>
      </p:pic>
      <p:sp>
        <p:nvSpPr>
          <p:cNvPr id="300" name="6 Rectángulo"/>
          <p:cNvSpPr/>
          <p:nvPr/>
        </p:nvSpPr>
        <p:spPr>
          <a:xfrm rot="16200000">
            <a:off x="-1922400" y="357804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858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MEDICIÓN  POSTERIOR DE LO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2" name="5 Marcador de contenido" descr=""/>
          <p:cNvPicPr/>
          <p:nvPr/>
        </p:nvPicPr>
        <p:blipFill>
          <a:blip r:embed="rId1"/>
          <a:stretch/>
        </p:blipFill>
        <p:spPr>
          <a:xfrm>
            <a:off x="530280" y="1719360"/>
            <a:ext cx="8369280" cy="4913280"/>
          </a:xfrm>
          <a:prstGeom prst="rect">
            <a:avLst/>
          </a:prstGeom>
          <a:ln w="0">
            <a:noFill/>
          </a:ln>
        </p:spPr>
      </p:pic>
      <p:sp>
        <p:nvSpPr>
          <p:cNvPr id="303" name="6 Rectángulo"/>
          <p:cNvSpPr/>
          <p:nvPr/>
        </p:nvSpPr>
        <p:spPr>
          <a:xfrm rot="16200000">
            <a:off x="-1922400" y="34257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7 Rectángulo"/>
          <p:cNvSpPr/>
          <p:nvPr/>
        </p:nvSpPr>
        <p:spPr>
          <a:xfrm>
            <a:off x="2133720" y="6095880"/>
            <a:ext cx="6858000" cy="53352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Franklin Gothic Book"/>
              </a:rPr>
              <a:t>Resto de Activos y Pasivos Financieros a Valor Razon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7924680" y="182880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7238880" cy="838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MEDICIÓN POSTERIOR DE LOS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7" name="9 Marcador de contenido" descr=""/>
          <p:cNvPicPr/>
          <p:nvPr/>
        </p:nvPicPr>
        <p:blipFill>
          <a:blip r:embed="rId2"/>
          <a:stretch/>
        </p:blipFill>
        <p:spPr>
          <a:xfrm>
            <a:off x="676440" y="1981080"/>
            <a:ext cx="8248320" cy="4359240"/>
          </a:xfrm>
          <a:prstGeom prst="rect">
            <a:avLst/>
          </a:prstGeom>
          <a:ln w="0">
            <a:noFill/>
          </a:ln>
        </p:spPr>
      </p:pic>
      <p:sp>
        <p:nvSpPr>
          <p:cNvPr id="308" name="6 Rectángulo"/>
          <p:cNvSpPr/>
          <p:nvPr/>
        </p:nvSpPr>
        <p:spPr>
          <a:xfrm rot="16200000">
            <a:off x="-1846080" y="2968560"/>
            <a:ext cx="4518000" cy="368280"/>
          </a:xfrm>
          <a:prstGeom prst="rect">
            <a:avLst/>
          </a:prstGeom>
          <a:solidFill>
            <a:srgbClr val="cdd7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8310600" y="0"/>
            <a:ext cx="853920" cy="990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8320" y="151920"/>
            <a:ext cx="7097760" cy="6858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MEDICIÓN  POSTERIOR DE LO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1" name="9 Marcador de contenido" descr=""/>
          <p:cNvPicPr/>
          <p:nvPr/>
        </p:nvPicPr>
        <p:blipFill>
          <a:blip r:embed="rId2"/>
          <a:stretch/>
        </p:blipFill>
        <p:spPr>
          <a:xfrm>
            <a:off x="596880" y="1158840"/>
            <a:ext cx="8613720" cy="5016600"/>
          </a:xfrm>
          <a:prstGeom prst="rect">
            <a:avLst/>
          </a:prstGeom>
          <a:ln w="0">
            <a:noFill/>
          </a:ln>
        </p:spPr>
      </p:pic>
      <p:sp>
        <p:nvSpPr>
          <p:cNvPr id="312" name="6 Rectángulo"/>
          <p:cNvSpPr/>
          <p:nvPr/>
        </p:nvSpPr>
        <p:spPr>
          <a:xfrm rot="16200000">
            <a:off x="-1846080" y="3365280"/>
            <a:ext cx="451800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7 Título"/>
          <p:cNvGrpSpPr/>
          <p:nvPr/>
        </p:nvGrpSpPr>
        <p:grpSpPr>
          <a:xfrm>
            <a:off x="596880" y="566640"/>
            <a:ext cx="7967520" cy="1079640"/>
            <a:chOff x="596880" y="566640"/>
            <a:chExt cx="7967520" cy="1079640"/>
          </a:xfrm>
        </p:grpSpPr>
        <p:pic>
          <p:nvPicPr>
            <p:cNvPr id="227" name="7 Título" descr=""/>
            <p:cNvPicPr/>
            <p:nvPr/>
          </p:nvPicPr>
          <p:blipFill>
            <a:blip r:embed="rId1"/>
            <a:stretch/>
          </p:blipFill>
          <p:spPr>
            <a:xfrm>
              <a:off x="596880" y="566640"/>
              <a:ext cx="79675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55560" y="658800"/>
              <a:ext cx="7845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Franklin Gothic Medium"/>
                </a:rPr>
                <a:t>PROCESOS ESPECIAL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" name="8 Marcador de contenido"/>
          <p:cNvGrpSpPr/>
          <p:nvPr/>
        </p:nvGrpSpPr>
        <p:grpSpPr>
          <a:xfrm>
            <a:off x="633240" y="1494000"/>
            <a:ext cx="8114040" cy="3363840"/>
            <a:chOff x="633240" y="1494000"/>
            <a:chExt cx="8114040" cy="3363840"/>
          </a:xfrm>
        </p:grpSpPr>
        <p:pic>
          <p:nvPicPr>
            <p:cNvPr id="230" name="8 Marcador de contenido" descr=""/>
            <p:cNvPicPr/>
            <p:nvPr/>
          </p:nvPicPr>
          <p:blipFill>
            <a:blip r:embed="rId2"/>
            <a:stretch/>
          </p:blipFill>
          <p:spPr>
            <a:xfrm>
              <a:off x="633240" y="1494000"/>
              <a:ext cx="811404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42960" y="1500120"/>
              <a:ext cx="8101080" cy="33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Fraudes y Abusos de Confianz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roblemas de valoración de activ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Negociación de Contratos y controles a los contrat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Reglamentación gubernamental , principalmente tributari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Concordatos, Liquidación y quiebra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eritazg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Informes Especiale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7 Rectángulo"/>
          <p:cNvSpPr/>
          <p:nvPr/>
        </p:nvSpPr>
        <p:spPr>
          <a:xfrm rot="16200000">
            <a:off x="-2732040" y="3189240"/>
            <a:ext cx="613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ditor como apoyo técnico al Frau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12" descr="https://encrypted-tbn3.gstatic.com/images?q=tbn:ANd9GcTEwPW1STsUQtdflxT89njj_UCS3HOI0CEgTUFMZcJJDqkyeMB0iA"/>
          <p:cNvPicPr/>
          <p:nvPr/>
        </p:nvPicPr>
        <p:blipFill>
          <a:blip r:embed="rId10"/>
          <a:stretch/>
        </p:blipFill>
        <p:spPr>
          <a:xfrm>
            <a:off x="7272360" y="4863960"/>
            <a:ext cx="1871640" cy="19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120" y="1828440"/>
            <a:ext cx="6916680" cy="6858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300" spc="-1" strike="noStrike">
                <a:solidFill>
                  <a:srgbClr val="ffff00"/>
                </a:solidFill>
                <a:latin typeface="Franklin Gothic Medium"/>
              </a:rPr>
              <a:t>CASOS PRÁCTICOS</a:t>
            </a:r>
            <a:r>
              <a:rPr b="1" lang="es-ES_tradnl" sz="4900" spc="-1" strike="noStrike">
                <a:solidFill>
                  <a:srgbClr val="ffff00"/>
                </a:solidFill>
                <a:latin typeface="Franklin Gothic Medium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4" name="Picture 7" descr="el-mundo-sin-fronteras"/>
          <p:cNvPicPr/>
          <p:nvPr/>
        </p:nvPicPr>
        <p:blipFill>
          <a:blip r:embed="rId1"/>
          <a:stretch/>
        </p:blipFill>
        <p:spPr>
          <a:xfrm>
            <a:off x="2666880" y="3429000"/>
            <a:ext cx="3672000" cy="1846440"/>
          </a:xfrm>
          <a:prstGeom prst="rect">
            <a:avLst/>
          </a:prstGeom>
          <a:ln w="0">
            <a:noFill/>
          </a:ln>
        </p:spPr>
      </p:pic>
      <p:sp>
        <p:nvSpPr>
          <p:cNvPr id="315" name="7 Rectángulo"/>
          <p:cNvSpPr/>
          <p:nvPr/>
        </p:nvSpPr>
        <p:spPr>
          <a:xfrm rot="16200000">
            <a:off x="-1801800" y="3521520"/>
            <a:ext cx="4518000" cy="368280"/>
          </a:xfrm>
          <a:prstGeom prst="rect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9 Rectángulo"/>
          <p:cNvGrpSpPr/>
          <p:nvPr/>
        </p:nvGrpSpPr>
        <p:grpSpPr>
          <a:xfrm>
            <a:off x="682560" y="2925720"/>
            <a:ext cx="9058320" cy="3346560"/>
            <a:chOff x="682560" y="2925720"/>
            <a:chExt cx="9058320" cy="3346560"/>
          </a:xfrm>
        </p:grpSpPr>
        <p:pic>
          <p:nvPicPr>
            <p:cNvPr id="317" name="9 Rectángulo" descr=""/>
            <p:cNvPicPr/>
            <p:nvPr/>
          </p:nvPicPr>
          <p:blipFill>
            <a:blip r:embed="rId1"/>
            <a:stretch/>
          </p:blipFill>
          <p:spPr>
            <a:xfrm>
              <a:off x="682560" y="2925720"/>
              <a:ext cx="9058320" cy="33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87320" y="2955960"/>
              <a:ext cx="7670880" cy="32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comprensión de la realidad económica o financiera de la entidad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Por ejemplo: la separación de los pasivos y patrimonio neto de los activos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clasificación de activos y pasivos en corrientes y no corrient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Permite la correcta elaboración de índices financiero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presentación del resultado económico agrupando los ingresos y los gasto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generación de flujos de efectivo en actividades de operación, inversión y  financiamiento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10 Rectángulo"/>
          <p:cNvGrpSpPr/>
          <p:nvPr/>
        </p:nvGrpSpPr>
        <p:grpSpPr>
          <a:xfrm>
            <a:off x="658800" y="2182680"/>
            <a:ext cx="8107200" cy="663840"/>
            <a:chOff x="658800" y="2182680"/>
            <a:chExt cx="8107200" cy="663840"/>
          </a:xfrm>
        </p:grpSpPr>
        <p:pic>
          <p:nvPicPr>
            <p:cNvPr id="320" name="10 Rectángulo" descr=""/>
            <p:cNvPicPr/>
            <p:nvPr/>
          </p:nvPicPr>
          <p:blipFill>
            <a:blip r:embed="rId2"/>
            <a:stretch/>
          </p:blipFill>
          <p:spPr>
            <a:xfrm>
              <a:off x="658800" y="2182680"/>
              <a:ext cx="810720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62120" y="2209680"/>
              <a:ext cx="7696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cdd7d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  <a:ea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¿Qué utilidad tiene para los usuarios la información relativa a la estructura financiera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2" name="7 Título"/>
          <p:cNvGrpSpPr/>
          <p:nvPr/>
        </p:nvGrpSpPr>
        <p:grpSpPr>
          <a:xfrm>
            <a:off x="798480" y="633240"/>
            <a:ext cx="7662960" cy="1543320"/>
            <a:chOff x="798480" y="633240"/>
            <a:chExt cx="7662960" cy="1543320"/>
          </a:xfrm>
        </p:grpSpPr>
        <p:pic>
          <p:nvPicPr>
            <p:cNvPr id="323" name="7 Título" descr=""/>
            <p:cNvPicPr/>
            <p:nvPr/>
          </p:nvPicPr>
          <p:blipFill>
            <a:blip r:embed="rId3"/>
            <a:stretch/>
          </p:blipFill>
          <p:spPr>
            <a:xfrm>
              <a:off x="798480" y="633240"/>
              <a:ext cx="76629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57160" y="714240"/>
              <a:ext cx="7543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500" spc="-1" strike="noStrike">
                  <a:solidFill>
                    <a:srgbClr val="ffffff"/>
                  </a:solidFill>
                  <a:latin typeface="Franklin Gothic Medium"/>
                </a:rPr>
                <a:t>ACTIVIDAD 1: </a:t>
              </a:r>
              <a:br>
                <a:rPr sz="2500"/>
              </a:br>
              <a:r>
                <a:rPr b="1" lang="es-ES_tradnl" sz="2500" spc="-1" strike="noStrike">
                  <a:solidFill>
                    <a:srgbClr val="ffffff"/>
                  </a:solidFill>
                  <a:latin typeface="Franklin Gothic Medium"/>
                </a:rPr>
                <a:t>RESPONDA LAS SIGUIENTES PREGUNTAS SOBRE</a:t>
              </a:r>
              <a:br>
                <a:rPr sz="2500"/>
              </a:br>
              <a:r>
                <a:rPr b="1" lang="es-ES_tradnl" sz="2500" spc="-1" strike="noStrike">
                  <a:solidFill>
                    <a:srgbClr val="ffffff"/>
                  </a:solidFill>
                  <a:latin typeface="Franklin Gothic Medium"/>
                </a:rPr>
                <a:t>ESTRUCTURA DE LA INFORMACIÓN</a:t>
              </a:r>
              <a:r>
                <a:rPr b="1" lang="es-ES" sz="2500" spc="-1" strike="noStrike">
                  <a:solidFill>
                    <a:srgbClr val="ffffff"/>
                  </a:solidFill>
                  <a:latin typeface="Franklin Gothic Medium"/>
                </a:rPr>
                <a:t> FINANCIERA</a:t>
              </a:r>
              <a:r>
                <a:rPr b="1" lang="es-ES" sz="2500" spc="-1" strike="noStrike">
                  <a:solidFill>
                    <a:srgbClr val="ffff00"/>
                  </a:solidFill>
                  <a:latin typeface="Franklin Gothic Medium"/>
                </a:rPr>
                <a:t>.</a:t>
              </a:r>
              <a:r>
                <a:rPr b="0" lang="es-ES" sz="2500" spc="-1" strike="noStrike">
                  <a:solidFill>
                    <a:srgbClr val="ffff00"/>
                  </a:solidFill>
                  <a:latin typeface="Franklin Gothic Medium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6 Rectángulo"/>
          <p:cNvSpPr/>
          <p:nvPr/>
        </p:nvSpPr>
        <p:spPr>
          <a:xfrm rot="16200000">
            <a:off x="-1846080" y="319716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924680" cy="1828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ranklin Gothic Medium"/>
              </a:rPr>
              <a:t>ACTIVIDAD 2: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Franklin Gothic Medium"/>
              </a:rPr>
              <a:t>CONCEPTOS Y PRINCIPIOS GENERALES</a:t>
            </a:r>
            <a:br>
              <a:rPr sz="2800"/>
            </a:br>
            <a:r>
              <a:rPr b="1" lang="es-ES_tradnl" sz="2400" spc="-1" strike="noStrike">
                <a:solidFill>
                  <a:srgbClr val="ffffff"/>
                </a:solidFill>
                <a:latin typeface="Franklin Gothic Medium"/>
              </a:rPr>
              <a:t>CARACTERÍSTICAS CUALITATIVAS DE LA INFORMACIÓN EN LOS ESTADOS FINANCIEROS</a:t>
            </a:r>
            <a:r>
              <a:rPr b="0" lang="es-ES" sz="24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27" name="5 Rectángulo redondeado"/>
          <p:cNvGrpSpPr/>
          <p:nvPr/>
        </p:nvGrpSpPr>
        <p:grpSpPr>
          <a:xfrm>
            <a:off x="811080" y="3402000"/>
            <a:ext cx="8429760" cy="2035080"/>
            <a:chOff x="811080" y="3402000"/>
            <a:chExt cx="8429760" cy="2035080"/>
          </a:xfrm>
        </p:grpSpPr>
        <p:pic>
          <p:nvPicPr>
            <p:cNvPr id="328" name="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811080" y="3402000"/>
              <a:ext cx="842976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932040" y="3522600"/>
              <a:ext cx="750852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Franklin Gothic Book"/>
                </a:rPr>
                <a:t>¿Qué características se afectan cuando se refleja la siguiente información en los Estados Financieros?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6 Rectángulo"/>
          <p:cNvSpPr/>
          <p:nvPr/>
        </p:nvSpPr>
        <p:spPr>
          <a:xfrm rot="16200000">
            <a:off x="-1846080" y="350172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9 Rectángulo"/>
          <p:cNvGrpSpPr/>
          <p:nvPr/>
        </p:nvGrpSpPr>
        <p:grpSpPr>
          <a:xfrm>
            <a:off x="579600" y="1036800"/>
            <a:ext cx="8442000" cy="669600"/>
            <a:chOff x="579600" y="1036800"/>
            <a:chExt cx="8442000" cy="669600"/>
          </a:xfrm>
        </p:grpSpPr>
        <p:pic>
          <p:nvPicPr>
            <p:cNvPr id="332" name="9 Rectángulo" descr=""/>
            <p:cNvPicPr/>
            <p:nvPr/>
          </p:nvPicPr>
          <p:blipFill>
            <a:blip r:embed="rId1"/>
            <a:stretch/>
          </p:blipFill>
          <p:spPr>
            <a:xfrm>
              <a:off x="579600" y="1036800"/>
              <a:ext cx="8442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09480" y="1066680"/>
              <a:ext cx="8382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Información sobre la venta de un activo, donde la entidad sigue disfrutando de los beneficios del mismo.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10 Rectángulo"/>
          <p:cNvGrpSpPr/>
          <p:nvPr/>
        </p:nvGrpSpPr>
        <p:grpSpPr>
          <a:xfrm>
            <a:off x="579600" y="1725480"/>
            <a:ext cx="8442000" cy="1730520"/>
            <a:chOff x="579600" y="1725480"/>
            <a:chExt cx="8442000" cy="1730520"/>
          </a:xfrm>
        </p:grpSpPr>
        <p:pic>
          <p:nvPicPr>
            <p:cNvPr id="335" name="10 Rectángulo" descr=""/>
            <p:cNvPicPr/>
            <p:nvPr/>
          </p:nvPicPr>
          <p:blipFill>
            <a:blip r:embed="rId2"/>
            <a:stretch/>
          </p:blipFill>
          <p:spPr>
            <a:xfrm>
              <a:off x="579600" y="1725480"/>
              <a:ext cx="844200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09480" y="1752480"/>
              <a:ext cx="8382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Franklin Gothic Book"/>
                </a:rPr>
                <a:t>Esencia sobre la Forma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7" name="11 Rectángulo"/>
          <p:cNvGrpSpPr/>
          <p:nvPr/>
        </p:nvGrpSpPr>
        <p:grpSpPr>
          <a:xfrm>
            <a:off x="579600" y="3475080"/>
            <a:ext cx="8442000" cy="743040"/>
            <a:chOff x="579600" y="3475080"/>
            <a:chExt cx="8442000" cy="743040"/>
          </a:xfrm>
        </p:grpSpPr>
        <p:pic>
          <p:nvPicPr>
            <p:cNvPr id="338" name="11 Rectángulo" descr=""/>
            <p:cNvPicPr/>
            <p:nvPr/>
          </p:nvPicPr>
          <p:blipFill>
            <a:blip r:embed="rId3"/>
            <a:stretch/>
          </p:blipFill>
          <p:spPr>
            <a:xfrm>
              <a:off x="579600" y="3475080"/>
              <a:ext cx="84420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09480" y="3505320"/>
              <a:ext cx="8382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dd7d9"/>
                  </a:solidFill>
                  <a:latin typeface="Calibri"/>
                </a:rPr>
                <a:t>No se reflejan los métodos de valoración de los elementos de los estados financieros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0" name="12 Rectángulo"/>
          <p:cNvGrpSpPr/>
          <p:nvPr/>
        </p:nvGrpSpPr>
        <p:grpSpPr>
          <a:xfrm>
            <a:off x="579600" y="4316400"/>
            <a:ext cx="8442000" cy="1730520"/>
            <a:chOff x="579600" y="4316400"/>
            <a:chExt cx="8442000" cy="1730520"/>
          </a:xfrm>
        </p:grpSpPr>
        <p:pic>
          <p:nvPicPr>
            <p:cNvPr id="341" name="12 Rectángulo" descr=""/>
            <p:cNvPicPr/>
            <p:nvPr/>
          </p:nvPicPr>
          <p:blipFill>
            <a:blip r:embed="rId4"/>
            <a:stretch/>
          </p:blipFill>
          <p:spPr>
            <a:xfrm>
              <a:off x="579600" y="4316400"/>
              <a:ext cx="844200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09480" y="4343400"/>
              <a:ext cx="8382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Franklin Gothic Book"/>
                </a:rPr>
                <a:t>Integridad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3" name="7 Rectángulo"/>
          <p:cNvSpPr/>
          <p:nvPr/>
        </p:nvSpPr>
        <p:spPr>
          <a:xfrm rot="16200000">
            <a:off x="-1863720" y="359064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7 Rectángulo"/>
          <p:cNvGrpSpPr/>
          <p:nvPr/>
        </p:nvGrpSpPr>
        <p:grpSpPr>
          <a:xfrm>
            <a:off x="506520" y="884160"/>
            <a:ext cx="8435880" cy="669960"/>
            <a:chOff x="506520" y="884160"/>
            <a:chExt cx="8435880" cy="669960"/>
          </a:xfrm>
        </p:grpSpPr>
        <p:pic>
          <p:nvPicPr>
            <p:cNvPr id="345" name="7 Rectángulo" descr=""/>
            <p:cNvPicPr/>
            <p:nvPr/>
          </p:nvPicPr>
          <p:blipFill>
            <a:blip r:embed="rId1"/>
            <a:stretch/>
          </p:blipFill>
          <p:spPr>
            <a:xfrm>
              <a:off x="506520" y="884160"/>
              <a:ext cx="84358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33520" y="91440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</a:rPr>
                <a:t>Cambios en políticas contables de un período a otro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8 Rectángulo"/>
          <p:cNvGrpSpPr/>
          <p:nvPr/>
        </p:nvGrpSpPr>
        <p:grpSpPr>
          <a:xfrm>
            <a:off x="506520" y="1573200"/>
            <a:ext cx="8435880" cy="1730520"/>
            <a:chOff x="506520" y="1573200"/>
            <a:chExt cx="8435880" cy="1730520"/>
          </a:xfrm>
        </p:grpSpPr>
        <p:pic>
          <p:nvPicPr>
            <p:cNvPr id="348" name="8 Rectángulo" descr=""/>
            <p:cNvPicPr/>
            <p:nvPr/>
          </p:nvPicPr>
          <p:blipFill>
            <a:blip r:embed="rId2"/>
            <a:stretch/>
          </p:blipFill>
          <p:spPr>
            <a:xfrm>
              <a:off x="506520" y="1573200"/>
              <a:ext cx="84358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33520" y="1600200"/>
              <a:ext cx="838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000000"/>
                  </a:solidFill>
                  <a:latin typeface="Franklin Gothic Book"/>
                </a:rPr>
                <a:t>Comparabilidad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0" name="9 Rectángulo"/>
          <p:cNvGrpSpPr/>
          <p:nvPr/>
        </p:nvGrpSpPr>
        <p:grpSpPr>
          <a:xfrm>
            <a:off x="506520" y="3554280"/>
            <a:ext cx="8435880" cy="663840"/>
            <a:chOff x="506520" y="3554280"/>
            <a:chExt cx="8435880" cy="663840"/>
          </a:xfrm>
        </p:grpSpPr>
        <p:pic>
          <p:nvPicPr>
            <p:cNvPr id="351" name="9 Rectángulo" descr=""/>
            <p:cNvPicPr/>
            <p:nvPr/>
          </p:nvPicPr>
          <p:blipFill>
            <a:blip r:embed="rId3"/>
            <a:stretch/>
          </p:blipFill>
          <p:spPr>
            <a:xfrm>
              <a:off x="506520" y="3554280"/>
              <a:ext cx="843588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33520" y="3581280"/>
              <a:ext cx="8381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</a:rPr>
                <a:t>Presentación anticipada de la información sobre un litigio aún sin resolver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10 Rectángulo"/>
          <p:cNvGrpSpPr/>
          <p:nvPr/>
        </p:nvGrpSpPr>
        <p:grpSpPr>
          <a:xfrm>
            <a:off x="506520" y="4237200"/>
            <a:ext cx="8435880" cy="1736640"/>
            <a:chOff x="506520" y="4237200"/>
            <a:chExt cx="8435880" cy="1736640"/>
          </a:xfrm>
        </p:grpSpPr>
        <p:pic>
          <p:nvPicPr>
            <p:cNvPr id="354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06520" y="4237200"/>
              <a:ext cx="8435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33520" y="4267080"/>
              <a:ext cx="838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0" spc="-1" strike="noStrike">
                  <a:solidFill>
                    <a:srgbClr val="000000"/>
                  </a:solidFill>
                  <a:latin typeface="Franklin Gothic Book"/>
                </a:rPr>
                <a:t>Prudencia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6" name="11 Rectángulo"/>
          <p:cNvSpPr/>
          <p:nvPr/>
        </p:nvSpPr>
        <p:spPr>
          <a:xfrm rot="16200000">
            <a:off x="-1927080" y="304452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7 Rectángulo"/>
          <p:cNvGrpSpPr/>
          <p:nvPr/>
        </p:nvGrpSpPr>
        <p:grpSpPr>
          <a:xfrm>
            <a:off x="506520" y="884160"/>
            <a:ext cx="8435880" cy="743040"/>
            <a:chOff x="506520" y="884160"/>
            <a:chExt cx="8435880" cy="743040"/>
          </a:xfrm>
        </p:grpSpPr>
        <p:pic>
          <p:nvPicPr>
            <p:cNvPr id="358" name="7 Rectángulo" descr=""/>
            <p:cNvPicPr/>
            <p:nvPr/>
          </p:nvPicPr>
          <p:blipFill>
            <a:blip r:embed="rId1"/>
            <a:stretch/>
          </p:blipFill>
          <p:spPr>
            <a:xfrm>
              <a:off x="506520" y="884160"/>
              <a:ext cx="84358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33520" y="914400"/>
              <a:ext cx="8381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</a:rPr>
                <a:t>Cuando la información está libre de errores materiales y de sesgos o prejuicios y los usuarios pueden confiar  que es la imagen fiel de lo que se pretende representar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0" name="8 Rectángulo"/>
          <p:cNvGrpSpPr/>
          <p:nvPr/>
        </p:nvGrpSpPr>
        <p:grpSpPr>
          <a:xfrm>
            <a:off x="506520" y="1646280"/>
            <a:ext cx="8435880" cy="1736640"/>
            <a:chOff x="506520" y="1646280"/>
            <a:chExt cx="8435880" cy="1736640"/>
          </a:xfrm>
        </p:grpSpPr>
        <p:pic>
          <p:nvPicPr>
            <p:cNvPr id="361" name="8 Rectángulo" descr=""/>
            <p:cNvPicPr/>
            <p:nvPr/>
          </p:nvPicPr>
          <p:blipFill>
            <a:blip r:embed="rId2"/>
            <a:stretch/>
          </p:blipFill>
          <p:spPr>
            <a:xfrm>
              <a:off x="506520" y="1646280"/>
              <a:ext cx="8435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33520" y="1676520"/>
              <a:ext cx="83818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400" spc="-1" strike="noStrike">
                  <a:solidFill>
                    <a:srgbClr val="000000"/>
                  </a:solidFill>
                  <a:latin typeface="Franklin Gothic Book"/>
                </a:rPr>
                <a:t>Fiabilidad</a:t>
              </a:r>
              <a:endParaRPr b="0" lang="en-US" sz="5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9 Rectángulo"/>
          <p:cNvGrpSpPr/>
          <p:nvPr/>
        </p:nvGrpSpPr>
        <p:grpSpPr>
          <a:xfrm>
            <a:off x="506520" y="3475080"/>
            <a:ext cx="8435880" cy="669960"/>
            <a:chOff x="506520" y="3475080"/>
            <a:chExt cx="8435880" cy="669960"/>
          </a:xfrm>
        </p:grpSpPr>
        <p:pic>
          <p:nvPicPr>
            <p:cNvPr id="364" name="9 Rectángulo" descr=""/>
            <p:cNvPicPr/>
            <p:nvPr/>
          </p:nvPicPr>
          <p:blipFill>
            <a:blip r:embed="rId3"/>
            <a:stretch/>
          </p:blipFill>
          <p:spPr>
            <a:xfrm>
              <a:off x="506520" y="3475080"/>
              <a:ext cx="84358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33520" y="35053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La obtención de la información está sujeta a costos excesivo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6" name="10 Rectángulo"/>
          <p:cNvGrpSpPr/>
          <p:nvPr/>
        </p:nvGrpSpPr>
        <p:grpSpPr>
          <a:xfrm>
            <a:off x="506520" y="4237200"/>
            <a:ext cx="8435880" cy="1736640"/>
            <a:chOff x="506520" y="4237200"/>
            <a:chExt cx="8435880" cy="1736640"/>
          </a:xfrm>
        </p:grpSpPr>
        <p:pic>
          <p:nvPicPr>
            <p:cNvPr id="367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06520" y="4237200"/>
              <a:ext cx="8435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3520" y="4267080"/>
              <a:ext cx="838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ranklin Gothic Book"/>
                </a:rPr>
                <a:t>Equilibrio entre Costo y Beneficio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11 Rectángulo"/>
          <p:cNvSpPr/>
          <p:nvPr/>
        </p:nvSpPr>
        <p:spPr>
          <a:xfrm rot="16200000">
            <a:off x="-1923840" y="312408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8001000" cy="236232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ACTIVIDAD 3: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 EJERCICIO 1 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MARCO CONCEPTUAL DE LA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 NIIF – PYME.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5 Rectángulo"/>
          <p:cNvSpPr/>
          <p:nvPr/>
        </p:nvSpPr>
        <p:spPr>
          <a:xfrm rot="16200000">
            <a:off x="-1846080" y="29685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7 Rectángulo"/>
          <p:cNvGrpSpPr/>
          <p:nvPr/>
        </p:nvGrpSpPr>
        <p:grpSpPr>
          <a:xfrm>
            <a:off x="944640" y="1706400"/>
            <a:ext cx="7407360" cy="4432320"/>
            <a:chOff x="944640" y="1706400"/>
            <a:chExt cx="7407360" cy="4432320"/>
          </a:xfrm>
        </p:grpSpPr>
        <p:pic>
          <p:nvPicPr>
            <p:cNvPr id="373" name="7 Rectángulo" descr=""/>
            <p:cNvPicPr/>
            <p:nvPr/>
          </p:nvPicPr>
          <p:blipFill>
            <a:blip r:embed="rId1"/>
            <a:stretch/>
          </p:blipFill>
          <p:spPr>
            <a:xfrm>
              <a:off x="944640" y="1706400"/>
              <a:ext cx="7407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990720" y="1752480"/>
              <a:ext cx="73152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674640"/>
            <a:ext cx="7315200" cy="8352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AR" sz="1800" spc="-1" strike="noStrike">
                <a:solidFill>
                  <a:srgbClr val="ffff00"/>
                </a:solidFill>
                <a:latin typeface="Franklin Gothic Medium"/>
              </a:rPr>
              <a:t>ACTIVIDAD 3, EJERCICIO 1: MARCO CONCEPTUAL DE LA NIIF - PYM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76" name="1 CuadroTexto"/>
          <p:cNvGrpSpPr/>
          <p:nvPr/>
        </p:nvGrpSpPr>
        <p:grpSpPr>
          <a:xfrm>
            <a:off x="1109520" y="1871640"/>
            <a:ext cx="7077240" cy="4029120"/>
            <a:chOff x="1109520" y="1871640"/>
            <a:chExt cx="7077240" cy="4029120"/>
          </a:xfrm>
        </p:grpSpPr>
        <p:pic>
          <p:nvPicPr>
            <p:cNvPr id="377" name="1 CuadroTexto" descr=""/>
            <p:cNvPicPr/>
            <p:nvPr/>
          </p:nvPicPr>
          <p:blipFill>
            <a:blip r:embed="rId2"/>
            <a:stretch/>
          </p:blipFill>
          <p:spPr>
            <a:xfrm>
              <a:off x="1109520" y="1871640"/>
              <a:ext cx="7077240" cy="40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143000" y="1905120"/>
              <a:ext cx="701028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3672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Medium"/>
                </a:rPr>
                <a:t>COSTO HISTÓRICO DE UN ACTIVO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Mediu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La empresa </a:t>
              </a:r>
              <a:r>
                <a:rPr b="1" lang="es-ES" sz="1800" spc="-1" strike="noStrike">
                  <a:solidFill>
                    <a:srgbClr val="0d0d0d"/>
                  </a:solidFill>
                  <a:latin typeface="Franklin Gothic Medium"/>
                </a:rPr>
                <a:t>"NIIF - PYME, C. A."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 adquirió un galpón para usarlo como depósito por  </a:t>
              </a:r>
              <a:r>
                <a:rPr b="1" lang="es-ES" sz="1800" spc="-1" strike="noStrike">
                  <a:solidFill>
                    <a:srgbClr val="0d0d0d"/>
                  </a:solidFill>
                  <a:latin typeface="Franklin Gothic Medium"/>
                </a:rPr>
                <a:t>US$ 1.000.000.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 En el momento de la adquisición incurrió en los siguientes gastos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-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Honorarios y registros = 2.50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-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Sustitución de paredes = 50.00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-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Gastos de administración =  1.00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Las paredes sustituidas se encontraban totalmente deterioradas y eran necesarias para poner el activo en funcionamiento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9" name="8 Rectángulo"/>
          <p:cNvSpPr/>
          <p:nvPr/>
        </p:nvSpPr>
        <p:spPr>
          <a:xfrm rot="16200000">
            <a:off x="-1846080" y="3120840"/>
            <a:ext cx="45180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Rectángulo"/>
          <p:cNvSpPr/>
          <p:nvPr/>
        </p:nvSpPr>
        <p:spPr>
          <a:xfrm>
            <a:off x="762120" y="1066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Cálculos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Medium"/>
              </a:rPr>
              <a:t>La empresa procederá en el momento de la compra a realizar lo siguiente</a:t>
            </a:r>
            <a:r>
              <a:rPr b="0" lang="es-ES" sz="20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219320" y="2362320"/>
          <a:ext cx="6933960" cy="1371600"/>
        </p:xfrm>
        <a:graphic>
          <a:graphicData uri="http://schemas.openxmlformats.org/drawingml/2006/table">
            <a:tbl>
              <a:tblPr/>
              <a:tblGrid>
                <a:gridCol w="1224000"/>
                <a:gridCol w="990360"/>
                <a:gridCol w="1224000"/>
                <a:gridCol w="988920"/>
                <a:gridCol w="989280"/>
                <a:gridCol w="1517400"/>
              </a:tblGrid>
              <a:tr h="274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ecio Pagad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Gastos de honorarios y regis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.5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Sustitución de pare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.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otal Costo Histó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052.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4 CuadroTexto"/>
          <p:cNvSpPr/>
          <p:nvPr/>
        </p:nvSpPr>
        <p:spPr>
          <a:xfrm>
            <a:off x="1371600" y="3733920"/>
            <a:ext cx="6858000" cy="2209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Franklin Gothic Medium"/>
              </a:rPr>
              <a:t>Comentari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Franklin Gothic Medium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Medium"/>
              </a:rPr>
              <a:t>Forman parte del costo el precio pagado por la adquisición, más todos los costos directamente atribuibles a la adquisición del activo, igualmente aquellos costos necesarios para poner el activo en funcionamiento, en consecuencia los gastos de administración quedarían excluidos y se llevan a resultados del ejercicio</a:t>
            </a:r>
            <a:r>
              <a:rPr b="1" lang="es-ES" sz="18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8 Rectángulo"/>
          <p:cNvSpPr/>
          <p:nvPr/>
        </p:nvSpPr>
        <p:spPr>
          <a:xfrm rot="16200000">
            <a:off x="-1682640" y="327312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676520" y="838080"/>
          <a:ext cx="5790960" cy="1428840"/>
        </p:xfrm>
        <a:graphic>
          <a:graphicData uri="http://schemas.openxmlformats.org/drawingml/2006/table">
            <a:tbl>
              <a:tblPr/>
              <a:tblGrid>
                <a:gridCol w="2958840"/>
                <a:gridCol w="638280"/>
                <a:gridCol w="1090800"/>
                <a:gridCol w="1103040"/>
              </a:tblGrid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/12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SA NIIF - PYME, C.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ENTOS CON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VEZ ADOPTADA LA NIIF-PY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presados en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371600" y="2514600"/>
          <a:ext cx="7543800" cy="3086280"/>
        </p:xfrm>
        <a:graphic>
          <a:graphicData uri="http://schemas.openxmlformats.org/drawingml/2006/table">
            <a:tbl>
              <a:tblPr/>
              <a:tblGrid>
                <a:gridCol w="331920"/>
                <a:gridCol w="3684600"/>
                <a:gridCol w="793440"/>
                <a:gridCol w="1359000"/>
                <a:gridCol w="1374840"/>
              </a:tblGrid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2.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registrar adquisición de gal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uso de depósit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7 Rectángulo"/>
          <p:cNvSpPr/>
          <p:nvPr/>
        </p:nvSpPr>
        <p:spPr>
          <a:xfrm rot="16200000">
            <a:off x="-1846080" y="36543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033560"/>
            <a:ext cx="7772400" cy="457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Franklin Gothic Medium"/>
              </a:rPr>
              <a:t>El Contador Publico: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36" name="8 Marcador de contenido"/>
          <p:cNvGrpSpPr/>
          <p:nvPr/>
        </p:nvGrpSpPr>
        <p:grpSpPr>
          <a:xfrm>
            <a:off x="1060560" y="1749600"/>
            <a:ext cx="7785000" cy="3870000"/>
            <a:chOff x="1060560" y="1749600"/>
            <a:chExt cx="7785000" cy="3870000"/>
          </a:xfrm>
        </p:grpSpPr>
        <p:pic>
          <p:nvPicPr>
            <p:cNvPr id="237" name="8 Marcador de contenido" descr=""/>
            <p:cNvPicPr/>
            <p:nvPr/>
          </p:nvPicPr>
          <p:blipFill>
            <a:blip r:embed="rId1"/>
            <a:stretch/>
          </p:blipFill>
          <p:spPr>
            <a:xfrm>
              <a:off x="1060560" y="1749600"/>
              <a:ext cx="7785000" cy="38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66680" y="1752480"/>
              <a:ext cx="777240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Debe de recordar la intención y propósito de la investigac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Tener la habilidad Técnica y razonamiento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La independencia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Imaginación e integridad distintas a nuestra profes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0" y="5668920"/>
            <a:ext cx="163044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696080" cy="419112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ACTIVIDAD 4:</a:t>
            </a:r>
            <a:br>
              <a:rPr sz="4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EJERCICIO 2</a:t>
            </a:r>
            <a:br>
              <a:rPr sz="4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MARCO CONCEPTUAL DE LA</a:t>
            </a:r>
            <a:br>
              <a:rPr sz="4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NIIF – PY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5 Rectángulo"/>
          <p:cNvSpPr/>
          <p:nvPr/>
        </p:nvSpPr>
        <p:spPr>
          <a:xfrm rot="16200000">
            <a:off x="-1693800" y="3349440"/>
            <a:ext cx="4518000" cy="368280"/>
          </a:xfrm>
          <a:prstGeom prst="rect">
            <a:avLst/>
          </a:prstGeom>
          <a:solidFill>
            <a:srgbClr val="cdd7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6 Rectángulo"/>
          <p:cNvGrpSpPr/>
          <p:nvPr/>
        </p:nvGrpSpPr>
        <p:grpSpPr>
          <a:xfrm>
            <a:off x="1036800" y="1646280"/>
            <a:ext cx="7905600" cy="3790800"/>
            <a:chOff x="1036800" y="1646280"/>
            <a:chExt cx="7905600" cy="3790800"/>
          </a:xfrm>
        </p:grpSpPr>
        <p:pic>
          <p:nvPicPr>
            <p:cNvPr id="390" name="6 Rectángulo" descr=""/>
            <p:cNvPicPr/>
            <p:nvPr/>
          </p:nvPicPr>
          <p:blipFill>
            <a:blip r:embed="rId1"/>
            <a:stretch/>
          </p:blipFill>
          <p:spPr>
            <a:xfrm>
              <a:off x="1036800" y="1646280"/>
              <a:ext cx="790560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066680" y="1676520"/>
              <a:ext cx="784872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250920"/>
            <a:ext cx="8001000" cy="4572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Franklin Gothic Medium"/>
              </a:rPr>
              <a:t>ACTIVIDAD 4, EJERCICIO 2: MARCO CONCEPTUAL DE LA NIIF – PYME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066680" y="1600200"/>
          <a:ext cx="7696440" cy="336240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66876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empresa "Conceptos S.A." adquirió unas instalaciones industriales por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500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En el momento de la compra se concedió un descuento sobre el precio de contado del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%. 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to el transporte como los seguros por el traslado, que ascendieron a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20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son por cuenta del comprado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 pagó también un seguro especial a favor del conductor del camión, por importe de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5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el cual se acordó que fuera por cuenta del vendedor de la instalación industrial. Por el adiestramiento a un empleado en el manejo de la instalaciones se pagó a un representante de la empresa vendedora, un total de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20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cantidad pagada al con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4" name="8 Rectángulo"/>
          <p:cNvGrpSpPr/>
          <p:nvPr/>
        </p:nvGrpSpPr>
        <p:grpSpPr>
          <a:xfrm>
            <a:off x="1036800" y="871560"/>
            <a:ext cx="7905600" cy="665280"/>
            <a:chOff x="1036800" y="871560"/>
            <a:chExt cx="7905600" cy="665280"/>
          </a:xfrm>
        </p:grpSpPr>
        <p:pic>
          <p:nvPicPr>
            <p:cNvPr id="395" name="8 Rectángulo" descr=""/>
            <p:cNvPicPr/>
            <p:nvPr/>
          </p:nvPicPr>
          <p:blipFill>
            <a:blip r:embed="rId2"/>
            <a:stretch/>
          </p:blipFill>
          <p:spPr>
            <a:xfrm>
              <a:off x="1036800" y="871560"/>
              <a:ext cx="79056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066680" y="898560"/>
              <a:ext cx="784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Book"/>
                </a:rPr>
                <a:t>COSTO HISTORICO DE UN ACTIV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7" name="7 Rectángulo"/>
          <p:cNvSpPr/>
          <p:nvPr/>
        </p:nvSpPr>
        <p:spPr>
          <a:xfrm rot="16200000">
            <a:off x="-1922400" y="3425760"/>
            <a:ext cx="4518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9 Rectángulo"/>
          <p:cNvGrpSpPr/>
          <p:nvPr/>
        </p:nvGrpSpPr>
        <p:grpSpPr>
          <a:xfrm>
            <a:off x="884160" y="3925800"/>
            <a:ext cx="8820360" cy="1974960"/>
            <a:chOff x="884160" y="3925800"/>
            <a:chExt cx="8820360" cy="1974960"/>
          </a:xfrm>
        </p:grpSpPr>
        <p:pic>
          <p:nvPicPr>
            <p:cNvPr id="399" name="9 Rectángulo" descr=""/>
            <p:cNvPicPr/>
            <p:nvPr/>
          </p:nvPicPr>
          <p:blipFill>
            <a:blip r:embed="rId1"/>
            <a:stretch/>
          </p:blipFill>
          <p:spPr>
            <a:xfrm>
              <a:off x="884160" y="3925800"/>
              <a:ext cx="88203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990720" y="3962520"/>
              <a:ext cx="79246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401" name=""/>
          <p:cNvGraphicFramePr/>
          <p:nvPr/>
        </p:nvGraphicFramePr>
        <p:xfrm>
          <a:off x="673200" y="1295280"/>
          <a:ext cx="7924680" cy="61920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La empresa procederá en el momento de la compra a realizar lo siguien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990720" y="2133720"/>
          <a:ext cx="7772400" cy="16002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560"/>
                <a:gridCol w="1554480"/>
                <a:gridCol w="1554120"/>
              </a:tblGrid>
              <a:tr h="399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ecio Pagad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0.000    *   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65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ransporte y Seguros (valor razona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Medium"/>
                        </a:rPr>
                        <a:t>    </a:t>
                      </a: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Medium"/>
                        </a:rPr>
                        <a:t>2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otal costo Histó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85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3" name="7 Rectángulo"/>
          <p:cNvGrpSpPr/>
          <p:nvPr/>
        </p:nvGrpSpPr>
        <p:grpSpPr>
          <a:xfrm>
            <a:off x="3005280" y="201600"/>
            <a:ext cx="3255840" cy="663480"/>
            <a:chOff x="3005280" y="201600"/>
            <a:chExt cx="3255840" cy="663480"/>
          </a:xfrm>
        </p:grpSpPr>
        <p:pic>
          <p:nvPicPr>
            <p:cNvPr id="404" name="7 Rectángulo" descr=""/>
            <p:cNvPicPr/>
            <p:nvPr/>
          </p:nvPicPr>
          <p:blipFill>
            <a:blip r:embed="rId2"/>
            <a:stretch/>
          </p:blipFill>
          <p:spPr>
            <a:xfrm>
              <a:off x="3005280" y="201600"/>
              <a:ext cx="325584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035160" y="22860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Franklin Gothic Book"/>
                </a:rPr>
                <a:t>CALCULOS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990720" y="3936960"/>
          <a:ext cx="7924680" cy="1854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85436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 u="sng">
                          <a:solidFill>
                            <a:srgbClr val="ffffff"/>
                          </a:solidFill>
                          <a:uFillTx/>
                          <a:latin typeface="Franklin Gothic Medium"/>
                        </a:rPr>
                        <a:t>Comentario</a:t>
                      </a: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:     El resto de las partidas no son por cuenta del comprador, por lo que no forman parte del costo de adquisición. En lo que se refiere a los gastos de adiestramiento, es evidente que no constituirán costo de adquisición, pues no son gastos necesarios para dejar el activo instalado conforme a la Gerencia, susceptible de funcionar, por tanto, constituirán gastos del ejercicio económ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407" name="10 Rectángulo"/>
          <p:cNvSpPr/>
          <p:nvPr/>
        </p:nvSpPr>
        <p:spPr>
          <a:xfrm rot="16200000">
            <a:off x="-1846080" y="3095280"/>
            <a:ext cx="4518000" cy="368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838080" y="2819520"/>
          <a:ext cx="7696440" cy="2743200"/>
        </p:xfrm>
        <a:graphic>
          <a:graphicData uri="http://schemas.openxmlformats.org/drawingml/2006/table">
            <a:tbl>
              <a:tblPr/>
              <a:tblGrid>
                <a:gridCol w="451080"/>
                <a:gridCol w="3870360"/>
                <a:gridCol w="795240"/>
                <a:gridCol w="1289160"/>
                <a:gridCol w="1290600"/>
              </a:tblGrid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piedades, Planta y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65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piedades, Planta y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Banco (Instrumento Financie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h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85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ara registrar adquisición de Instalación Industrial a Costo Histó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371600" y="380880"/>
          <a:ext cx="6781680" cy="2210040"/>
        </p:xfrm>
        <a:graphic>
          <a:graphicData uri="http://schemas.openxmlformats.org/drawingml/2006/table">
            <a:tbl>
              <a:tblPr/>
              <a:tblGrid>
                <a:gridCol w="3465360"/>
                <a:gridCol w="746280"/>
                <a:gridCol w="1278000"/>
                <a:gridCol w="1292040"/>
              </a:tblGrid>
              <a:tr h="368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/12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SA “Conceptos, C.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ENTOS CON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VEZ ADOPTADAS LAS VEN-N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presados en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0" name="7 Rectángulo"/>
          <p:cNvSpPr/>
          <p:nvPr/>
        </p:nvSpPr>
        <p:spPr>
          <a:xfrm rot="16200000">
            <a:off x="-1693800" y="2892240"/>
            <a:ext cx="451800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5 Marcador de número de diapositiva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3833-B0BE-4F5D-BFF1-37C5041BA82E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006640"/>
            <a:ext cx="8077320" cy="990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13" name="Picture 2" descr="http://sites.google.com/site/reveniif/home/NIIFPyMEs.JPG?attredirects=0"/>
          <p:cNvPicPr/>
          <p:nvPr/>
        </p:nvPicPr>
        <p:blipFill>
          <a:blip r:embed="rId1"/>
          <a:stretch/>
        </p:blipFill>
        <p:spPr>
          <a:xfrm rot="791400">
            <a:off x="5740560" y="3359160"/>
            <a:ext cx="172080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7097760" cy="730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Pero como llevar acabo una investigación especial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8 Marcador de contenido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7547040" cy="4060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ttps://encrypted-tbn0.gstatic.com/images?q=tbn:ANd9GcTZ3Zbb0AJTC00a1FcP4VIGN47SkAu_KvC6u4z607lfOd5ukCwO90X1tDQY"/>
          <p:cNvPicPr/>
          <p:nvPr/>
        </p:nvPicPr>
        <p:blipFill>
          <a:blip r:embed="rId2"/>
          <a:stretch/>
        </p:blipFill>
        <p:spPr>
          <a:xfrm>
            <a:off x="7623000" y="0"/>
            <a:ext cx="1521000" cy="112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454040" y="122400"/>
            <a:ext cx="995400" cy="809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831080" cy="761760"/>
          </a:xfrm>
          <a:prstGeom prst="rect">
            <a:avLst/>
          </a:prstGeom>
          <a:solidFill>
            <a:srgbClr val="ca4b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Franklin Gothic Medium"/>
              </a:rPr>
              <a:t>1. Planeación de Programa auditoria Especia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14 Rectángulo redondeado"/>
          <p:cNvSpPr/>
          <p:nvPr/>
        </p:nvSpPr>
        <p:spPr>
          <a:xfrm>
            <a:off x="684360" y="2565360"/>
            <a:ext cx="7848360" cy="151128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ntender Claramente los Objetivos y proced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studio e interpretación de términos contractuales, bajo una CARTA DE COMPROMI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1142640"/>
            <a:ext cx="7410240" cy="91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Franklin Gothic Medium"/>
              </a:rPr>
              <a:t>Factores de no seguridad en la investigación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50920" y="5315040"/>
            <a:ext cx="1365120" cy="1542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477200" y="2498760"/>
            <a:ext cx="1009440" cy="1152360"/>
          </a:xfrm>
          <a:prstGeom prst="rect">
            <a:avLst/>
          </a:prstGeom>
          <a:ln w="0">
            <a:noFill/>
          </a:ln>
        </p:spPr>
      </p:pic>
      <p:sp>
        <p:nvSpPr>
          <p:cNvPr id="249" name="6 Esquina doblada"/>
          <p:cNvSpPr/>
          <p:nvPr/>
        </p:nvSpPr>
        <p:spPr>
          <a:xfrm>
            <a:off x="1692360" y="2349360"/>
            <a:ext cx="5616360" cy="3240360"/>
          </a:xfrm>
          <a:prstGeom prst="foldedCorner">
            <a:avLst>
              <a:gd name="adj" fmla="val 16666"/>
            </a:avLst>
          </a:prstGeom>
          <a:solidFill>
            <a:srgbClr val="04516d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os Registros y Documentos Disponibles insuficien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variedad de posibles métodos de fraude o desfalc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relación Costo/Beneficio de la investig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07640"/>
            <a:ext cx="6782040" cy="103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Reserva y Oportunidades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1" name="15 Marcador de contenido" descr=""/>
          <p:cNvPicPr/>
          <p:nvPr/>
        </p:nvPicPr>
        <p:blipFill>
          <a:blip r:embed="rId1"/>
          <a:stretch/>
        </p:blipFill>
        <p:spPr>
          <a:xfrm>
            <a:off x="841320" y="1249200"/>
            <a:ext cx="8113680" cy="5718240"/>
          </a:xfrm>
          <a:prstGeom prst="rect">
            <a:avLst/>
          </a:prstGeom>
          <a:ln w="0">
            <a:noFill/>
          </a:ln>
        </p:spPr>
      </p:pic>
      <p:sp>
        <p:nvSpPr>
          <p:cNvPr id="252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17 Llamada rectangular"/>
          <p:cNvSpPr/>
          <p:nvPr/>
        </p:nvSpPr>
        <p:spPr>
          <a:xfrm>
            <a:off x="3564000" y="3683160"/>
            <a:ext cx="2531880" cy="609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96a1b"/>
          </a:solidFill>
          <a:ln w="25560">
            <a:solidFill>
              <a:srgbClr val="5c2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d0d0d"/>
                </a:solidFill>
                <a:latin typeface="Franklin Gothic Book"/>
              </a:rPr>
              <a:t>¿Cuándo se sospecha de fraude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442880" cy="1346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http://t0.gstatic.com/images?q=tbn:ANd9GcRRwCSZ9I4kgRBBwg-Jn3mag4KAlWkFFVRyavRwq7PKQX0uSvQHHURsECrz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9920" y="514440"/>
            <a:ext cx="7831080" cy="457200"/>
          </a:xfrm>
          <a:prstGeom prst="rect">
            <a:avLst/>
          </a:prstGeom>
          <a:solidFill>
            <a:srgbClr val="0679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Franklin Gothic Medium"/>
              </a:rPr>
              <a:t>PROBLEMAS DE VALUACION: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8 Marcador de contenido" descr=""/>
          <p:cNvPicPr/>
          <p:nvPr/>
        </p:nvPicPr>
        <p:blipFill>
          <a:blip r:embed="rId1"/>
          <a:stretch/>
        </p:blipFill>
        <p:spPr>
          <a:xfrm>
            <a:off x="914400" y="1279440"/>
            <a:ext cx="7772400" cy="4835520"/>
          </a:xfrm>
          <a:prstGeom prst="rect">
            <a:avLst/>
          </a:prstGeom>
          <a:ln w="0">
            <a:noFill/>
          </a:ln>
        </p:spPr>
      </p:pic>
      <p:sp>
        <p:nvSpPr>
          <p:cNvPr id="258" name="4 Rectángulo"/>
          <p:cNvSpPr/>
          <p:nvPr/>
        </p:nvSpPr>
        <p:spPr>
          <a:xfrm>
            <a:off x="1042920" y="549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10 Rectángulo"/>
          <p:cNvGrpSpPr/>
          <p:nvPr/>
        </p:nvGrpSpPr>
        <p:grpSpPr>
          <a:xfrm>
            <a:off x="3249720" y="5181480"/>
            <a:ext cx="3114720" cy="706680"/>
            <a:chOff x="3249720" y="5181480"/>
            <a:chExt cx="3114720" cy="706680"/>
          </a:xfrm>
        </p:grpSpPr>
        <p:pic>
          <p:nvPicPr>
            <p:cNvPr id="260" name="10 Rectángulo" descr=""/>
            <p:cNvPicPr/>
            <p:nvPr/>
          </p:nvPicPr>
          <p:blipFill>
            <a:blip r:embed="rId2"/>
            <a:stretch/>
          </p:blipFill>
          <p:spPr>
            <a:xfrm>
              <a:off x="3249720" y="5181480"/>
              <a:ext cx="3114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276720" y="5207040"/>
              <a:ext cx="30556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Berlin Sans FB Demi"/>
                </a:rPr>
                <a:t>Los Aspectos Fiscal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762120" y="5533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consar.gob.mx/principal/imss_fusiones/imagen1.gif"/>
          <p:cNvPicPr/>
          <p:nvPr/>
        </p:nvPicPr>
        <p:blipFill>
          <a:blip r:embed="rId4"/>
          <a:stretch/>
        </p:blipFill>
        <p:spPr>
          <a:xfrm>
            <a:off x="5292720" y="3716280"/>
            <a:ext cx="4457880" cy="148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http://1.bp.blogspot.com/-jZAxBomLLng/TXT8hpEER3I/AAAAAAAAAZ4/uwWQsafItt0/s1600/contratos.jpg"/>
          <p:cNvPicPr/>
          <p:nvPr/>
        </p:nvPicPr>
        <p:blipFill>
          <a:blip r:embed="rId5"/>
          <a:stretch/>
        </p:blipFill>
        <p:spPr>
          <a:xfrm>
            <a:off x="179280" y="3141720"/>
            <a:ext cx="2067120" cy="16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7 Título"/>
          <p:cNvGrpSpPr/>
          <p:nvPr/>
        </p:nvGrpSpPr>
        <p:grpSpPr>
          <a:xfrm>
            <a:off x="536400" y="23760"/>
            <a:ext cx="8223480" cy="1457280"/>
            <a:chOff x="536400" y="23760"/>
            <a:chExt cx="8223480" cy="1457280"/>
          </a:xfrm>
        </p:grpSpPr>
        <p:pic>
          <p:nvPicPr>
            <p:cNvPr id="266" name="7 Título" descr=""/>
            <p:cNvPicPr/>
            <p:nvPr/>
          </p:nvPicPr>
          <p:blipFill>
            <a:blip r:embed="rId1"/>
            <a:stretch/>
          </p:blipFill>
          <p:spPr>
            <a:xfrm>
              <a:off x="536400" y="23760"/>
              <a:ext cx="8223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1280" y="189000"/>
              <a:ext cx="800100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Franklin Gothic Medium"/>
                </a:rPr>
                <a:t>Procedimientos adicionales a Investigación General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8" name="8 Marcador de contenido" descr=""/>
          <p:cNvPicPr/>
          <p:nvPr/>
        </p:nvPicPr>
        <p:blipFill>
          <a:blip r:embed="rId2"/>
          <a:stretch/>
        </p:blipFill>
        <p:spPr>
          <a:xfrm>
            <a:off x="743040" y="1182600"/>
            <a:ext cx="754704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6:24Z</dcterms:created>
  <dc:creator>WENDY MENJIVAR</dc:creator>
  <dc:description/>
  <dc:language>en-US</dc:language>
  <cp:lastModifiedBy>WinuE</cp:lastModifiedBy>
  <dcterms:modified xsi:type="dcterms:W3CDTF">2013-11-15T05:00:29Z</dcterms:modified>
  <cp:revision>696</cp:revision>
  <dc:subject/>
  <dc:title>Taller NIIF-PYME  El Salvad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3082</vt:lpwstr>
  </property>
</Properties>
</file>