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23.png" ContentType="image/png"/>
  <Override PartName="/ppt/media/image30.gif" ContentType="image/gif"/>
  <Override PartName="/ppt/media/image1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26.jpeg" ContentType="image/jpeg"/>
  <Override PartName="/ppt/media/image5.gif" ContentType="image/gif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3269-2B2A-48F5-BF5C-7EA6DFC7FEF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B3E-9836-4EA2-AA60-D0EAE88CEE5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A3C-3839-424B-ACB3-019639A84AFC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822-4966-4460-805E-196F000E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8FC0-02C0-47C7-8F0C-4C4292D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7CE0-0820-4F48-A144-96EDBDE9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F241-A61E-4F80-BB77-6B3E3F06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06D9-9AD3-4A15-B9CD-67D9E2FB0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171-B082-4E2D-AA5D-9BD1C41E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CB61-35EB-467F-8DD4-BF18F385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8F4A-75F7-4F1D-AAB5-E9A1BF35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E15E-419C-47E1-9AB1-90BC2345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8677-C890-417A-9BAA-E40F3524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7269-CA17-44F8-B661-753952F6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8F8-2497-4CC9-B604-AE06BE0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E10-802E-476E-8872-2B9E7A78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CF60-72F2-4A1C-A9A9-3112FEA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44A8-1DFA-4CE1-ACAE-E7FB6D9C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7FDB9-020E-4323-8AAD-84E5D4F32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C6BC-F5B9-4C6C-BDDD-41FDDAF09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55CA-2EBF-4C66-BF50-CE39D4FA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6F7B6-7963-4F5E-A3D9-D6A17B29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DE0D-CC9A-442D-BB05-43F35E7C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C85AD-A6A7-436A-A975-2F35BDF2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FA05D-15D0-4247-B3FF-E1372CB5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B4C-D4B9-4932-A925-B48C803F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B49F-F28A-477B-972C-D9BD9BA6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70007-4C75-4A6D-A49C-15BA2F5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FE38-4829-4A37-B5B0-2D3B12F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C882D-BE4D-4278-98B4-CB47809A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86DF7-AC34-4948-A8B5-33DC41A0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E0B3-2556-4935-89CA-0457DE30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84E5D-6F26-436C-BB11-7E8A3D0F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00F9E-FA64-4149-BEE2-8270A534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CD21-B536-4100-B1E0-0FCCE0EF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0A6C-888F-4AB6-8468-F03119C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AE80-D802-4137-A6EB-465719A0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825A0-68FC-47DC-9006-F4646638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3E197-17C0-4C31-B1EB-FB24F606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DE205-D6DE-4C93-AB2B-28736CE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0D08B-8857-4596-AFD4-12796D48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51AFF-3426-4B76-BAEB-E42FA3D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CD486-B12A-40DB-ADEB-2325E45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E1B9-5639-4B12-9235-969ABAC9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971B6-DF3F-41B7-828B-46F1CE88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320AF-7AEA-4CE2-A22F-3095ED368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6CC2-CAAC-44EC-B2B5-2CB3F8FB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96E3-41B4-42A9-A199-D823C7D3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66ECE-0BAA-4508-B8DC-8D6F5DF7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6C477-C377-44E9-973A-581D0514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12CA7-2EF8-4B9A-B325-9762C53E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19E1-5F0B-41CB-8098-433478F5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6EDD2-519B-420D-B89B-F7CB261B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856A9-1159-4222-8EA6-86149E11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09D89-A10C-4B84-A4A0-FCDB194E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752E8-F1F1-48D2-AE26-9991694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81DE4-347E-4AF5-BA45-E11FDCFE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F79DC-D868-4E39-8777-C2CA47F2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7600-3086-4DCF-843D-0622F53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41C67-08C4-49AB-93A1-E7BC21BF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389-DAE4-4D23-B06B-7C529329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36A-1439-4C6B-97F5-C56E535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FE9-78E6-49C7-8199-5D81A4DA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FACC-8AF0-409F-AB45-F0E8A178E46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E47B-6534-4B70-BA3C-013EBE1E95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7D2B-C3C6-49F0-A399-C255FB5CFE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659-E483-434E-B0E8-636698984C68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A9C9-2BDE-4173-AC9C-67925AC894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334800" y="2505240"/>
            <a:ext cx="8448840" cy="1603080"/>
          </a:xfrm>
          <a:prstGeom prst="rect">
            <a:avLst/>
          </a:prstGeom>
          <a:ln w="0">
            <a:noFill/>
          </a:ln>
        </p:spPr>
      </p:pic>
      <p:pic>
        <p:nvPicPr>
          <p:cNvPr id="223" name="10 Imagen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71640" cy="207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diariopresente.com.mx/videos/investigacionespecial_main.jpg"/>
          <p:cNvPicPr/>
          <p:nvPr/>
        </p:nvPicPr>
        <p:blipFill>
          <a:blip r:embed="rId3"/>
          <a:srcRect l="8486" t="6196" r="0" b="13243"/>
          <a:stretch/>
        </p:blipFill>
        <p:spPr>
          <a:xfrm>
            <a:off x="6372360" y="0"/>
            <a:ext cx="27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http://4.bp.blogspot.com/_lpxunuhcniQ/S8hbgKMNSoI/AAAAAAAAAPk/TTgcTRRJwNU/s1600/justicia.gif"/>
          <p:cNvPicPr/>
          <p:nvPr/>
        </p:nvPicPr>
        <p:blipFill>
          <a:blip r:embed="rId4"/>
          <a:stretch/>
        </p:blipFill>
        <p:spPr>
          <a:xfrm>
            <a:off x="0" y="0"/>
            <a:ext cx="3795840" cy="2571840"/>
          </a:xfrm>
          <a:prstGeom prst="rect">
            <a:avLst/>
          </a:prstGeom>
          <a:ln w="0">
            <a:noFill/>
          </a:ln>
        </p:spPr>
      </p:pic>
      <p:pic>
        <p:nvPicPr>
          <p:cNvPr id="226" name="5 Imagen" descr="20090119-businessman_dropped_p_a_hc.gif"/>
          <p:cNvPicPr/>
          <p:nvPr/>
        </p:nvPicPr>
        <p:blipFill>
          <a:blip r:embed="rId5"/>
          <a:stretch/>
        </p:blipFill>
        <p:spPr>
          <a:xfrm>
            <a:off x="-252360" y="3505320"/>
            <a:ext cx="272412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864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sp>
        <p:nvSpPr>
          <p:cNvPr id="272" name="5 Marcador de número de diapositiva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8C4B-A16B-4063-B64B-E4B77B10C563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2" descr="http://www.nocturnar.com/forum/attachments/perfiles/84782d1357592236-gif-animados-de-gracias-22649_original.gif"/>
          <p:cNvPicPr/>
          <p:nvPr/>
        </p:nvPicPr>
        <p:blipFill>
          <a:blip r:embed="rId2"/>
          <a:stretch/>
        </p:blipFill>
        <p:spPr>
          <a:xfrm>
            <a:off x="900000" y="189000"/>
            <a:ext cx="7383600" cy="5584680"/>
          </a:xfrm>
          <a:prstGeom prst="rect">
            <a:avLst/>
          </a:prstGeom>
          <a:ln w="9360">
            <a:solidFill>
              <a:srgbClr val="ff3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7 Título"/>
          <p:cNvGrpSpPr/>
          <p:nvPr/>
        </p:nvGrpSpPr>
        <p:grpSpPr>
          <a:xfrm>
            <a:off x="596880" y="566640"/>
            <a:ext cx="7967520" cy="1079640"/>
            <a:chOff x="596880" y="566640"/>
            <a:chExt cx="7967520" cy="1079640"/>
          </a:xfrm>
        </p:grpSpPr>
        <p:pic>
          <p:nvPicPr>
            <p:cNvPr id="228" name="7 Título" descr=""/>
            <p:cNvPicPr/>
            <p:nvPr/>
          </p:nvPicPr>
          <p:blipFill>
            <a:blip r:embed="rId1"/>
            <a:stretch/>
          </p:blipFill>
          <p:spPr>
            <a:xfrm>
              <a:off x="596880" y="566640"/>
              <a:ext cx="79675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55560" y="658800"/>
              <a:ext cx="7845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Franklin Gothic Medium"/>
                </a:rPr>
                <a:t>PROCESOS ESPECIAL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" name="8 Marcador de contenido"/>
          <p:cNvGrpSpPr/>
          <p:nvPr/>
        </p:nvGrpSpPr>
        <p:grpSpPr>
          <a:xfrm>
            <a:off x="633240" y="1494000"/>
            <a:ext cx="8114040" cy="3363840"/>
            <a:chOff x="633240" y="1494000"/>
            <a:chExt cx="8114040" cy="3363840"/>
          </a:xfrm>
        </p:grpSpPr>
        <p:pic>
          <p:nvPicPr>
            <p:cNvPr id="231" name="8 Marcador de contenido" descr=""/>
            <p:cNvPicPr/>
            <p:nvPr/>
          </p:nvPicPr>
          <p:blipFill>
            <a:blip r:embed="rId2"/>
            <a:stretch/>
          </p:blipFill>
          <p:spPr>
            <a:xfrm>
              <a:off x="633240" y="1494000"/>
              <a:ext cx="81140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42960" y="1500120"/>
              <a:ext cx="810108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Fraudes y Abusos de Confianz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roblemas de valoración de activ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Negociación de Contratos y controles a los contrat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Reglamentación gubernamental , principalmente tributari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Informes Especiale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7 Rectángulo"/>
          <p:cNvSpPr/>
          <p:nvPr/>
        </p:nvSpPr>
        <p:spPr>
          <a:xfrm rot="16200000">
            <a:off x="-2732040" y="3189240"/>
            <a:ext cx="613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 como apoyo técnico al Frau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2" descr="https://encrypted-tbn3.gstatic.com/images?q=tbn:ANd9GcTEwPW1STsUQtdflxT89njj_UCS3HOI0CEgTUFMZcJJDqkyeMB0iA"/>
          <p:cNvPicPr/>
          <p:nvPr/>
        </p:nvPicPr>
        <p:blipFill>
          <a:blip r:embed="rId8"/>
          <a:stretch/>
        </p:blipFill>
        <p:spPr>
          <a:xfrm>
            <a:off x="7272360" y="4863960"/>
            <a:ext cx="1871640" cy="19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033560"/>
            <a:ext cx="7772400" cy="457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Franklin Gothic Medium"/>
              </a:rPr>
              <a:t>El Contador Publico: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37" name="8 Marcador de contenido"/>
          <p:cNvGrpSpPr/>
          <p:nvPr/>
        </p:nvGrpSpPr>
        <p:grpSpPr>
          <a:xfrm>
            <a:off x="1060560" y="1749600"/>
            <a:ext cx="7785000" cy="3870000"/>
            <a:chOff x="1060560" y="1749600"/>
            <a:chExt cx="7785000" cy="3870000"/>
          </a:xfrm>
        </p:grpSpPr>
        <p:pic>
          <p:nvPicPr>
            <p:cNvPr id="238" name="8 Marcador de contenido" descr=""/>
            <p:cNvPicPr/>
            <p:nvPr/>
          </p:nvPicPr>
          <p:blipFill>
            <a:blip r:embed="rId1"/>
            <a:stretch/>
          </p:blipFill>
          <p:spPr>
            <a:xfrm>
              <a:off x="1060560" y="1749600"/>
              <a:ext cx="7785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66680" y="1752480"/>
              <a:ext cx="777240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Debe de recordar la intención y propósito de la investigac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Tener la habilidad Técnica y razonamiento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La independencia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Imaginación e integridad distintas a nuestra profes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0" y="5668920"/>
            <a:ext cx="163044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7097760" cy="730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Pero como llevar acabo una investigación especial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8 Marcador de contenido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7547040" cy="4060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s://encrypted-tbn0.gstatic.com/images?q=tbn:ANd9GcTZ3Zbb0AJTC00a1FcP4VIGN47SkAu_KvC6u4z607lfOd5ukCwO90X1tDQY"/>
          <p:cNvPicPr/>
          <p:nvPr/>
        </p:nvPicPr>
        <p:blipFill>
          <a:blip r:embed="rId2"/>
          <a:stretch/>
        </p:blipFill>
        <p:spPr>
          <a:xfrm>
            <a:off x="7623000" y="0"/>
            <a:ext cx="1521000" cy="112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454040" y="122400"/>
            <a:ext cx="995400" cy="80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831080" cy="761760"/>
          </a:xfrm>
          <a:prstGeom prst="rect">
            <a:avLst/>
          </a:prstGeom>
          <a:solidFill>
            <a:srgbClr val="ca4b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Franklin Gothic Medium"/>
              </a:rPr>
              <a:t>1. Planeación de Programa auditoria Especia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14 Rectángulo redondeado"/>
          <p:cNvSpPr/>
          <p:nvPr/>
        </p:nvSpPr>
        <p:spPr>
          <a:xfrm>
            <a:off x="684360" y="2565360"/>
            <a:ext cx="7848360" cy="15112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ntender Claramente los Objetivos y proced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studio e interpretación de términos contractuales, bajo una CARTA DE COMPROMI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1142640"/>
            <a:ext cx="741024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Franklin Gothic Medium"/>
              </a:rPr>
              <a:t>Factores de no seguridad en la investigación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50920" y="5315040"/>
            <a:ext cx="1365120" cy="1542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7477200" y="2498760"/>
            <a:ext cx="1009440" cy="1152360"/>
          </a:xfrm>
          <a:prstGeom prst="rect">
            <a:avLst/>
          </a:prstGeom>
          <a:ln w="0">
            <a:noFill/>
          </a:ln>
        </p:spPr>
      </p:pic>
      <p:sp>
        <p:nvSpPr>
          <p:cNvPr id="250" name="6 Esquina doblada"/>
          <p:cNvSpPr/>
          <p:nvPr/>
        </p:nvSpPr>
        <p:spPr>
          <a:xfrm>
            <a:off x="1692360" y="2349360"/>
            <a:ext cx="5616360" cy="3240360"/>
          </a:xfrm>
          <a:prstGeom prst="foldedCorner">
            <a:avLst>
              <a:gd name="adj" fmla="val 16666"/>
            </a:avLst>
          </a:prstGeom>
          <a:solidFill>
            <a:srgbClr val="04516d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os Registros y Documentos Disponibles insuficien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variedad de posibles métodos de fraude o desfal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relación Costo/Beneficio de la investig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107640"/>
            <a:ext cx="6782040" cy="103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Reserva y Oportunidades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2" name="15 Marcador de contenido" descr=""/>
          <p:cNvPicPr/>
          <p:nvPr/>
        </p:nvPicPr>
        <p:blipFill>
          <a:blip r:embed="rId1"/>
          <a:stretch/>
        </p:blipFill>
        <p:spPr>
          <a:xfrm>
            <a:off x="841320" y="1249200"/>
            <a:ext cx="8113680" cy="5718240"/>
          </a:xfrm>
          <a:prstGeom prst="rect">
            <a:avLst/>
          </a:prstGeom>
          <a:ln w="0">
            <a:noFill/>
          </a:ln>
        </p:spPr>
      </p:pic>
      <p:sp>
        <p:nvSpPr>
          <p:cNvPr id="25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17 Llamada rectangular"/>
          <p:cNvSpPr/>
          <p:nvPr/>
        </p:nvSpPr>
        <p:spPr>
          <a:xfrm>
            <a:off x="3564000" y="3683160"/>
            <a:ext cx="2531880" cy="609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96a1b"/>
          </a:solidFill>
          <a:ln w="25560">
            <a:solidFill>
              <a:srgbClr val="5c2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d0d0d"/>
                </a:solidFill>
                <a:latin typeface="Franklin Gothic Book"/>
              </a:rPr>
              <a:t>¿Cuándo se sospecha de fraude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442880" cy="1346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http://t0.gstatic.com/images?q=tbn:ANd9GcRRwCSZ9I4kgRBBwg-Jn3mag4KAlWkFFVRyavRwq7PKQX0uSvQHHURsECrz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9920" y="514440"/>
            <a:ext cx="7831080" cy="457200"/>
          </a:xfrm>
          <a:prstGeom prst="rect">
            <a:avLst/>
          </a:prstGeom>
          <a:solidFill>
            <a:srgbClr val="0679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00"/>
                </a:solidFill>
                <a:latin typeface="Franklin Gothic Medium"/>
              </a:rPr>
              <a:t>PROBLEMAS DE VALUACION: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8" name="8 Marcador de contenido" descr=""/>
          <p:cNvPicPr/>
          <p:nvPr/>
        </p:nvPicPr>
        <p:blipFill>
          <a:blip r:embed="rId1"/>
          <a:stretch/>
        </p:blipFill>
        <p:spPr>
          <a:xfrm>
            <a:off x="914400" y="1279440"/>
            <a:ext cx="7772400" cy="4835520"/>
          </a:xfrm>
          <a:prstGeom prst="rect">
            <a:avLst/>
          </a:prstGeom>
          <a:ln w="0">
            <a:noFill/>
          </a:ln>
        </p:spPr>
      </p:pic>
      <p:sp>
        <p:nvSpPr>
          <p:cNvPr id="259" name="4 Rectángulo"/>
          <p:cNvSpPr/>
          <p:nvPr/>
        </p:nvSpPr>
        <p:spPr>
          <a:xfrm>
            <a:off x="1042920" y="549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10 Rectángulo"/>
          <p:cNvGrpSpPr/>
          <p:nvPr/>
        </p:nvGrpSpPr>
        <p:grpSpPr>
          <a:xfrm>
            <a:off x="3249720" y="5181480"/>
            <a:ext cx="3114720" cy="706680"/>
            <a:chOff x="3249720" y="5181480"/>
            <a:chExt cx="3114720" cy="706680"/>
          </a:xfrm>
        </p:grpSpPr>
        <p:pic>
          <p:nvPicPr>
            <p:cNvPr id="261" name="10 Rectángulo" descr=""/>
            <p:cNvPicPr/>
            <p:nvPr/>
          </p:nvPicPr>
          <p:blipFill>
            <a:blip r:embed="rId2"/>
            <a:stretch/>
          </p:blipFill>
          <p:spPr>
            <a:xfrm>
              <a:off x="3249720" y="5181480"/>
              <a:ext cx="3114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76720" y="5207040"/>
              <a:ext cx="3055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Berlin Sans FB Demi"/>
                </a:rPr>
                <a:t>Los Aspectos Fiscal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>
            <a:off x="762120" y="5533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www.consar.gob.mx/principal/imss_fusiones/imagen1.gif"/>
          <p:cNvPicPr/>
          <p:nvPr/>
        </p:nvPicPr>
        <p:blipFill>
          <a:blip r:embed="rId4"/>
          <a:stretch/>
        </p:blipFill>
        <p:spPr>
          <a:xfrm>
            <a:off x="5292720" y="3716280"/>
            <a:ext cx="4457880" cy="1482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http://1.bp.blogspot.com/-jZAxBomLLng/TXT8hpEER3I/AAAAAAAAAZ4/uwWQsafItt0/s1600/contratos.jpg"/>
          <p:cNvPicPr/>
          <p:nvPr/>
        </p:nvPicPr>
        <p:blipFill>
          <a:blip r:embed="rId5"/>
          <a:stretch/>
        </p:blipFill>
        <p:spPr>
          <a:xfrm>
            <a:off x="179280" y="3141720"/>
            <a:ext cx="2067120" cy="16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7 Título"/>
          <p:cNvGrpSpPr/>
          <p:nvPr/>
        </p:nvGrpSpPr>
        <p:grpSpPr>
          <a:xfrm>
            <a:off x="536400" y="23760"/>
            <a:ext cx="8223480" cy="1457280"/>
            <a:chOff x="536400" y="23760"/>
            <a:chExt cx="8223480" cy="1457280"/>
          </a:xfrm>
        </p:grpSpPr>
        <p:pic>
          <p:nvPicPr>
            <p:cNvPr id="267" name="7 Título" descr=""/>
            <p:cNvPicPr/>
            <p:nvPr/>
          </p:nvPicPr>
          <p:blipFill>
            <a:blip r:embed="rId1"/>
            <a:stretch/>
          </p:blipFill>
          <p:spPr>
            <a:xfrm>
              <a:off x="536400" y="23760"/>
              <a:ext cx="8223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11280" y="189000"/>
              <a:ext cx="800100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Franklin Gothic Medium"/>
                </a:rPr>
                <a:t>Procedimientos adicionales a Investigación General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9" name="8 Marcador de contenido" descr=""/>
          <p:cNvPicPr/>
          <p:nvPr/>
        </p:nvPicPr>
        <p:blipFill>
          <a:blip r:embed="rId2"/>
          <a:stretch/>
        </p:blipFill>
        <p:spPr>
          <a:xfrm>
            <a:off x="743040" y="1182600"/>
            <a:ext cx="754704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6:24Z</dcterms:created>
  <dc:creator>WENDY MENJIVAR</dc:creator>
  <dc:description/>
  <dc:language>en-US</dc:language>
  <cp:lastModifiedBy>WinuE</cp:lastModifiedBy>
  <cp:lastPrinted>2013-11-18T15:43:33Z</cp:lastPrinted>
  <dcterms:modified xsi:type="dcterms:W3CDTF">2013-11-18T19:24:54Z</dcterms:modified>
  <cp:revision>699</cp:revision>
  <dc:subject/>
  <dc:title>Taller NIIF-PYME  El Salvad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3082</vt:lpwstr>
  </property>
</Properties>
</file>