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23.png" ContentType="image/png"/>
  <Override PartName="/ppt/media/image30.gif" ContentType="image/gif"/>
  <Override PartName="/ppt/media/image1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jpeg" ContentType="image/jpeg"/>
  <Override PartName="/ppt/media/image22.png" ContentType="image/png"/>
  <Override PartName="/ppt/media/image26.jpeg" ContentType="image/jpeg"/>
  <Override PartName="/ppt/media/image5.gif" ContentType="image/gif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AC20-35AE-451D-8054-457D2D1BEF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86E-0745-49D7-AF3B-4DAC32A80FA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C7B0-4087-4E27-BCF1-C6A62E5C59B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BB1-6A5A-4A30-B340-5ED0181B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5E32-FF99-43EE-950D-D60EBE55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DF88-F4D7-40AD-841F-BC3C6DB3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900-549F-4416-B6C6-31658E3C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2B4E-B361-43ED-A77D-5EA23847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CB40-60A6-4E90-A1F5-5A8B483E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A7A9-0251-4B72-94C1-C6690352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118E-4083-4424-AF62-2F5FDF09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1439-A21F-4687-BDFC-E58B2B20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C165-5EC4-49FA-9330-80BE53AF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CAC5-AACA-40A4-A1C1-F0F37E6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8C3D-B6FB-4957-841F-D202C184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F52C-914F-4397-89D3-74784209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A893-F539-4D0F-B453-43AF5F0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3DC7-538A-46CE-8F26-6C5F5BBA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BB7B-5685-4508-8C3C-B751C1A7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9E24-0917-4E66-88F3-4250CE51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438A8-107B-4FAE-A616-49996C36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3378-CD38-4FAA-AAA0-E6D96667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FE74-9E22-416D-B6C6-9675CC98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D07C1-B394-43BF-A639-66588DE2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7556F-8721-4B38-ACF2-38D917A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F000-9DCF-4283-8DF5-1F2ABFCA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7EC4A-9A14-473E-8B96-973BC1DD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BF6DE-A2E8-47C8-9306-644BB955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B1B38-B46C-4422-A5FA-F1E873D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AB95-11DC-4A8F-BDC5-5EAB0D8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93F47-8DAB-4215-9821-38E9DBD3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16F1D-0D76-487B-AD5F-BF05ED7A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ACB0-A5AC-4B27-ADCC-A6447D1D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6DCF-BC48-42D9-AD76-9F6EF8D5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61EAC-D226-4698-97BC-6554D982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88E6B-09D9-463A-A141-5320891F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64F-1FE3-421C-9A0D-F9BEE59D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E700-9076-4AA3-83EE-2FA4ABF2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D1E5-80AE-43A0-B0B5-237E487E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8A2B9-92C5-40B0-8273-411E8EC3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DBFAB-0389-43D1-A940-6D485471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2454D-0107-41E7-887F-B11BEB0B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0A07B-4669-45A9-B6F9-5BCC3A16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30883-84B6-4F36-A30A-6019ACE0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58F7E-1D1A-4E28-8745-EB9F7686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9EC9-C4A8-4FE2-90D0-83E0856A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7CBC8-4B1F-4ABE-B482-DC14088E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145-B23B-414A-A269-3B518DB3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B176C-B69B-4B6A-9F24-8B837E59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7C252-5BCD-42A9-9086-86B9624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D16FB-660F-4C91-85C5-B0F44154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861E0-3922-44B8-B8B1-04821D66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CE1FD-B892-49F1-AF61-8864C98D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F89D7-B96D-4006-A134-4D1299C9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7A685-4F0F-415F-8F16-96C3DDA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2CC58-47DD-453F-8AC0-9C742C0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4D0BA-1C39-4E6D-9D9E-28A4AC7F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8157-F5E2-4733-B16A-370C25EB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8DE6-D6CA-49B9-9BB5-28DEAD2E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24F07-09CB-4F8D-97CA-C637E851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CF7-708E-434C-9BDB-225AC8C4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819-C736-4885-8AF7-6A085235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D266-BFA3-4B47-B093-441EA2C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51CE-C58D-4A2B-9D00-AA68B22AA9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CDA-3AF5-4D19-97C7-9121FB60A2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09A8-25E2-41A9-ACCD-58FCA71D8B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CFD0-2231-4F2C-B0C7-4558B12137C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5D85-B98E-4DE1-839C-31C49CF58A7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334800" y="2505240"/>
            <a:ext cx="8448840" cy="1603080"/>
          </a:xfrm>
          <a:prstGeom prst="rect">
            <a:avLst/>
          </a:prstGeom>
          <a:ln w="0">
            <a:noFill/>
          </a:ln>
        </p:spPr>
      </p:pic>
      <p:pic>
        <p:nvPicPr>
          <p:cNvPr id="223" name="10 Imagen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871640" cy="2073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://www.diariopresente.com.mx/videos/investigacionespecial_main.jpg"/>
          <p:cNvPicPr/>
          <p:nvPr/>
        </p:nvPicPr>
        <p:blipFill>
          <a:blip r:embed="rId3"/>
          <a:srcRect l="8486" t="6196" r="0" b="13243"/>
          <a:stretch/>
        </p:blipFill>
        <p:spPr>
          <a:xfrm>
            <a:off x="6372360" y="0"/>
            <a:ext cx="27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http://4.bp.blogspot.com/_lpxunuhcniQ/S8hbgKMNSoI/AAAAAAAAAPk/TTgcTRRJwNU/s1600/justicia.gif"/>
          <p:cNvPicPr/>
          <p:nvPr/>
        </p:nvPicPr>
        <p:blipFill>
          <a:blip r:embed="rId4"/>
          <a:stretch/>
        </p:blipFill>
        <p:spPr>
          <a:xfrm>
            <a:off x="0" y="0"/>
            <a:ext cx="3795840" cy="2571840"/>
          </a:xfrm>
          <a:prstGeom prst="rect">
            <a:avLst/>
          </a:prstGeom>
          <a:ln w="0">
            <a:noFill/>
          </a:ln>
        </p:spPr>
      </p:pic>
      <p:pic>
        <p:nvPicPr>
          <p:cNvPr id="226" name="5 Imagen" descr="20090119-businessman_dropped_p_a_hc.gif"/>
          <p:cNvPicPr/>
          <p:nvPr/>
        </p:nvPicPr>
        <p:blipFill>
          <a:blip r:embed="rId5"/>
          <a:stretch/>
        </p:blipFill>
        <p:spPr>
          <a:xfrm>
            <a:off x="-252360" y="3505320"/>
            <a:ext cx="2724120" cy="335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864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  <p:sp>
        <p:nvSpPr>
          <p:cNvPr id="272" name="5 Marcador de número de diapositiva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90E9-5188-4814-A699-DEAD9D983564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2" descr="http://www.nocturnar.com/forum/attachments/perfiles/84782d1357592236-gif-animados-de-gracias-22649_original.gif"/>
          <p:cNvPicPr/>
          <p:nvPr/>
        </p:nvPicPr>
        <p:blipFill>
          <a:blip r:embed="rId2"/>
          <a:stretch/>
        </p:blipFill>
        <p:spPr>
          <a:xfrm>
            <a:off x="900000" y="189000"/>
            <a:ext cx="7383600" cy="5584680"/>
          </a:xfrm>
          <a:prstGeom prst="rect">
            <a:avLst/>
          </a:prstGeom>
          <a:ln w="9360">
            <a:solidFill>
              <a:srgbClr val="ff3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7 Título"/>
          <p:cNvGrpSpPr/>
          <p:nvPr/>
        </p:nvGrpSpPr>
        <p:grpSpPr>
          <a:xfrm>
            <a:off x="596880" y="566640"/>
            <a:ext cx="7967520" cy="1079640"/>
            <a:chOff x="596880" y="566640"/>
            <a:chExt cx="7967520" cy="1079640"/>
          </a:xfrm>
        </p:grpSpPr>
        <p:pic>
          <p:nvPicPr>
            <p:cNvPr id="228" name="7 Título" descr=""/>
            <p:cNvPicPr/>
            <p:nvPr/>
          </p:nvPicPr>
          <p:blipFill>
            <a:blip r:embed="rId1"/>
            <a:stretch/>
          </p:blipFill>
          <p:spPr>
            <a:xfrm>
              <a:off x="596880" y="566640"/>
              <a:ext cx="79675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55560" y="658800"/>
              <a:ext cx="7845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Franklin Gothic Medium"/>
                </a:rPr>
                <a:t>PROCESOS ESPECIALE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" name="8 Marcador de contenido"/>
          <p:cNvGrpSpPr/>
          <p:nvPr/>
        </p:nvGrpSpPr>
        <p:grpSpPr>
          <a:xfrm>
            <a:off x="633240" y="1494000"/>
            <a:ext cx="8114040" cy="3363840"/>
            <a:chOff x="633240" y="1494000"/>
            <a:chExt cx="8114040" cy="3363840"/>
          </a:xfrm>
        </p:grpSpPr>
        <p:pic>
          <p:nvPicPr>
            <p:cNvPr id="231" name="8 Marcador de contenido" descr=""/>
            <p:cNvPicPr/>
            <p:nvPr/>
          </p:nvPicPr>
          <p:blipFill>
            <a:blip r:embed="rId2"/>
            <a:stretch/>
          </p:blipFill>
          <p:spPr>
            <a:xfrm>
              <a:off x="633240" y="1494000"/>
              <a:ext cx="811404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42960" y="1500120"/>
              <a:ext cx="8101080" cy="33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Fraudes y Abusos de Confianz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Problemas de valoración de activ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Negociación de Contratos y controles a los contrat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Reglamentación gubernamental , principalmente tributari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Informes Especiale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7 Rectángulo"/>
          <p:cNvSpPr/>
          <p:nvPr/>
        </p:nvSpPr>
        <p:spPr>
          <a:xfrm rot="16200000">
            <a:off x="-2732040" y="3189240"/>
            <a:ext cx="613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uditor como apoyo técnico al Frau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2" descr="https://encrypted-tbn3.gstatic.com/images?q=tbn:ANd9GcTEwPW1STsUQtdflxT89njj_UCS3HOI0CEgTUFMZcJJDqkyeMB0iA"/>
          <p:cNvPicPr/>
          <p:nvPr/>
        </p:nvPicPr>
        <p:blipFill>
          <a:blip r:embed="rId8"/>
          <a:stretch/>
        </p:blipFill>
        <p:spPr>
          <a:xfrm>
            <a:off x="7272360" y="4863960"/>
            <a:ext cx="1871640" cy="199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033560"/>
            <a:ext cx="7772400" cy="457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Franklin Gothic Medium"/>
              </a:rPr>
              <a:t>El Contador Publico: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37" name="8 Marcador de contenido"/>
          <p:cNvGrpSpPr/>
          <p:nvPr/>
        </p:nvGrpSpPr>
        <p:grpSpPr>
          <a:xfrm>
            <a:off x="1060560" y="1749600"/>
            <a:ext cx="7785000" cy="3870000"/>
            <a:chOff x="1060560" y="1749600"/>
            <a:chExt cx="7785000" cy="3870000"/>
          </a:xfrm>
        </p:grpSpPr>
        <p:pic>
          <p:nvPicPr>
            <p:cNvPr id="238" name="8 Marcador de contenido" descr=""/>
            <p:cNvPicPr/>
            <p:nvPr/>
          </p:nvPicPr>
          <p:blipFill>
            <a:blip r:embed="rId1"/>
            <a:stretch/>
          </p:blipFill>
          <p:spPr>
            <a:xfrm>
              <a:off x="1060560" y="1749600"/>
              <a:ext cx="7785000" cy="38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66680" y="1752480"/>
              <a:ext cx="777240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Debe de recordar la intención y propósito de la investigac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Tener la habilidad Técnica y razonamiento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La independencia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Imaginación e integridad distintas a nuestra profes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0" y="5668920"/>
            <a:ext cx="163044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8320" y="304920"/>
            <a:ext cx="7097760" cy="7300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Pero como llevar acabo una investigación especial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8 Marcador de contenido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7547040" cy="4060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https://encrypted-tbn0.gstatic.com/images?q=tbn:ANd9GcTZ3Zbb0AJTC00a1FcP4VIGN47SkAu_KvC6u4z607lfOd5ukCwO90X1tDQY"/>
          <p:cNvPicPr/>
          <p:nvPr/>
        </p:nvPicPr>
        <p:blipFill>
          <a:blip r:embed="rId2"/>
          <a:stretch/>
        </p:blipFill>
        <p:spPr>
          <a:xfrm>
            <a:off x="7623000" y="0"/>
            <a:ext cx="1521000" cy="112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454040" y="122400"/>
            <a:ext cx="995400" cy="80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831080" cy="761760"/>
          </a:xfrm>
          <a:prstGeom prst="rect">
            <a:avLst/>
          </a:prstGeom>
          <a:solidFill>
            <a:srgbClr val="ca4b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Franklin Gothic Medium"/>
              </a:rPr>
              <a:t>1. Planeación de Programa auditoria Especial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14 Rectángulo redondeado"/>
          <p:cNvSpPr/>
          <p:nvPr/>
        </p:nvSpPr>
        <p:spPr>
          <a:xfrm>
            <a:off x="684360" y="2565360"/>
            <a:ext cx="7848360" cy="151128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ntender Claramente los Objetivos y procedimi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studio e interpretación de términos contractuales, bajo una CARTA DE COMPROMI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1142640"/>
            <a:ext cx="7410240" cy="91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Franklin Gothic Medium"/>
              </a:rPr>
              <a:t>Factores de no seguridad en la investigación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50920" y="5315040"/>
            <a:ext cx="1365120" cy="1542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7477200" y="2498760"/>
            <a:ext cx="1009440" cy="1152360"/>
          </a:xfrm>
          <a:prstGeom prst="rect">
            <a:avLst/>
          </a:prstGeom>
          <a:ln w="0">
            <a:noFill/>
          </a:ln>
        </p:spPr>
      </p:pic>
      <p:sp>
        <p:nvSpPr>
          <p:cNvPr id="250" name="6 Esquina doblada"/>
          <p:cNvSpPr/>
          <p:nvPr/>
        </p:nvSpPr>
        <p:spPr>
          <a:xfrm>
            <a:off x="1692360" y="2349360"/>
            <a:ext cx="5616360" cy="3240360"/>
          </a:xfrm>
          <a:prstGeom prst="foldedCorner">
            <a:avLst>
              <a:gd name="adj" fmla="val 16666"/>
            </a:avLst>
          </a:prstGeom>
          <a:solidFill>
            <a:srgbClr val="04516d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os Registros y Documentos Disponibles insuficien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variedad de posibles métodos de fraude o desfalc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relación Costo/Beneficio de la investig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107640"/>
            <a:ext cx="6782040" cy="103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Medium"/>
              </a:rPr>
              <a:t>Reserva y Oportunidades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2" name="15 Marcador de contenido" descr=""/>
          <p:cNvPicPr/>
          <p:nvPr/>
        </p:nvPicPr>
        <p:blipFill>
          <a:blip r:embed="rId1"/>
          <a:stretch/>
        </p:blipFill>
        <p:spPr>
          <a:xfrm>
            <a:off x="841320" y="1249200"/>
            <a:ext cx="8113680" cy="5718240"/>
          </a:xfrm>
          <a:prstGeom prst="rect">
            <a:avLst/>
          </a:prstGeom>
          <a:ln w="0">
            <a:noFill/>
          </a:ln>
        </p:spPr>
      </p:pic>
      <p:sp>
        <p:nvSpPr>
          <p:cNvPr id="253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17 Llamada rectangular"/>
          <p:cNvSpPr/>
          <p:nvPr/>
        </p:nvSpPr>
        <p:spPr>
          <a:xfrm>
            <a:off x="3564000" y="3683160"/>
            <a:ext cx="2531880" cy="6094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96a1b"/>
          </a:solidFill>
          <a:ln w="25560">
            <a:solidFill>
              <a:srgbClr val="5c2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d0d0d"/>
                </a:solidFill>
                <a:latin typeface="Franklin Gothic Book"/>
              </a:rPr>
              <a:t>¿Cuándo se sospecha de fraude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1442880" cy="1346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http://t0.gstatic.com/images?q=tbn:ANd9GcRRwCSZ9I4kgRBBwg-Jn3mag4KAlWkFFVRyavRwq7PKQX0uSvQHHURsECrz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99920" y="514440"/>
            <a:ext cx="7831080" cy="457200"/>
          </a:xfrm>
          <a:prstGeom prst="rect">
            <a:avLst/>
          </a:prstGeom>
          <a:solidFill>
            <a:srgbClr val="0679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00"/>
                </a:solidFill>
                <a:latin typeface="Franklin Gothic Medium"/>
              </a:rPr>
              <a:t>PROBLEMAS DE VALUACION:</a:t>
            </a: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8" name="8 Marcador de contenido" descr=""/>
          <p:cNvPicPr/>
          <p:nvPr/>
        </p:nvPicPr>
        <p:blipFill>
          <a:blip r:embed="rId1"/>
          <a:stretch/>
        </p:blipFill>
        <p:spPr>
          <a:xfrm>
            <a:off x="914400" y="1279440"/>
            <a:ext cx="7772400" cy="4835520"/>
          </a:xfrm>
          <a:prstGeom prst="rect">
            <a:avLst/>
          </a:prstGeom>
          <a:ln w="0">
            <a:noFill/>
          </a:ln>
        </p:spPr>
      </p:pic>
      <p:sp>
        <p:nvSpPr>
          <p:cNvPr id="259" name="4 Rectángulo"/>
          <p:cNvSpPr/>
          <p:nvPr/>
        </p:nvSpPr>
        <p:spPr>
          <a:xfrm>
            <a:off x="1042920" y="549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10 Rectángulo"/>
          <p:cNvGrpSpPr/>
          <p:nvPr/>
        </p:nvGrpSpPr>
        <p:grpSpPr>
          <a:xfrm>
            <a:off x="3249720" y="5181480"/>
            <a:ext cx="3114720" cy="706680"/>
            <a:chOff x="3249720" y="5181480"/>
            <a:chExt cx="3114720" cy="706680"/>
          </a:xfrm>
        </p:grpSpPr>
        <p:pic>
          <p:nvPicPr>
            <p:cNvPr id="261" name="10 Rectángulo" descr=""/>
            <p:cNvPicPr/>
            <p:nvPr/>
          </p:nvPicPr>
          <p:blipFill>
            <a:blip r:embed="rId2"/>
            <a:stretch/>
          </p:blipFill>
          <p:spPr>
            <a:xfrm>
              <a:off x="3249720" y="5181480"/>
              <a:ext cx="3114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276720" y="5207040"/>
              <a:ext cx="30556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Berlin Sans FB Demi"/>
                </a:rPr>
                <a:t>Los Aspectos Fiscale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3" name="Picture 2" descr=""/>
          <p:cNvPicPr/>
          <p:nvPr/>
        </p:nvPicPr>
        <p:blipFill>
          <a:blip r:embed="rId3"/>
          <a:stretch/>
        </p:blipFill>
        <p:spPr>
          <a:xfrm>
            <a:off x="762120" y="5533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http://www.consar.gob.mx/principal/imss_fusiones/imagen1.gif"/>
          <p:cNvPicPr/>
          <p:nvPr/>
        </p:nvPicPr>
        <p:blipFill>
          <a:blip r:embed="rId4"/>
          <a:stretch/>
        </p:blipFill>
        <p:spPr>
          <a:xfrm>
            <a:off x="5292720" y="3716280"/>
            <a:ext cx="4457880" cy="1482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http://1.bp.blogspot.com/-jZAxBomLLng/TXT8hpEER3I/AAAAAAAAAZ4/uwWQsafItt0/s1600/contratos.jpg"/>
          <p:cNvPicPr/>
          <p:nvPr/>
        </p:nvPicPr>
        <p:blipFill>
          <a:blip r:embed="rId5"/>
          <a:stretch/>
        </p:blipFill>
        <p:spPr>
          <a:xfrm>
            <a:off x="179280" y="3141720"/>
            <a:ext cx="2067120" cy="16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7 Título"/>
          <p:cNvGrpSpPr/>
          <p:nvPr/>
        </p:nvGrpSpPr>
        <p:grpSpPr>
          <a:xfrm>
            <a:off x="536400" y="23760"/>
            <a:ext cx="8223480" cy="1457280"/>
            <a:chOff x="536400" y="23760"/>
            <a:chExt cx="8223480" cy="1457280"/>
          </a:xfrm>
        </p:grpSpPr>
        <p:pic>
          <p:nvPicPr>
            <p:cNvPr id="267" name="7 Título" descr=""/>
            <p:cNvPicPr/>
            <p:nvPr/>
          </p:nvPicPr>
          <p:blipFill>
            <a:blip r:embed="rId1"/>
            <a:stretch/>
          </p:blipFill>
          <p:spPr>
            <a:xfrm>
              <a:off x="536400" y="23760"/>
              <a:ext cx="8223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11280" y="189000"/>
              <a:ext cx="800100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Franklin Gothic Medium"/>
                </a:rPr>
                <a:t>Procedimientos adicionales a Investigación General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9" name="8 Marcador de contenido" descr=""/>
          <p:cNvPicPr/>
          <p:nvPr/>
        </p:nvPicPr>
        <p:blipFill>
          <a:blip r:embed="rId2"/>
          <a:stretch/>
        </p:blipFill>
        <p:spPr>
          <a:xfrm>
            <a:off x="743040" y="1182600"/>
            <a:ext cx="7547040" cy="443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46:24Z</dcterms:created>
  <dc:creator>WENDY MENJIVAR</dc:creator>
  <dc:description/>
  <dc:language>en-US</dc:language>
  <cp:lastModifiedBy>WinuE</cp:lastModifiedBy>
  <cp:lastPrinted>2013-11-18T15:43:33Z</cp:lastPrinted>
  <dcterms:modified xsi:type="dcterms:W3CDTF">2013-11-18T19:24:54Z</dcterms:modified>
  <cp:revision>699</cp:revision>
  <dc:subject/>
  <dc:title>Taller NIIF-PYME  El Salvad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3082</vt:lpwstr>
  </property>
</Properties>
</file>