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4.png" ContentType="image/png"/>
  <Override PartName="/ppt/media/image13.jpeg" ContentType="image/jpeg"/>
  <Override PartName="/ppt/media/image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8.png" ContentType="image/png"/>
  <Override PartName="/ppt/media/image23.png" ContentType="image/png"/>
  <Override PartName="/ppt/media/image30.gif" ContentType="image/gif"/>
  <Override PartName="/ppt/media/image10.png" ContentType="image/png"/>
  <Override PartName="/ppt/media/image3.jpeg" ContentType="image/jpeg"/>
  <Override PartName="/ppt/media/image1.png" ContentType="image/png"/>
  <Override PartName="/ppt/media/image24.png" ContentType="image/png"/>
  <Override PartName="/ppt/media/image11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jpeg" ContentType="image/jpeg"/>
  <Override PartName="/ppt/media/image22.png" ContentType="image/png"/>
  <Override PartName="/ppt/media/image26.jpeg" ContentType="image/jpeg"/>
  <Override PartName="/ppt/media/image5.gif" ContentType="image/gif"/>
  <Override PartName="/ppt/media/image2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FFB0-7471-414C-9DE8-F749CE0B48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EA89-B6A0-4C49-BFD1-E85CCB28A1E3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4800" cy="34927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244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3884760" y="884700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7143-8133-4AE0-9565-736F1B4027C6}" type="slidenum">
              <a:rPr b="0" lang="es-E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437-EF26-48CA-AEE6-01EE7B7F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21A8-0A87-4DF7-9F1A-4D571804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4693-C424-4CC0-8828-83463D79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B32-BC99-4404-BBC8-3B328121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E293-268C-47F0-83C3-D9947015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643B-248B-437E-8C8D-FCAD0E9F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3A69-F555-4660-BF39-6A378704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7D44-5DAB-45B1-9B81-55188D7C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0EA4-CC27-46B2-9827-296A53CE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A73A-C244-4015-8F35-37735DC5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B893-DF39-422C-802B-3E9A3D70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E52-F978-4EE9-BA31-105310AD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B096-B98B-47CB-A492-691A82EC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878B-06C4-4E9E-816A-CDE45E7C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9673-FA9B-4387-A2AB-0618D183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56DE-A3FD-4648-AB29-B5B5B3398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E3AC-3DA9-4B65-8BCC-A4E2B04B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53F5B-379C-4DDC-AE95-A1965279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5C59C-F704-4DE1-A66A-B92DF4F7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94DA3-F824-431B-A8B5-D5519D44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929FB-8AD4-4090-B839-7CD23F7C7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5EBE7-1076-456E-AB01-95C918786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577-EC56-4CB1-91B2-B9B34FA2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09B93-67D6-4758-B3CF-B360EB05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9DAFB-5725-4FCA-BE75-38AD29E8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DD22-428C-410D-AA90-1BD06B47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23037-E55E-487B-BAF8-A3A837EA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4281-F4C2-48D7-A2D0-89C1FDA3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1F346-C72D-4C50-A83E-267BC262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EBD31-256A-49AB-AC49-F167B3DB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6B90E-E82F-4C5C-8A0B-13F06D1A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3A1A4-396C-4493-A9C8-9D084B0C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679F0-194A-40D5-85ED-440B85C7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89E-5C7F-4EAC-9BB0-63B25099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330E9-6D7F-42D4-B332-D5F11487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C0BE4-B9DF-4371-8F06-68E9E85A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0764A-7434-4D29-8A9E-84CF63FF7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10689-144A-4270-85BC-3E9BEAB1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743F0-2D24-48EE-9A62-17F392C8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B4EBC-B604-470B-842B-AAFCC43F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96C44-2469-44D8-8AE2-CB245065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A3FC9-F25C-4DC1-A641-D8322F5F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E5EE8-2EF9-4E21-B744-A83C6E44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EE3E9-F3A1-4A8E-975C-90A62F908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931-5C2E-4261-B7E6-66F5F4D7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2CC25-99AB-42E4-96F0-BBFE66FE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E0A01-4059-471F-8B2A-D5B85522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E2907-0F64-4812-B106-76F73DDB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35BB8-1B32-45A3-9F5C-49837AC2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D0476-0938-41E8-AC52-1F88111E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FFB99-5CDC-4C12-ABD9-442010BA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B62F3-4864-4764-B36B-F7C8F5AC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EB5C0-9B05-435F-9231-46CC4D4A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B2E31-A9A3-4A8A-95F1-7A14F1BF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E02E0-CDE3-4DD3-A582-1D5D2571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D0D-C97F-4AFC-9E4B-5C672E23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823F3-D87F-4533-8971-B5ABABF9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C7CD-C72A-489A-B0FD-60052E1D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F53-A3DA-4BD4-8AF2-A1931AF1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719-B177-4848-A864-E37E2321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218D-35E2-4C4E-BCB6-A85B9D04D8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F84C-4F4A-4F06-8501-DD6FD05A393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993F-E31B-43B5-9741-543E439D309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C38A-A333-4CEA-9F4A-E88604AFABD2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8736-D81F-4440-85A9-35DA819C0EB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Título" descr=""/>
          <p:cNvPicPr/>
          <p:nvPr/>
        </p:nvPicPr>
        <p:blipFill>
          <a:blip r:embed="rId1"/>
          <a:stretch/>
        </p:blipFill>
        <p:spPr>
          <a:xfrm>
            <a:off x="334800" y="2505240"/>
            <a:ext cx="8448840" cy="1603080"/>
          </a:xfrm>
          <a:prstGeom prst="rect">
            <a:avLst/>
          </a:prstGeom>
          <a:ln w="0">
            <a:noFill/>
          </a:ln>
        </p:spPr>
      </p:pic>
      <p:pic>
        <p:nvPicPr>
          <p:cNvPr id="223" name="10 Imagen" descr=""/>
          <p:cNvPicPr/>
          <p:nvPr/>
        </p:nvPicPr>
        <p:blipFill>
          <a:blip r:embed="rId2"/>
          <a:stretch/>
        </p:blipFill>
        <p:spPr>
          <a:xfrm>
            <a:off x="6732720" y="4508640"/>
            <a:ext cx="1871640" cy="2073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http://www.diariopresente.com.mx/videos/investigacionespecial_main.jpg"/>
          <p:cNvPicPr/>
          <p:nvPr/>
        </p:nvPicPr>
        <p:blipFill>
          <a:blip r:embed="rId3"/>
          <a:srcRect l="8486" t="6196" r="0" b="13243"/>
          <a:stretch/>
        </p:blipFill>
        <p:spPr>
          <a:xfrm>
            <a:off x="6372360" y="0"/>
            <a:ext cx="2771640" cy="1871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http://4.bp.blogspot.com/_lpxunuhcniQ/S8hbgKMNSoI/AAAAAAAAAPk/TTgcTRRJwNU/s1600/justicia.gif"/>
          <p:cNvPicPr/>
          <p:nvPr/>
        </p:nvPicPr>
        <p:blipFill>
          <a:blip r:embed="rId4"/>
          <a:stretch/>
        </p:blipFill>
        <p:spPr>
          <a:xfrm>
            <a:off x="0" y="0"/>
            <a:ext cx="3795840" cy="2571840"/>
          </a:xfrm>
          <a:prstGeom prst="rect">
            <a:avLst/>
          </a:prstGeom>
          <a:ln w="0">
            <a:noFill/>
          </a:ln>
        </p:spPr>
      </p:pic>
      <p:pic>
        <p:nvPicPr>
          <p:cNvPr id="226" name="5 Imagen" descr="20090119-businessman_dropped_p_a_hc.gif"/>
          <p:cNvPicPr/>
          <p:nvPr/>
        </p:nvPicPr>
        <p:blipFill>
          <a:blip r:embed="rId5"/>
          <a:stretch/>
        </p:blipFill>
        <p:spPr>
          <a:xfrm>
            <a:off x="-252360" y="3505320"/>
            <a:ext cx="2724120" cy="3352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18640" y="1726920"/>
            <a:ext cx="565164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1608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SV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  <p:sp>
        <p:nvSpPr>
          <p:cNvPr id="272" name="5 Marcador de número de diapositiva"/>
          <p:cNvSpPr/>
          <p:nvPr/>
        </p:nvSpPr>
        <p:spPr>
          <a:xfrm>
            <a:off x="8400960" y="6170760"/>
            <a:ext cx="503280" cy="50292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494B-8CA8-4B78-9F95-C9AB33950E2A}" type="slidenum">
              <a:rPr b="0" lang="en-US" sz="16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3" name="Picture 2" descr="http://www.nocturnar.com/forum/attachments/perfiles/84782d1357592236-gif-animados-de-gracias-22649_original.gif"/>
          <p:cNvPicPr/>
          <p:nvPr/>
        </p:nvPicPr>
        <p:blipFill>
          <a:blip r:embed="rId2"/>
          <a:stretch/>
        </p:blipFill>
        <p:spPr>
          <a:xfrm>
            <a:off x="900000" y="189000"/>
            <a:ext cx="7383600" cy="5584680"/>
          </a:xfrm>
          <a:prstGeom prst="rect">
            <a:avLst/>
          </a:prstGeom>
          <a:ln w="9360">
            <a:solidFill>
              <a:srgbClr val="ff33cc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7 Título"/>
          <p:cNvGrpSpPr/>
          <p:nvPr/>
        </p:nvGrpSpPr>
        <p:grpSpPr>
          <a:xfrm>
            <a:off x="596880" y="566640"/>
            <a:ext cx="7967520" cy="1079640"/>
            <a:chOff x="596880" y="566640"/>
            <a:chExt cx="7967520" cy="1079640"/>
          </a:xfrm>
        </p:grpSpPr>
        <p:pic>
          <p:nvPicPr>
            <p:cNvPr id="228" name="7 Título" descr=""/>
            <p:cNvPicPr/>
            <p:nvPr/>
          </p:nvPicPr>
          <p:blipFill>
            <a:blip r:embed="rId1"/>
            <a:stretch/>
          </p:blipFill>
          <p:spPr>
            <a:xfrm>
              <a:off x="596880" y="566640"/>
              <a:ext cx="796752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655560" y="658800"/>
              <a:ext cx="78454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ffffff"/>
                  </a:solidFill>
                  <a:latin typeface="Franklin Gothic Medium"/>
                </a:rPr>
                <a:t>PROCESOS ESPECIALES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0" name="8 Marcador de contenido"/>
          <p:cNvGrpSpPr/>
          <p:nvPr/>
        </p:nvGrpSpPr>
        <p:grpSpPr>
          <a:xfrm>
            <a:off x="633240" y="1494000"/>
            <a:ext cx="8114040" cy="3363840"/>
            <a:chOff x="633240" y="1494000"/>
            <a:chExt cx="8114040" cy="3363840"/>
          </a:xfrm>
        </p:grpSpPr>
        <p:pic>
          <p:nvPicPr>
            <p:cNvPr id="231" name="8 Marcador de contenido" descr=""/>
            <p:cNvPicPr/>
            <p:nvPr/>
          </p:nvPicPr>
          <p:blipFill>
            <a:blip r:embed="rId2"/>
            <a:stretch/>
          </p:blipFill>
          <p:spPr>
            <a:xfrm>
              <a:off x="633240" y="1494000"/>
              <a:ext cx="8114040" cy="336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42960" y="1500120"/>
              <a:ext cx="8101080" cy="33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Fraudes y Abusos de Confianza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Problemas de valoración de activo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Negociación de Contratos y controles a los contrato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Reglamentación gubernamental , principalmente tributaria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SzPct val="10275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100" spc="-1" strike="noStrike">
                  <a:solidFill>
                    <a:srgbClr val="000000"/>
                  </a:solidFill>
                  <a:latin typeface="Berlin Sans FB Demi"/>
                </a:rPr>
                <a:t>Informes Especiales.</a:t>
              </a: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3" name="4 Rectángulo"/>
          <p:cNvSpPr/>
          <p:nvPr/>
        </p:nvSpPr>
        <p:spPr>
          <a:xfrm>
            <a:off x="1295280" y="304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7 Rectángulo"/>
          <p:cNvSpPr/>
          <p:nvPr/>
        </p:nvSpPr>
        <p:spPr>
          <a:xfrm rot="16200000">
            <a:off x="-2732040" y="3189240"/>
            <a:ext cx="613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uditor como apoyo técnico al Fraud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" name="Picture 12" descr="https://encrypted-tbn3.gstatic.com/images?q=tbn:ANd9GcTEwPW1STsUQtdflxT89njj_UCS3HOI0CEgTUFMZcJJDqkyeMB0iA"/>
          <p:cNvPicPr/>
          <p:nvPr/>
        </p:nvPicPr>
        <p:blipFill>
          <a:blip r:embed="rId8"/>
          <a:stretch/>
        </p:blipFill>
        <p:spPr>
          <a:xfrm>
            <a:off x="7272360" y="4863960"/>
            <a:ext cx="1871640" cy="199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1033560"/>
            <a:ext cx="7772400" cy="4572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00"/>
                </a:solidFill>
                <a:latin typeface="Franklin Gothic Medium"/>
              </a:rPr>
              <a:t>El Contador Publico: </a:t>
            </a:r>
            <a:endParaRPr b="0" lang="en-US" sz="30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pSp>
        <p:nvGrpSpPr>
          <p:cNvPr id="237" name="8 Marcador de contenido"/>
          <p:cNvGrpSpPr/>
          <p:nvPr/>
        </p:nvGrpSpPr>
        <p:grpSpPr>
          <a:xfrm>
            <a:off x="1060560" y="1749600"/>
            <a:ext cx="7785000" cy="3870000"/>
            <a:chOff x="1060560" y="1749600"/>
            <a:chExt cx="7785000" cy="3870000"/>
          </a:xfrm>
        </p:grpSpPr>
        <p:pic>
          <p:nvPicPr>
            <p:cNvPr id="238" name="8 Marcador de contenido" descr=""/>
            <p:cNvPicPr/>
            <p:nvPr/>
          </p:nvPicPr>
          <p:blipFill>
            <a:blip r:embed="rId1"/>
            <a:stretch/>
          </p:blipFill>
          <p:spPr>
            <a:xfrm>
              <a:off x="1060560" y="1749600"/>
              <a:ext cx="7785000" cy="38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066680" y="1752480"/>
              <a:ext cx="777240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Debe de recordar la intención y propósito de la investigación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Tener la habilidad Técnica y razonamiento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La independencia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Berlin Sans FB Demi"/>
                </a:rPr>
                <a:t>Imaginación e integridad distintas a nuestra profesión.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just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40" name="Picture 6" descr=""/>
          <p:cNvPicPr/>
          <p:nvPr/>
        </p:nvPicPr>
        <p:blipFill>
          <a:blip r:embed="rId2"/>
          <a:stretch/>
        </p:blipFill>
        <p:spPr>
          <a:xfrm>
            <a:off x="0" y="5668920"/>
            <a:ext cx="1630440" cy="1189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98320" y="304920"/>
            <a:ext cx="7097760" cy="730080"/>
          </a:xfrm>
          <a:prstGeom prst="rect">
            <a:avLst/>
          </a:prstGeom>
          <a:solidFill>
            <a:srgbClr val="5c22d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Franklin Gothic Medium"/>
              </a:rPr>
              <a:t>Pero como llevar acabo una investigación especial: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2" name="8 Marcador de contenido" descr=""/>
          <p:cNvPicPr/>
          <p:nvPr/>
        </p:nvPicPr>
        <p:blipFill>
          <a:blip r:embed="rId1"/>
          <a:stretch/>
        </p:blipFill>
        <p:spPr>
          <a:xfrm>
            <a:off x="669960" y="1670040"/>
            <a:ext cx="7547040" cy="4060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https://encrypted-tbn0.gstatic.com/images?q=tbn:ANd9GcTZ3Zbb0AJTC00a1FcP4VIGN47SkAu_KvC6u4z607lfOd5ukCwO90X1tDQY"/>
          <p:cNvPicPr/>
          <p:nvPr/>
        </p:nvPicPr>
        <p:blipFill>
          <a:blip r:embed="rId2"/>
          <a:stretch/>
        </p:blipFill>
        <p:spPr>
          <a:xfrm>
            <a:off x="7623000" y="0"/>
            <a:ext cx="1521000" cy="1125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454040" y="122400"/>
            <a:ext cx="995400" cy="8096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990720"/>
            <a:ext cx="7831080" cy="761760"/>
          </a:xfrm>
          <a:prstGeom prst="rect">
            <a:avLst/>
          </a:prstGeom>
          <a:solidFill>
            <a:srgbClr val="ca4b0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ffff00"/>
                </a:solidFill>
                <a:latin typeface="Franklin Gothic Medium"/>
              </a:rPr>
              <a:t>1. Planeación de Programa auditoria Especial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14 Rectángulo redondeado"/>
          <p:cNvSpPr/>
          <p:nvPr/>
        </p:nvSpPr>
        <p:spPr>
          <a:xfrm>
            <a:off x="684360" y="2565360"/>
            <a:ext cx="7848360" cy="1511280"/>
          </a:xfrm>
          <a:prstGeom prst="roundRect">
            <a:avLst>
              <a:gd name="adj" fmla="val 16667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Franklin Gothic Book"/>
              </a:rPr>
              <a:t>Entender Claramente los Objetivos y procedimien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5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ffffff"/>
                </a:solidFill>
                <a:latin typeface="Franklin Gothic Book"/>
              </a:rPr>
              <a:t>Estudio e interpretación de términos contractuales, bajo una CARTA DE COMPROMI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920" y="1142640"/>
            <a:ext cx="7410240" cy="917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Franklin Gothic Medium"/>
              </a:rPr>
              <a:t>Factores de no seguridad en la investigación.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250920" y="5315040"/>
            <a:ext cx="1365120" cy="15429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" descr=""/>
          <p:cNvPicPr/>
          <p:nvPr/>
        </p:nvPicPr>
        <p:blipFill>
          <a:blip r:embed="rId2"/>
          <a:stretch/>
        </p:blipFill>
        <p:spPr>
          <a:xfrm>
            <a:off x="7477200" y="2498760"/>
            <a:ext cx="1009440" cy="1152360"/>
          </a:xfrm>
          <a:prstGeom prst="rect">
            <a:avLst/>
          </a:prstGeom>
          <a:ln w="0">
            <a:noFill/>
          </a:ln>
        </p:spPr>
      </p:pic>
      <p:sp>
        <p:nvSpPr>
          <p:cNvPr id="250" name="6 Esquina doblada"/>
          <p:cNvSpPr/>
          <p:nvPr/>
        </p:nvSpPr>
        <p:spPr>
          <a:xfrm>
            <a:off x="1692360" y="2349360"/>
            <a:ext cx="5616360" cy="3240360"/>
          </a:xfrm>
          <a:prstGeom prst="foldedCorner">
            <a:avLst>
              <a:gd name="adj" fmla="val 16666"/>
            </a:avLst>
          </a:prstGeom>
          <a:solidFill>
            <a:srgbClr val="04516d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200" spc="-1" strike="noStrike">
                <a:solidFill>
                  <a:srgbClr val="ffffff"/>
                </a:solidFill>
                <a:latin typeface="Franklin Gothic Book"/>
              </a:rPr>
              <a:t>Los Registros y Documentos Disponibles insuficien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200" spc="-1" strike="noStrike">
                <a:solidFill>
                  <a:srgbClr val="ffffff"/>
                </a:solidFill>
                <a:latin typeface="Franklin Gothic Book"/>
              </a:rPr>
              <a:t>La variedad de posibles métodos de fraude o desfalc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200" spc="-1" strike="noStrike">
                <a:solidFill>
                  <a:srgbClr val="ffffff"/>
                </a:solidFill>
                <a:latin typeface="Franklin Gothic Book"/>
              </a:rPr>
              <a:t>La relación Costo/Beneficio de la investig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107640"/>
            <a:ext cx="6782040" cy="103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Franklin Gothic Medium"/>
              </a:rPr>
              <a:t>Reserva y Oportunidades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2" name="15 Marcador de contenido" descr=""/>
          <p:cNvPicPr/>
          <p:nvPr/>
        </p:nvPicPr>
        <p:blipFill>
          <a:blip r:embed="rId1"/>
          <a:stretch/>
        </p:blipFill>
        <p:spPr>
          <a:xfrm>
            <a:off x="841320" y="1249200"/>
            <a:ext cx="8113680" cy="5718240"/>
          </a:xfrm>
          <a:prstGeom prst="rect">
            <a:avLst/>
          </a:prstGeom>
          <a:ln w="0">
            <a:noFill/>
          </a:ln>
        </p:spPr>
      </p:pic>
      <p:sp>
        <p:nvSpPr>
          <p:cNvPr id="253" name="4 Rectángulo"/>
          <p:cNvSpPr/>
          <p:nvPr/>
        </p:nvSpPr>
        <p:spPr>
          <a:xfrm>
            <a:off x="1295280" y="3049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17 Llamada rectangular"/>
          <p:cNvSpPr/>
          <p:nvPr/>
        </p:nvSpPr>
        <p:spPr>
          <a:xfrm>
            <a:off x="3564000" y="3683160"/>
            <a:ext cx="2531880" cy="60948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f96a1b"/>
          </a:solidFill>
          <a:ln w="25560">
            <a:solidFill>
              <a:srgbClr val="5c22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d0d0d"/>
                </a:solidFill>
                <a:latin typeface="Franklin Gothic Book"/>
              </a:rPr>
              <a:t>¿Cuándo se sospecha de fraude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1442880" cy="13460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http://t0.gstatic.com/images?q=tbn:ANd9GcRRwCSZ9I4kgRBBwg-Jn3mag4KAlWkFFVRyavRwq7PKQX0uSvQHHURsECrz"/>
          <p:cNvPicPr/>
          <p:nvPr/>
        </p:nvPicPr>
        <p:blipFill>
          <a:blip r:embed="rId3"/>
          <a:stretch/>
        </p:blipFill>
        <p:spPr>
          <a:xfrm>
            <a:off x="7524720" y="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99920" y="514440"/>
            <a:ext cx="7831080" cy="457200"/>
          </a:xfrm>
          <a:prstGeom prst="rect">
            <a:avLst/>
          </a:prstGeom>
          <a:solidFill>
            <a:srgbClr val="0679a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300" spc="-1" strike="noStrike">
                <a:solidFill>
                  <a:srgbClr val="ffff00"/>
                </a:solidFill>
                <a:latin typeface="Franklin Gothic Medium"/>
              </a:rPr>
              <a:t>PROBLEMAS DE VALUACION:</a:t>
            </a:r>
            <a:endParaRPr b="0" lang="en-US" sz="23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8" name="8 Marcador de contenido" descr=""/>
          <p:cNvPicPr/>
          <p:nvPr/>
        </p:nvPicPr>
        <p:blipFill>
          <a:blip r:embed="rId1"/>
          <a:stretch/>
        </p:blipFill>
        <p:spPr>
          <a:xfrm>
            <a:off x="914400" y="1279440"/>
            <a:ext cx="7772400" cy="4835520"/>
          </a:xfrm>
          <a:prstGeom prst="rect">
            <a:avLst/>
          </a:prstGeom>
          <a:ln w="0">
            <a:noFill/>
          </a:ln>
        </p:spPr>
      </p:pic>
      <p:sp>
        <p:nvSpPr>
          <p:cNvPr id="259" name="4 Rectángulo"/>
          <p:cNvSpPr/>
          <p:nvPr/>
        </p:nvSpPr>
        <p:spPr>
          <a:xfrm>
            <a:off x="1042920" y="54936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" name="10 Rectángulo"/>
          <p:cNvGrpSpPr/>
          <p:nvPr/>
        </p:nvGrpSpPr>
        <p:grpSpPr>
          <a:xfrm>
            <a:off x="3249720" y="5181480"/>
            <a:ext cx="3114720" cy="706680"/>
            <a:chOff x="3249720" y="5181480"/>
            <a:chExt cx="3114720" cy="706680"/>
          </a:xfrm>
        </p:grpSpPr>
        <p:pic>
          <p:nvPicPr>
            <p:cNvPr id="261" name="10 Rectángulo" descr=""/>
            <p:cNvPicPr/>
            <p:nvPr/>
          </p:nvPicPr>
          <p:blipFill>
            <a:blip r:embed="rId2"/>
            <a:stretch/>
          </p:blipFill>
          <p:spPr>
            <a:xfrm>
              <a:off x="3249720" y="5181480"/>
              <a:ext cx="3114720" cy="70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276720" y="5207040"/>
              <a:ext cx="305568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Berlin Sans FB Demi"/>
                </a:rPr>
                <a:t>Los Aspectos Fiscales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3" name="Picture 2" descr=""/>
          <p:cNvPicPr/>
          <p:nvPr/>
        </p:nvPicPr>
        <p:blipFill>
          <a:blip r:embed="rId3"/>
          <a:stretch/>
        </p:blipFill>
        <p:spPr>
          <a:xfrm>
            <a:off x="762120" y="5533920"/>
            <a:ext cx="1371600" cy="128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3" descr="http://www.consar.gob.mx/principal/imss_fusiones/imagen1.gif"/>
          <p:cNvPicPr/>
          <p:nvPr/>
        </p:nvPicPr>
        <p:blipFill>
          <a:blip r:embed="rId4"/>
          <a:stretch/>
        </p:blipFill>
        <p:spPr>
          <a:xfrm>
            <a:off x="5292720" y="3716280"/>
            <a:ext cx="4457880" cy="14828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7" descr="http://1.bp.blogspot.com/-jZAxBomLLng/TXT8hpEER3I/AAAAAAAAAZ4/uwWQsafItt0/s1600/contratos.jpg"/>
          <p:cNvPicPr/>
          <p:nvPr/>
        </p:nvPicPr>
        <p:blipFill>
          <a:blip r:embed="rId5"/>
          <a:stretch/>
        </p:blipFill>
        <p:spPr>
          <a:xfrm>
            <a:off x="179280" y="3141720"/>
            <a:ext cx="2067120" cy="16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7 Título"/>
          <p:cNvGrpSpPr/>
          <p:nvPr/>
        </p:nvGrpSpPr>
        <p:grpSpPr>
          <a:xfrm>
            <a:off x="536400" y="23760"/>
            <a:ext cx="8223480" cy="1457280"/>
            <a:chOff x="536400" y="23760"/>
            <a:chExt cx="8223480" cy="1457280"/>
          </a:xfrm>
        </p:grpSpPr>
        <p:pic>
          <p:nvPicPr>
            <p:cNvPr id="267" name="7 Título" descr=""/>
            <p:cNvPicPr/>
            <p:nvPr/>
          </p:nvPicPr>
          <p:blipFill>
            <a:blip r:embed="rId1"/>
            <a:stretch/>
          </p:blipFill>
          <p:spPr>
            <a:xfrm>
              <a:off x="536400" y="23760"/>
              <a:ext cx="822348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611280" y="189000"/>
              <a:ext cx="800100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Franklin Gothic Medium"/>
                </a:rPr>
                <a:t>Procedimientos adicionales a Investigación General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9" name="8 Marcador de contenido" descr=""/>
          <p:cNvPicPr/>
          <p:nvPr/>
        </p:nvPicPr>
        <p:blipFill>
          <a:blip r:embed="rId2"/>
          <a:stretch/>
        </p:blipFill>
        <p:spPr>
          <a:xfrm>
            <a:off x="743040" y="1182600"/>
            <a:ext cx="7547040" cy="4437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5:46:24Z</dcterms:created>
  <dc:creator>WENDY MENJIVAR</dc:creator>
  <dc:description/>
  <dc:language>en-US</dc:language>
  <cp:lastModifiedBy>WinuE</cp:lastModifiedBy>
  <cp:lastPrinted>2013-11-18T15:43:33Z</cp:lastPrinted>
  <dcterms:modified xsi:type="dcterms:W3CDTF">2013-11-18T19:24:54Z</dcterms:modified>
  <cp:revision>699</cp:revision>
  <dc:subject/>
  <dc:title>Taller NIIF-PYME  El Salvad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263082</vt:lpwstr>
  </property>
</Properties>
</file>