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C160-8974-4ABD-BC20-DCD893EE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112-CC35-4297-B741-40652766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832-85B3-4B85-9440-4DCB64B9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A35C-9EFB-46C4-81D8-77B4D2FD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690-7EA1-4190-B6A1-0CF6C430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F933-C5C0-4BBA-B726-01158539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B5C-05D6-47E6-B10A-0AE36025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A05-2F3C-498B-BE82-360A37A0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6DA-8A67-4FE1-AE0E-677BD13D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D01-861F-4F19-BED4-C151AC59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F03-14AA-4714-8CAC-B3B1DF59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743-C96B-4A23-8B9A-BC0DF01C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D4E1-06A7-4341-976C-126030EFB61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22900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LIC. Lucio Adalberto Nuñez</a:t>
            </a: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FACILITADOR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VALUACION DEL DESEMPEÑO DE LOS AUDITORES FISC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DICTAMEN E INFORME FISC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SE DETERMINÓ LO SIGUEIN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SEGÚN NOTAS SIMPLES SE ABSTIENEN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3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N LOS EJERCICIOS DE 2001 AL 2004, LA ADMINISTRACIÓN TRIBUTARIA HA REALIZADO SU GESTIÓN DE DOS FOR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16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4- DURANTE 2001 AL 2004, SE HAN CORREGIDO VOLUNTARIAMENTE  58 DICTAMENES E INFORMES INCOMPLETOS: 45 PERSONAS NATURALES Y 13 PERSONAS JURIDICAS, BAJO EL BENEFICIO DE LA ATENUACION QUE ESTABLECE LA LEY, HAN CANCELADO LAS SANCIONES CORRESPONDI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PAGO VOLUNTARIO  DE SANCIONES   DE LOS DICTAMINADORES POR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1700280"/>
          <a:ext cx="6480360" cy="4806720"/>
        </p:xfrm>
        <a:graphic>
          <a:graphicData uri="http://schemas.openxmlformats.org/drawingml/2006/table">
            <a:tbl>
              <a:tblPr/>
              <a:tblGrid>
                <a:gridCol w="1944720"/>
                <a:gridCol w="1511280"/>
                <a:gridCol w="1512720"/>
                <a:gridCol w="1511640"/>
              </a:tblGrid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Natu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Juri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 DEL 2001 AL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CUANTIFICACION DE LAS DEFICIENCIAS POR AÑO, SE PRESENTAN A CONTINUACIÓN: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429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REITERACION DE DEFICIENCIAS EN DICTAMENES E INFORMES INCOMPLETOS PRESENTADOS DEL 2001 AL 2004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1125360"/>
          <a:ext cx="8291520" cy="5472360"/>
        </p:xfrm>
        <a:graphic>
          <a:graphicData uri="http://schemas.openxmlformats.org/drawingml/2006/table">
            <a:tbl>
              <a:tblPr/>
              <a:tblGrid>
                <a:gridCol w="1552680"/>
                <a:gridCol w="1693800"/>
                <a:gridCol w="1693800"/>
                <a:gridCol w="1693800"/>
                <a:gridCol w="165744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In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ENIDO DE LA CONFER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69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ES E INFORMES INCOMPLETOS  CORRESPONDIENTES A LOS AÑOS 2001, 2002, 2003 Y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QUE CONLLEVAN A GENERAR DICTAMENES E INFORME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GO DE SANCIONES POR INFRACCIONES COMETIDAS EN LA PRESENTACION DE DICTAMENES E INFORMES FISCALES INCOMPLE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INTERACION DE DEFICIENCIAS EN LA PRESENTACION DE DICTAMENES INCOMPLE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MEN DE INFRACCIONES Y SANCIONES RELACIONADAS CON 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 DICTAMENES E INFORMES  INCOMPLETOS DE LOS AÑOS  2001, 2002, 2003 Y 2004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8469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L EVALUAR LOS DICTAMENES E INFORMES DESDE 2001 AL 2004, SE DETERMINARON QUE 552 DICTAMENES ERAN INCOMPLET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L ANALISIS DE CADA DICTAMEN E INFORME SE REALIZÓ CON BASE EN LA NORMATIVA ESTABLECIDA EN EL CODIGO TRIBUTARIO Y SU REGLAMENTE DE APLICACIÓN, ADEMAS SE CONSIDERÓ LA NORMA DE AUDITORIA DE CUMPLIMIENTO DE OBLIGACIONES TRIBUTARI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DICTAMENES E INFORMES FISCALES INCOMPLETOS DE  LOS EJERCICIOS DE 2001, 2002, 2003 Y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828800"/>
          <a:ext cx="8153280" cy="4708440"/>
        </p:xfrm>
        <a:graphic>
          <a:graphicData uri="http://schemas.openxmlformats.org/drawingml/2006/table">
            <a:tbl>
              <a:tblPr/>
              <a:tblGrid>
                <a:gridCol w="2060280"/>
                <a:gridCol w="2102040"/>
                <a:gridCol w="1930320"/>
                <a:gridCol w="2060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 Reci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2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552 DICTAMENES E INFORMES INCOMPLETOS, SE DETERMINARON PARA CADA EJERCICIO, PORCENTAJES SIGNIFICACTIVOS DE INCUMPLIMIENT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INCUMPLIMIENTOS DETECTADOS</a:t>
            </a: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197000"/>
          <a:ext cx="8209080" cy="4710240"/>
        </p:xfrm>
        <a:graphic>
          <a:graphicData uri="http://schemas.openxmlformats.org/drawingml/2006/table">
            <a:tbl>
              <a:tblPr/>
              <a:tblGrid>
                <a:gridCol w="1293840"/>
                <a:gridCol w="1379520"/>
                <a:gridCol w="1384560"/>
                <a:gridCol w="1384200"/>
                <a:gridCol w="1384200"/>
                <a:gridCol w="13827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pl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.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7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.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.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189"/>
          <p:cNvSpPr/>
          <p:nvPr/>
        </p:nvSpPr>
        <p:spPr>
          <a:xfrm>
            <a:off x="3348000" y="1773360"/>
            <a:ext cx="12240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INCUMPLIMIENTOS DETERMINADOS EN ANEXOS AL DICTAMEN FISCAL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TALLE DE ANEXOS.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Errores Generales en el formulario F-45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8 %         Análisis Comparativo Cuenta Costos y Gas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Comparativa Entre la Utilidad Contable y Fisc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onciliación Ingresos Registros, Impuestos Declarados  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justificaciones de Difer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3 %         Comp. Inventario Físicos s/ Auditoria y Registr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0 %         Cuadro Activos Fij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20 %         Resumen De Antigüedad de Saldos Ctas por Cobr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uadro de la Proporcionalidad del Cred. Fiscal I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05 %          Detalle de Hallazgos determinad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%         CUANTIFIC. DE DEFICIENCIAS POR ANEXOS  EN 289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DETERMINADOS EN LOS ESTADOS FINANCIEROS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ESTADOS FINANCIEROS.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Balance General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Estado de  Resultado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30 %                 Estado  de Flujo de  Efectivo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--   40 %                 Estado de  Variación del Capit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TIPO DE DEFICIENCIA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0  %               Sin Sello de Responsab. según Reglamento del C.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4  %               Sin Sellos del auditor y /o Empres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1 %                Con error en las cifr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35 %                Sin firmas de los Responsables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10 %                No fueron presen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4:29:24Z</dcterms:modified>
  <cp:revision>73</cp:revision>
  <dc:subject/>
  <dc:title>COMPROBANTE DE CRÉDITO FISCAL (ART. 114 LIT. A) C.T.)</dc:title>
</cp:coreProperties>
</file>