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C8F6-2817-448E-AA08-4FD2E597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E03-52EC-4DFD-983C-65F39D49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CBC-94A1-4FA0-8DE2-C6742902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93DE-4D9E-4EE6-9E7E-FC12158B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C3C-666B-4C7F-8AA6-8043BD4D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CAD-D05A-4B6E-A23F-97D7A1D1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D01A-1AAF-437B-84F2-82FC0BE9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2618-5F55-42D6-8551-DA16AD6C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75F3-51AE-4B42-8A31-5FE32FEA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9D5-7375-488D-94EE-74480C0B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7AE-AB3D-47C7-A492-28FAC94F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4960-54E7-4EF9-A3CA-5A2FA9D2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3DF3-C589-4132-98B3-EBE1C386D2A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FICIENCIAS E INCUMPLIMIENTOS MAS FRECUENTES EN UNA AUDITORIA FIS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WordArt 9"/>
          <p:cNvSpPr txBox="1"/>
          <p:nvPr/>
        </p:nvSpPr>
        <p:spPr>
          <a:xfrm>
            <a:off x="2050920" y="981000"/>
            <a:ext cx="504036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IRECCION GENERAL DE IMPUESTOS INTERNOS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INFORMACION REQUERIDA AL AUDITOR PARA VERIFICAR LOS PROCEDIMIENTOS REALIZAD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7e7ff"/>
                </a:solidFill>
                <a:latin typeface="Arial"/>
              </a:rPr>
              <a:t>PRIMER REQUERIMIENTO DE INFORMACION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testimonio de Escritura Pública de Constitución de la Sociedad que presta los servicios de audit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a planeación de la auditoria realiza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l Estudio y Evaluación del Sistema de Control Interno de la socie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Programa de audito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videncia que sustenta los procedimientos desarrollados en la auditori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7e7ff"/>
                </a:solidFill>
                <a:latin typeface="Arial"/>
              </a:rPr>
              <a:t>PRIMER REQUERIMIENTO DE INFORMAC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 certificación de autorización emitida por el Consejo de Vigilancia de la Profesión de la Contaduría Pública y Auditor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 carta de salvaguar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acuerdo de Junta General de Accionistas, donde conste el nombramien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Dictamen e Informe Fiscal con sus respectivos anexos de la sociedad contribuyente  correspondiente al ejercicio 200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SEGUNDO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836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apeles de trabajo que evidencien como determino y evaluó los factores de Riesgo Fiscales en la planeación de la audito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apeles de trabajo que evidencien como determino las muestras (alcance y profundidad) a examinar y los procedimientos de auditorias a utilizar en la auditoria de la socie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o anterior se solicito conforme a la información realizada en el apartado del Informe Fiscal en su Romano II, en el que asevera “como parte de nuestro examen, Planificamos y evaluamos la estructura del control interno, a fin de determinar el Riesgo Fiscal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7e7ff"/>
                </a:solidFill>
                <a:latin typeface="Arial"/>
              </a:rPr>
              <a:t>SEGUNDO REQUERIMIENTO DE INFORMACIO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765000"/>
            <a:ext cx="8540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Asimismo, con base a la afirmación realizada en el Romano II.2 del Informe Fiscal de la sociedad XXXX, para el año 200X, proporcionar evidencia de las pruebas realizadas a las retenciones de Renta e IVA, en las que consten que los cálculos están conforme a la normativa tributaria establec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roporcionar papeles de trabajo que evidencien la verificación de la valuación del inventario declarado por la contribuyente social XXXX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para el año 200X;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expresando el método utilizado para su valuación que permitan determinar que el inventario final al 31 de diciembre de 200X esta correctamente valu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apeles de trabajo que contengan la evidencia de la verificación del inventario físico tomado (observado) contra el control de inventario y lo registrado  contablem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TERCER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os papeles de trabajo en los cuales constan los procedimientos de verificación de costos y gastos relacionados con la adquisición de bienes y servicios realizado en el año 200X, por la sociedad contribuyente XXX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su deducibilidad y relación con la renta gravada para efectos de Impuesto sobre la Renta, de acuerdo a lo manifestado en Romanos II.1 de su informe fiscal. Así mismo  proporcionar en detalle las cuentas y subcuentas de Cost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Proporcione los papeles de trabajo en los que conste la verificación de los ingresos, obtenidos por la sociedad, destacando atributos tales como: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erificación de registros contables específicamente en las cuentas de ingresos, identificación de las fuentes de ingresos gravables y exentos obtenidas por la contribuyente tanto en el Impuesto sobre la Renta como en el Impuesto a la Transferencia de Bienes Muebles y a la Prestación de Servicios, en base a los requisitos que señala el articulo 67 literal d) del Reglamento de Aplicación  del Código Tributario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TERCER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836640"/>
            <a:ext cx="8540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videncia de los procedimientos y técnicas aplicadas para determinar la razonabilidad que ha generado  la  disminución de los Ingresos, el Costo de Venta y el Margen de Utilidad Bruta, para el ejercicio 20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videncias (Papeles de Trabajo), que sustentan si realizo el comparativo físico con el contable y registros de control de inventarios  si las cifras  fueron valorados de acuerdo al método Legal en relación al articulo 143 del código tributario, si verifico las diferencias de Inventarios (faltantes y sobrantes),  cual fue el tratamiento fiscal dado a las diferencias, en base a lo señalado en el articulo 142 del Código Tributario en relación con los artículos 67 literal f) y 81 del Reglamento de Aplicación del Código Tributari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TERCER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roporcionar los papeles de trabajo donde se evidencia la determinación de la Planilla de Decisiones Preliminares y establecer las Áreas de Riesgo Fiscal, que  sirvieron  de  base para realizar el programa de la Auditoria, de acuerdo a lo dispuesto en el artículo 58 del Reglamento de Aplicación del Código Tributario y párrafos 29, 30 y 31 de Norma para Auditoría de Cumplimiento de Obligaciones Tributarias, realizado a la sociedad XXXX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para el año 200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programa de auditoría desarrollado a la sociedad contribuyente XXXX</a:t>
            </a:r>
            <a:r>
              <a:rPr b="1" i="1" lang="es-MX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 referenciado y firmado por los respons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INCUMPLIMIENTOS DETERMINADO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836640"/>
            <a:ext cx="85406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1.- No </a:t>
            </a: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emitió  el Dictamen e Informe Fiscal de acuerdo a las disposiciones establecidas en el Código Tributario su Reglamento, Leyes Tributarias y Ley Reguladora del Ejercicio de la Contaduría Publica, incumpliendo la obligación establecida en el Art. 135 Lit. a) del Código Tributario en relación con los Arts. 129 Inc. 1°, 130 Inc. 2° y 132 Lit. a) del mismo Códig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 auditor XXX ha incumplido lo establecido en el artículo 135 literal e) del Código Tributario, ya que no presento en el plazo establecido la información solicitada relacionada con el dictamen e informe fiscal emitidos, incluyendo los papeles de trabajo, respondiendo con atraso de 86 días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066320"/>
            <a:ext cx="843912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7e7ff"/>
                </a:solidFill>
                <a:latin typeface="Arial"/>
                <a:ea typeface="Times New Roman"/>
              </a:rPr>
              <a:t>REGIMEN DE INFRACCIONES Y SANCIONES RELACIONADOS</a:t>
            </a:r>
            <a:br>
              <a:rPr sz="3600"/>
            </a:br>
            <a:r>
              <a:rPr b="1" lang="es-ES" sz="3600" spc="-1" strike="noStrike">
                <a:solidFill>
                  <a:srgbClr val="b7e7ff"/>
                </a:solidFill>
                <a:latin typeface="Arial"/>
                <a:ea typeface="Times New Roman"/>
              </a:rPr>
              <a:t> CON EL </a:t>
            </a:r>
            <a:br>
              <a:rPr sz="3600"/>
            </a:br>
            <a:r>
              <a:rPr b="1" lang="es-ES" sz="3600" spc="-1" strike="noStrike">
                <a:solidFill>
                  <a:srgbClr val="b7e7ff"/>
                </a:solidFill>
                <a:latin typeface="Arial"/>
                <a:ea typeface="Times New Roman"/>
              </a:rPr>
              <a:t>DICTAMEN FISCAL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1.- INCUMPLIMIENTOS QUE CONLLEVAN A GENERAR DICTAMENES E INFORMES INCOMPLETOS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DESPUES DE ANALIZAR LOS DICTAMENES E INFORMES INCOMPLETOS, SE DETERMINAN PARA CADA EJERCICIO, INCUMPLIMIENTOS SIGNIFICATIVOS, DE </a:t>
            </a:r>
            <a:r>
              <a:rPr b="1" lang="es-MX" sz="3200" spc="-1" strike="noStrike">
                <a:solidFill>
                  <a:srgbClr val="66ffff"/>
                </a:solidFill>
                <a:latin typeface="Arial"/>
              </a:rPr>
              <a:t>CARÁCTER TECNICO Y LEGAL</a:t>
            </a: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;  FENÓMENO QUE LA ADMINISTRACIÓN TRIBUTARIA HA TOMADO CON MUCHA PREOCUPACIÓN, DEBIDO AL GRADO DE EXIGENCIA QUE ESTABLECEN LAS  LEYES VINCULADAS CON EL TRABAJO PROFESIONAL DEL AUDITOR FISCA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79280" y="838080"/>
            <a:ext cx="8785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) EMITIR DICTAMEN E INFORME FISCAL DE ACUERDO AL ART. 132 CT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CÓDIGO TRIBUTARI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RÁ OPIN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JARÁ CONSTANCIA DEL CUMPLIMIENTO O NO DE OBLIGACIONES TRIBUTARIAS FORMALES O SUSTAN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 ESTÉN INCLUIDAS EN EL PERÍODO A DICTAMIN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IRMA DE AUDITOR NOMBRADO QUE DICTAM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ARSE POR ESCRITO EN PLAZO LEG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      </a:t>
            </a: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REGLAMENTO DE APLICACIÓN C.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      </a:t>
            </a: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LEYES TRIBU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      </a:t>
            </a: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LEY REGULADORA DEL EJERCICIO DE LA CONTADU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C); SANCIÓN $ 633.60 (4 SALARIOS MÍNIM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50920" y="2286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VERIFICACION DICTAMINADOR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LANIFICACIÓN DE LA AUDITO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QUISITOS DE LA  DOCUMENTACIÓN PRESENTADA ANTE LA ADMINISTRACIÓN TRIBUTA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ABAJO TÉCNICO DEL DICTAMINAD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VIDENCIA SUFICIENTE Y APROPI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PLANIFICACIÓN DE LA AUDITORIA</a:t>
            </a:r>
            <a:r>
              <a:rPr b="0" lang="es-ES_tradnl" sz="4400" spc="-1" strike="noStrike">
                <a:solidFill>
                  <a:srgbClr val="b7e7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ÁLISIS E INTERPRETACION FINANCIERA/TRIBUTARIA (EXAMEN DE ELEMENTOS PROBATORIOS E INFORMACIÓN CONTENIDA EN LOS ESTADOS FINANCIEROS Y NOTAS RELACIONADAS, DECLARACIONES Y PRUEBAS RELACIONADA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VALUACIÓN DEL SISTEMA DE CONTROL INTERNO (CON ENFOQUE FISCAL Y ADAPTADO AL CONTRIBUYENTE EN ESTUD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LANILLA DE DECISIONES PRELIMINARES (ÁREAS, RUBROS, COMPONENTES, FACTORES DE RIESGO DETERMINADAS POR EL AUDITOR FISCAL)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GRAMA DE AUDITORIA (ADAPTADO AL CONTRIBUYENTE EN ESTUD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52600" y="228600"/>
            <a:ext cx="78422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EVIDENCIA SUFICIENTE Y APROPIADA</a:t>
            </a: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757160"/>
            <a:ext cx="85406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UMENTACIÓN PROBATORIA CONTENIDA EN LOS PAPELES DE TRABAJ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 QUE SOPORTA EL TRABAJO TECNICO REALIZ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CLA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AD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 CONT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OPORTES CONT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2600" y="228600"/>
            <a:ext cx="8175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TRABAJO TÉCNICO DEL DICTAMINADOR</a:t>
            </a: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757160"/>
            <a:ext cx="85406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JECUCIÓN Y ALCANCE DE LOS PROCEDIMIENTOS EFECTUADOS POR EL DICTAMINAD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RMATIVA LEG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 DE AUDITO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837720"/>
            <a:ext cx="8497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) GUARDAR LA MÁS ABSOLUTA INDEPENDENCIA DE CRITERIO CON RESPECTO AL SUJETO DE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D); SANCIÓN $ 633.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4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127160" y="228600"/>
            <a:ext cx="794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560" y="1066680"/>
            <a:ext cx="85122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) REFLEJAR EN EL DICTAMEN Y EN EL INFORME FI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REALIDAD FINANCIERA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SITUACIÓN TRIBUT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 CONFORMIDAD A LOS PRINCIPIOS DE CONTABILIDAD QUE ESTABLEZCA EL CVPC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Y LAS LEYES TRIBUTARIAS, RESPECTIVAMENTE, DEL SUJETO DICTAMI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D);     SANCIÓN    $ 633.60 (4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279440" y="217440"/>
            <a:ext cx="786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REQUISITOS DE LA  DOCUMENTACIÓN PRESENTADA ANTE LA ADMINISTRACIÓN TRIBUTARIA</a:t>
            </a:r>
            <a:r>
              <a:rPr b="1" lang="es-ES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CTAMEN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FORME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AD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EXOS A LOS ESTAD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os Requisitos de la  Documentación emitida y presentada ante la Administración Tributaria por el auditor nombrado deberá estar Conforme al Código Tributario y su Regl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838080"/>
            <a:ext cx="864072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7e7ff"/>
                </a:solidFill>
                <a:latin typeface="Arial"/>
                <a:ea typeface="Times New Roman"/>
              </a:rPr>
              <a:t>D) GARANTIZAR QUE LO EXPRESADO EN EL    DICTAMEN E INFORME FISCAL ESTÉ RESPALDADO 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OS ASIENTOS CONTABLES EN LIBROS LEGALIZADO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STROS AUXILIARES Y CUALQUIER OTRO REGISTRO ESPECI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 CONFORME A LAS LEYES TRIBUTARIAS, LEYES ESPECIALES Y A LA TÉCNICA CONTABLE, DEBA LLEVAR EL SUJETO PASIV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Í COMO LA DOCUMENTACIÓN QUE SUSTENTA DICHOS REGISTRO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D); SANCIÓN $ 633.60         (4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279440" y="65160"/>
            <a:ext cx="786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304920"/>
            <a:ext cx="83041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7e7ff"/>
                </a:solidFill>
                <a:latin typeface="Arial"/>
                <a:ea typeface="Times New Roman"/>
              </a:rPr>
              <a:t>E) ATENDER LOS REQUERIMIENTOS QUE FORMULE LA DGII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MINISTRANDO DENTRO DE LOS PLAZOS QUE ESTA SEÑALE, LA INFORMACIÓN SOLICITAD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LUYENDO PAPELES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E); SANCIÓN              $1,900.80 (12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7e7ff"/>
                </a:solidFill>
                <a:latin typeface="Arial"/>
              </a:rPr>
              <a:t>ANEXOS AL DICTAMEN FISCAL EN LOS QUE SE DETERMIAN MAYORES INCUMPLIMIENTOS: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rrores Generales en el formulario F-455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Análisis Comparativo Cuenta Costos y Gast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mparativa Entre la Utilidad Contable y Fisca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nciliación Ingresos Registros, Impuestos Declarados justificaciones de Difer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mp. Inventario Físicos s/ Auditoria y Registr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uadro Activos Fijo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Resumen De Antigüedad de Saldos Ctas por Cobr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uadro de la Proporcionalidad del Cred. Fiscal IV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Detalle de Hallazgos determin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856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7e7ff"/>
                </a:solidFill>
                <a:latin typeface="Arial"/>
              </a:rPr>
              <a:t>Dictámenes e Informes Fiscales que carecen de validez para la Administración Tributaria  (Art. 136 C.T.)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748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s emitidos en contravención a lo establecido en el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rtículo 22, literales del a) al h) de la Ley Regulador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l Ejercicio de la Contadurí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ando sea o haya sido en el ejercicio fiscal que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ictamina y en el ejercicio en que produce el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ictamen: director, miembro del consejo de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dministración, administrador o empleado del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tribuyente o de una empresa afiliada, subsidiari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 que esté vinculada económica 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dministrativamente a él, cualquiera que sea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orma como se le designe y se le retribuyan sus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rvici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856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7e7ff"/>
                </a:solidFill>
                <a:latin typeface="Arial"/>
              </a:rPr>
              <a:t>Dictámenes e Informes Fiscales que carecen de validez para la Administración Tributaria  (Art. 136 C.T.)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748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07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tenga o haya tenido en el ejercicio fiscal que dictamine y en aquel en que emita el dictamen, alguna injerencia o vinculación económica en los negocios del contribuyente, que le impidan mantener su independencia e imparcialida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se reciba por cualquier circunstancia o motivo, participación directa en función de los resultados de su auditoria o emita su dictamen en circunstancias en las cuales su emolumento dependa del resultado del mism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856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7e7ff"/>
                </a:solidFill>
                <a:latin typeface="Arial"/>
              </a:rPr>
              <a:t>Dictámenes e Informes Fiscales que carecen de validez para la Administración Tributaria (Art. 136 C.T.)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748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07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uando se tenga la calidad de agente o corredor de bolsa de valores o similares en ejercicio; 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)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uando se trate de empleados o funcionarios del Ministerio de Hacienda y de la Corte de Cuentas de la Repúbl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856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  <a:ea typeface="Times New Roman"/>
              </a:rPr>
              <a:t>PROCEDIMIENTOS PARA LA IMPOSICIÓN DE SANCIONES POR INCUMPLIMIENTOS A LAS OBLIGACIONES</a:t>
            </a: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b7e7ff"/>
                </a:solidFill>
                <a:latin typeface="Arial"/>
                <a:ea typeface="Times New Roman"/>
              </a:rPr>
              <a:t>TRIBUTARIA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7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UTO DE DESIGNACIÓN (ART. 174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S (ARTS. 135 Lit. e) y 173 Lit. n) 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ENCIA SANCIONATORIA (ART. 259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EVIO PROCESO DE AUDIENCIA (ART. 260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 PARA SUBSANAR INCUMPLIMIENTO DENTRO DE PLAZO (ART. 261 Num. 2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SOLUCIÓN  RAZONADA (ART. 260 Inc. Final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GRAVANTES DE SANCIONES ( ART. 262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9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b7e7ff"/>
                </a:solidFill>
                <a:latin typeface="Arial"/>
              </a:rPr>
              <a:t>DEFICIENCIAS EN LOS ESTADOS FINANCIEROS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ffffff"/>
                </a:solidFill>
                <a:latin typeface="Arial"/>
              </a:rPr>
              <a:t>TIPO DE DEFICIENCIA</a:t>
            </a:r>
            <a:r>
              <a:rPr b="1" lang="es-MX" sz="33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Sin Sello de Responsab. según Reglamento del C.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Sin Sellos del auditor y /o Empres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n error en las cifra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Sin firmas de los Responsables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No fueron presen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INCUMPLIMIENTOS EN LAS NOTAS A LOS ESTADOS FINANCIEROS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 u="sng">
                <a:solidFill>
                  <a:srgbClr val="ffffff"/>
                </a:solidFill>
                <a:uFillTx/>
                <a:latin typeface="Arial"/>
              </a:rPr>
              <a:t>CAUSALES EN  NOTAS A  EST.  FINANC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-- Corresponden a otra entidad,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-- Contradicción con las cifras de los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-- Incoherencia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840" y="404280"/>
            <a:ext cx="843264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INCUMPLIMIENTOS EN LA ESTRUCTURA DE LOS  DICTAMENES E INFORMES FISCAL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MX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RESPECTO AL CONTENIDO DE LOS DICTAMENES E INFORMES FISCALES SE DETERMINAN LAS SIGUIENTES DEFICIENCIA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EN NOTAS PRESENTADAS SE EXPRESA QUE NO SE PUEDE OPINAR; PERO SE AGREGAN TODOS LOS ANEXOS COMPLET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2.  SE PRESENTARON LOS DICTAMENES E INFORMES EN FECHA, PERO SIN LOS ANEX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3.   SEGÚN NOTAS SIMPLES SE ABSTIENEN DE OPINAR, SIN OBSERVAR LOS PROCEDIMIENTOS QUE ESTABLECE EL CODIGO TRIBUTARIO Y LA NORMA DE AUDITORIA DE CUMPLIMIENTOS DE OBLIGACIONES TRIBUTARIAS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840" y="404280"/>
            <a:ext cx="843264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DEFICIENCIAS, EN LA ESTRUCTURA DE LOS  DICTAMENES E INFORMES FISCAL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4. SE HAN PRESENTADO ADICIONES AL DICTAMEN E INFORME, CAMBIANDO PARRAFOS SIN JUSTIFICACIÓN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5. SE HAN ENVIADO COMPLEMENTOS INNECESARIOS, SEÑALANDO QUE LAS POLITICAS DE LA EMPRESA HAN CAMBIADO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6. HAN  MODIFICANDO EL INFORME  PARA SEÑALAR QUE EL CONTRIBUYENTE YA SUBSANÓ LOS INCUMPLIMIENTOS DE UNA CARTA EXHORTO QUE SE ENVIÓ DIRECTAMENTE AL CONTRIBUYENTE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e7ff"/>
                </a:solidFill>
                <a:latin typeface="Arial"/>
              </a:rPr>
              <a:t>2-PAGO DE SANCIONES  POR  DICTAMINADORES A CAUSAS DE INCUMPLIMIENTOS AL PRESENTAR LOS  DICTAMENES  E INFORMES FISCALES  EN FORMA INCOMPLETA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A ADMINISTRACIÓN TRIBUTARIA HA REALIZADO SU GESTIÓN DE DOS FORM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1- GESTIÓN VOLUNTARIA, EN DONDE LA LEY   PERMITE QUE LOS INCUMPLIMIENTOS PUEDAN SOLVENTARSE DE FORMA VOLUNTARIA, POR PARTE DEL AUDITOR FIS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2-  GESTIÓN COHERSITIVA, QUE ES LA QUE ADMINISTRACIÓN TRIBUTARIA DEBERÁ APLICAR AL INFRACTOR,  CON BASE EN LOS LIMITES DE LAS FACULTADES QUE LA LEY LE OTORG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ES IMPORTANTE ACLARAR QUE LA GESTIÓN EN GENERAL ESTA BASADA EN PROGRAMAS ESPECIFICOS DIRIGIDOS PARA ESTE SECTOR PROFES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510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7e7ff"/>
                </a:solidFill>
                <a:latin typeface="Arial"/>
              </a:rPr>
              <a:t>4- REITERACIÓN DE DEFICIENCIAS EN DICTAMENES E INFORMES INCOMPLETO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 LA EVALUACIÓN REALIZADA AL DICTAMEN E INFORME FISCAL, PUEDE PERFECTAMENTE ASEGURARSE QUE  A UNOS NO PUEDE ATRIBUIRSE LA CATEGORIA DE DICTAMEN E INFORME, DEBIDO A QUE SOLAMENTE CONSTITUYEN UN DOCUMENTO PRESENTADO, SIN CUMPLIR LOS REQUISITOS QUE ESTABLECE LA LEY, PARA CONSIDERARLOS COMO T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 CADA UNO DE LOS DOCUMENTOS PRESENTADOS EN CALIDAD DE DICTAMEN E INFORME FISCAL, PUEDEN COINCIDIR HASTA CUATRO DEFICIENCIAS COMUNES REITERADAS, POR EJEMPLO: PROBLEMAS EN 1) ANEXOS, 2) ESTADOS FINANCIEROS, 3) NOTAS A LOS ESTADOS FINANCIEROS, Y 4)  MAL EXTRUCTURA DEL DICTMEN E INFORME FIS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3:46:16Z</dcterms:created>
  <dc:creator>UNIDAD DE INFORMATICA</dc:creator>
  <dc:description/>
  <dc:language>en-US</dc:language>
  <cp:lastModifiedBy>lnunez</cp:lastModifiedBy>
  <cp:lastPrinted>2002-04-16T12:48:12Z</cp:lastPrinted>
  <dcterms:modified xsi:type="dcterms:W3CDTF">2009-03-31T15:40:13Z</dcterms:modified>
  <cp:revision>75</cp:revision>
  <dc:subject/>
  <dc:title>COMPROBANTE DE CRÉDITO FISCAL (ART. 114 LIT. A) C.T.)</dc:title>
</cp:coreProperties>
</file>