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44D0-29CD-478D-AF63-0F368E136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765E-F68A-4004-B299-CBDB81A7B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408C-3805-46B5-93C2-EDF6F05D9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733F-2366-4981-9AC3-9E48A0FFA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B18E-3FEB-432D-BA84-F2F71A65C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7C71-0E46-47E2-9B8F-F2CB3FC88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80B9-D753-49A3-BA81-F484092C4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4A02-50EE-4AB7-9365-E7C9F74EB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23B6-2306-406A-BE1C-43CC25D7B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9981-7510-4796-8D30-3BB1E66B5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5C91-C3A9-4357-BDA3-B43C764A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1F30-F7F1-4F91-A17F-68A7AE4C5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2E0D4-B403-486C-AF2D-A22352F6FCDE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259920"/>
            <a:ext cx="914400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DEFICIENCIAS E INCUMPLIMIENTOS MAS FRECUENTES EN UNA AUDITORIA FIS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WordArt 9"/>
          <p:cNvSpPr txBox="1"/>
          <p:nvPr/>
        </p:nvSpPr>
        <p:spPr>
          <a:xfrm>
            <a:off x="2050920" y="981000"/>
            <a:ext cx="5040360" cy="4319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DIRECCION GENERAL DE IMPUESTOS INTERNOS</a:t>
            </a:r>
            <a:endParaRPr b="0" lang="en-US" sz="3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INFORMACION REQUERIDA AL AUDITOR PARA VERIFICAR LOS PROCEDIMIENTOS REALIZAD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b7e7ff"/>
                </a:solidFill>
                <a:latin typeface="Arial"/>
              </a:rPr>
              <a:t>PRIMER REQUERIMIENTO DE INFORMACION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testimonio de Escritura Pública de Constitución de la Sociedad que presta los servicios de auditor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La planeación de la auditoria realizad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El Estudio y Evaluación del Sistema de Control Interno de la socie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Programa de audito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Evidencia que sustenta los procedimientos desarrollados en la auditoria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b7e7ff"/>
                </a:solidFill>
                <a:latin typeface="Arial"/>
              </a:rPr>
              <a:t>PRIMER REQUERIMIENTO DE INFORMACION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La certificación de autorización emitida por el Consejo de Vigilancia de la Profesión de la Contaduría Pública y Auditorí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La carta de salvaguard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El acuerdo de Junta General de Accionistas, donde conste el nombramiento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El Dictamen e Informe Fiscal con sus respectivos anexos de la sociedad contribuyente  correspondiente al ejercicio 200X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b7e7ff"/>
                </a:solidFill>
                <a:latin typeface="Arial"/>
              </a:rPr>
              <a:t>SEGUNDO REQUERIMIENTO DE INFORMACION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1680" y="836280"/>
            <a:ext cx="85406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Papeles de trabajo que evidencien como determino y evaluó los factores de Riesgo Fiscales en la planeación de la auditori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Papeles de trabajo que evidencien como determino las muestras (alcance y profundidad) a examinar y los procedimientos de auditorias a utilizar en la auditoria de la socie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Lo anterior se solicito conforme a la información realizada en el apartado del Informe Fiscal en su Romano II, en el que asevera “como parte de nuestro examen, Planificamos y evaluamos la estructura del control interno, a fin de determinar el Riesgo Fiscal…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53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b7e7ff"/>
                </a:solidFill>
                <a:latin typeface="Arial"/>
              </a:rPr>
              <a:t>SEGUNDO REQUERIMIENTO DE INFORMACION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765000"/>
            <a:ext cx="85406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Asimismo, con base a la afirmación realizada en el Romano II.2 del Informe Fiscal de la sociedad XXXX, para el año 200X, proporcionar evidencia de las pruebas realizadas a las retenciones de Renta e IVA, en las que consten que los cálculos están conforme a la normativa tributaria estableci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Proporcionar papeles de trabajo que evidencien la verificación de la valuación del inventario declarado por la contribuyente social XXXX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 para el año 200X;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 expresando el método utilizado para su valuación que permitan determinar que el inventario final al 31 de diciembre de 200X esta correctamente valu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Papeles de trabajo que contengan la evidencia de la verificación del inventario físico tomado (observado) contra el control de inventario y lo registrado  contablemente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53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b7e7ff"/>
                </a:solidFill>
                <a:latin typeface="Arial"/>
              </a:rPr>
              <a:t>TERCER REQUERIMIENTO DE INFORMACION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Los papeles de trabajo en los cuales constan los procedimientos de verificación de costos y gastos relacionados con la adquisición de bienes y servicios realizado en el año 200X, por la sociedad contribuyente XXX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 su deducibilidad y relación con la renta gravada para efectos de Impuesto sobre la Renta, de acuerdo a lo manifestado en Romanos II.1 de su informe fiscal. Así mismo  proporcionar en detalle las cuentas y subcuentas de Costos y Gast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R" sz="2400" spc="-1" strike="noStrike">
                <a:solidFill>
                  <a:srgbClr val="ffffff"/>
                </a:solidFill>
                <a:latin typeface="Arial"/>
              </a:rPr>
              <a:t>Proporcione los papeles de trabajo en los que conste la verificación de los ingresos, obtenidos por la sociedad, destacando atributos tales como: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verificación de registros contables específicamente en las cuentas de ingresos, identificación de las fuentes de ingresos gravables y exentos obtenidas por la contribuyente tanto en el Impuesto sobre la Renta como en el Impuesto a la Transferencia de Bienes Muebles y a la Prestación de Servicios, en base a los requisitos que señala el articulo 67 literal d) del Reglamento de Aplicación  del Código Tributario.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46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b7e7ff"/>
                </a:solidFill>
                <a:latin typeface="Arial"/>
              </a:rPr>
              <a:t>TERCER REQUERIMIENTO DE INFORMACION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836640"/>
            <a:ext cx="85406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Evidencia de los procedimientos y técnicas aplicadas para determinar la razonabilidad que ha generado  la  disminución de los Ingresos, el Costo de Venta y el Margen de Utilidad Bruta, para el ejercicio 200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Evidencias (Papeles de Trabajo), que sustentan si realizo el comparativo físico con el contable y registros de control de inventarios  si las cifras  fueron valorados de acuerdo al método Legal en relación al articulo 143 del código tributario, si verifico las diferencias de Inventarios (faltantes y sobrantes),  cual fue el tratamiento fiscal dado a las diferencias, en base a lo señalado en el articulo 142 del Código Tributario en relación con los artículos 67 literal f) y 81 del Reglamento de Aplicación del Código Tributari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b7e7ff"/>
                </a:solidFill>
                <a:latin typeface="Arial"/>
              </a:rPr>
              <a:t>TERCER REQUERIMIENTO DE INFORMACION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680" y="1052640"/>
            <a:ext cx="85406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Proporcionar los papeles de trabajo donde se evidencia la determinación de la Planilla de Decisiones Preliminares y establecer las Áreas de Riesgo Fiscal, que  sirvieron  de  base para realizar el programa de la Auditoria, de acuerdo a lo dispuesto en el artículo 58 del Reglamento de Aplicación del Código Tributario y párrafos 29, 30 y 31 de Norma para Auditoría de Cumplimiento de Obligaciones Tributarias, realizado a la sociedad XXXX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 para el año 200X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El programa de auditoría desarrollado a la sociedad contribuyente XXXX</a:t>
            </a:r>
            <a:r>
              <a:rPr b="1" i="1" lang="es-MX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s-MX" sz="2800" spc="-1" strike="noStrike">
                <a:solidFill>
                  <a:srgbClr val="ffffff"/>
                </a:solidFill>
                <a:latin typeface="Arial"/>
              </a:rPr>
              <a:t> referenciado y firmado por los responsab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b7e7ff"/>
                </a:solidFill>
                <a:latin typeface="Arial"/>
              </a:rPr>
              <a:t>INCUMPLIMIENTOS DETERMINADOS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836640"/>
            <a:ext cx="8540640" cy="52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1.- No </a:t>
            </a:r>
            <a:r>
              <a:rPr b="0" i="1" lang="es-CR" sz="2400" spc="-1" strike="noStrike">
                <a:solidFill>
                  <a:srgbClr val="ffffff"/>
                </a:solidFill>
                <a:latin typeface="Arial"/>
              </a:rPr>
              <a:t>emitió  el Dictamen e Informe Fiscal de acuerdo a las disposiciones establecidas en el Código Tributario su Reglamento, Leyes Tributarias y Ley Reguladora del Ejercicio de la Contaduría Publica, incumpliendo la obligación establecida en el Art. 135 Lit. a) del Código Tributario en relación con los Arts. 129 Inc. 1°, 130 Inc. 2° y 132 Lit. a) del mismo Códig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2.- </a:t>
            </a:r>
            <a:r>
              <a:rPr b="0" i="1" lang="es-CR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l auditor XXX ha incumplido lo establecido en el artículo 135 literal e) del Código Tributario, ya que no presento en el plazo establecido la información solicitada relacionada con el dictamen e informe fiscal emitidos, incluyendo los papeles de trabajo, respondiendo con atraso de 86 días.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1066320"/>
            <a:ext cx="8439120" cy="39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b7e7ff"/>
                </a:solidFill>
                <a:latin typeface="Arial"/>
                <a:ea typeface="Times New Roman"/>
              </a:rPr>
              <a:t>REGIMEN DE INFRACCIONES Y SANCIONES RELACIONADOS</a:t>
            </a:r>
            <a:br>
              <a:rPr sz="3600"/>
            </a:br>
            <a:r>
              <a:rPr b="1" lang="es-ES" sz="3600" spc="-1" strike="noStrike">
                <a:solidFill>
                  <a:srgbClr val="b7e7ff"/>
                </a:solidFill>
                <a:latin typeface="Arial"/>
                <a:ea typeface="Times New Roman"/>
              </a:rPr>
              <a:t> CON EL </a:t>
            </a:r>
            <a:br>
              <a:rPr sz="3600"/>
            </a:br>
            <a:r>
              <a:rPr b="1" lang="es-ES" sz="3600" spc="-1" strike="noStrike">
                <a:solidFill>
                  <a:srgbClr val="b7e7ff"/>
                </a:solidFill>
                <a:latin typeface="Arial"/>
                <a:ea typeface="Times New Roman"/>
              </a:rPr>
              <a:t>DICTAMEN FISCAL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b7e7ff"/>
                </a:solidFill>
                <a:latin typeface="Arial"/>
              </a:rPr>
              <a:t>1.- INCUMPLIMIENTOS QUE CONLLEVAN A GENERAR DICTAMENES E INFORMES INCOMPLETOS 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s-MX" sz="2500" spc="-1" strike="noStrike">
                <a:solidFill>
                  <a:srgbClr val="ffffff"/>
                </a:solidFill>
                <a:latin typeface="Arial"/>
              </a:rPr>
              <a:t>DESPUES DE ANALIZAR LOS DICTAMENES E INFORMES INCOMPLETOS, SE DETERMINAN PARA CADA EJERCICIO, INCUMPLIMIENTOS SIGNIFICATIVOS, DE </a:t>
            </a:r>
            <a:r>
              <a:rPr b="1" lang="es-MX" sz="3200" spc="-1" strike="noStrike">
                <a:solidFill>
                  <a:srgbClr val="66ffff"/>
                </a:solidFill>
                <a:latin typeface="Arial"/>
              </a:rPr>
              <a:t>CARÁCTER TECNICO Y LEGAL</a:t>
            </a:r>
            <a:r>
              <a:rPr b="1" lang="es-MX" sz="2500" spc="-1" strike="noStrike">
                <a:solidFill>
                  <a:srgbClr val="ffffff"/>
                </a:solidFill>
                <a:latin typeface="Arial"/>
              </a:rPr>
              <a:t>;  FENÓMENO QUE LA ADMINISTRACIÓN TRIBUTARIA HA TOMADO CON MUCHA PREOCUPACIÓN, DEBIDO AL GRADO DE EXIGENCIA QUE ESTABLECEN LAS  LEYES VINCULADAS CON EL TRABAJO PROFESIONAL DEL AUDITOR FISCA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179280" y="838080"/>
            <a:ext cx="878544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) EMITIR DICTAMEN E INFORME FISCAL DE ACUERDO AL ART. 132 CT.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b7e7ff"/>
                </a:solidFill>
                <a:latin typeface="Arial"/>
                <a:ea typeface="Times New Roman"/>
              </a:rPr>
              <a:t>CÓDIGO TRIBUTARIO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RÁ OPINA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JARÁ CONSTANCIA DEL CUMPLIMIENTO O NO DE OBLIGACIONES TRIBUTARIAS FORMALES O SUSTANTIV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E ESTÉN INCLUIDAS EN EL PERÍODO A DICTAMIN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FIRMA DE AUDITOR NOMBRADO QUE DICTAM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RESENTARSE POR ESCRITO EN PLAZO LEG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b7e7ff"/>
                </a:solidFill>
                <a:latin typeface="Arial"/>
                <a:ea typeface="Times New Roman"/>
              </a:rPr>
              <a:t>      </a:t>
            </a:r>
            <a:r>
              <a:rPr b="1" lang="es-ES" sz="2000" spc="-1" strike="noStrike">
                <a:solidFill>
                  <a:srgbClr val="b7e7ff"/>
                </a:solidFill>
                <a:latin typeface="Arial"/>
                <a:ea typeface="Times New Roman"/>
              </a:rPr>
              <a:t>REGLAMENTO DE APLICACIÓN C.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b7e7ff"/>
                </a:solidFill>
                <a:latin typeface="Arial"/>
                <a:ea typeface="Times New Roman"/>
              </a:rPr>
              <a:t>      </a:t>
            </a:r>
            <a:r>
              <a:rPr b="1" lang="es-ES" sz="2000" spc="-1" strike="noStrike">
                <a:solidFill>
                  <a:srgbClr val="b7e7ff"/>
                </a:solidFill>
                <a:latin typeface="Arial"/>
                <a:ea typeface="Times New Roman"/>
              </a:rPr>
              <a:t>LEYES TRIBUTAR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b7e7ff"/>
                </a:solidFill>
                <a:latin typeface="Arial"/>
                <a:ea typeface="Times New Roman"/>
              </a:rPr>
              <a:t>      </a:t>
            </a:r>
            <a:r>
              <a:rPr b="1" lang="es-ES" sz="2000" spc="-1" strike="noStrike">
                <a:solidFill>
                  <a:srgbClr val="b7e7ff"/>
                </a:solidFill>
                <a:latin typeface="Arial"/>
                <a:ea typeface="Times New Roman"/>
              </a:rPr>
              <a:t>LEY REGULADORA DEL EJERCICIO DE LA CONTADURÍ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FRACCIÓN ART. 248 LIT. C); SANCIÓN $ 633.60 (4 SALARIOS MÍNIMO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250920" y="22860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b7e7ff"/>
                </a:solidFill>
                <a:latin typeface="Arial"/>
              </a:rPr>
              <a:t>OBLIGACIONES DEL AUDITOR ART. 135 C.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e941c"/>
                </a:solidFill>
                <a:latin typeface="Arial"/>
                <a:ea typeface="Times New Roman"/>
              </a:rPr>
              <a:t>VERIFICACION DICTAMINADORES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601"/>
              </a:spcBef>
              <a:buClr>
                <a:srgbClr val="ee941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LANIFICACIÓN DE LA AUDITORI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601"/>
              </a:spcBef>
              <a:buClr>
                <a:srgbClr val="ee941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EQUISITOS DE LA  DOCUMENTACIÓN PRESENTADA ANTE LA ADMINISTRACIÓN TRIBUTARI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601"/>
              </a:spcBef>
              <a:buClr>
                <a:srgbClr val="ee941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RABAJO TÉCNICO DEL DICTAMINAD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601"/>
              </a:spcBef>
              <a:buClr>
                <a:srgbClr val="ee941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VIDENCIA SUFICIENTE Y APROPIAD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e941c"/>
                </a:solidFill>
                <a:latin typeface="Arial"/>
                <a:ea typeface="Times New Roman"/>
              </a:rPr>
              <a:t>PLANIFICACIÓN DE LA AUDITORIA</a:t>
            </a:r>
            <a:r>
              <a:rPr b="0" lang="es-ES_tradnl" sz="4400" spc="-1" strike="noStrike">
                <a:solidFill>
                  <a:srgbClr val="b7e7ff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ee941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NÁLISIS E INTERPRETACION FINANCIERA/TRIBUTARIA (EXAMEN DE ELEMENTOS PROBATORIOS E INFORMACIÓN CONTENIDA EN LOS ESTADOS FINANCIEROS Y NOTAS RELACIONADAS, DECLARACIONES Y PRUEBAS RELACIONADAS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ee941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VALUACIÓN DEL SISTEMA DE CONTROL INTERNO (CON ENFOQUE FISCAL Y ADAPTADO AL CONTRIBUYENTE EN ESTUDI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ee941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LANILLA DE DECISIONES PRELIMINARES (ÁREAS, RUBROS, COMPONENTES, FACTORES DE RIESGO DETERMINADAS POR EL AUDITOR FISCAL)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ee941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ROGRAMA DE AUDITORIA (ADAPTADO AL CONTRIBUYENTE EN ESTUDI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52600" y="228600"/>
            <a:ext cx="7842240" cy="10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e941c"/>
                </a:solidFill>
                <a:latin typeface="Arial"/>
                <a:ea typeface="Times New Roman"/>
              </a:rPr>
              <a:t>EVIDENCIA SUFICIENTE Y APROPIADA</a:t>
            </a:r>
            <a:r>
              <a:rPr b="1" lang="es-ES_tradnl" sz="2400" spc="-1" strike="noStrike">
                <a:solidFill>
                  <a:srgbClr val="ee941c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757160"/>
            <a:ext cx="85406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OCUMENTACIÓN PROBATORIA CONTENIDA EN LOS PAPELES DE TRABAJO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Y QUE SOPORTA EL TRABAJO TECNICO REALIZ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-3934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CLAR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-3934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STADOS FINANCIE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-3934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LIBROS CONTAB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-3934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OPORTES CONTAB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-3934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OT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52600" y="228600"/>
            <a:ext cx="8175600" cy="10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e941c"/>
                </a:solidFill>
                <a:latin typeface="Arial"/>
                <a:ea typeface="Times New Roman"/>
              </a:rPr>
              <a:t>TRABAJO TÉCNICO DEL DICTAMINADOR</a:t>
            </a:r>
            <a:r>
              <a:rPr b="1" lang="es-ES_tradnl" sz="2400" spc="-1" strike="noStrike">
                <a:solidFill>
                  <a:srgbClr val="ee941c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757160"/>
            <a:ext cx="85406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JECUCIÓN Y ALCANCE DE LOS PROCEDIMIENTOS EFECTUADOS POR EL DICTAMINAD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0" algn="just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RMATIVA LEGAL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RMAS DE AUDITO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250560" y="837720"/>
            <a:ext cx="84978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) GUARDAR LA MÁS ABSOLUTA INDEPENDENCIA DE CRITERIO CON RESPECTO AL SUJETO DE DICTAM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NFRACCIÓN ART. 248 LIT. D); SANCIÓN $ 633.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4 SALARIOS MÍNIM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127160" y="228600"/>
            <a:ext cx="794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b7e7ff"/>
                </a:solidFill>
                <a:latin typeface="Arial"/>
              </a:rPr>
              <a:t>OBLIGACIONES DEL AUDITOR ART. 135 C.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250560" y="1066680"/>
            <a:ext cx="85122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) REFLEJAR EN EL DICTAMEN Y EN EL INFORME FIS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LA REALIDAD FINANCIERA 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LA SITUACIÓN TRIBUTA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 CONFORMIDAD A LOS PRINCIPIOS DE CONTABILIDAD QUE ESTABLEZCA EL CVPCP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Y LAS LEYES TRIBUTARIAS, RESPECTIVAMENTE, DEL SUJETO DICTAMIN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NFRACCIÓN ART. 248 LIT. D);     SANCIÓN    $ 633.60 (4 SALARIOS MÍNIM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279440" y="217440"/>
            <a:ext cx="7864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b7e7ff"/>
                </a:solidFill>
                <a:latin typeface="Arial"/>
              </a:rPr>
              <a:t>OBLIGACIONES DEL AUDITOR ART. 135 C.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e941c"/>
                </a:solidFill>
                <a:latin typeface="Arial"/>
                <a:ea typeface="Times New Roman"/>
              </a:rPr>
              <a:t>REQUISITOS DE LA  DOCUMENTACIÓN PRESENTADA ANTE LA ADMINISTRACIÓN TRIBUTARIA</a:t>
            </a:r>
            <a:r>
              <a:rPr b="1" lang="es-ES" sz="2800" spc="-1" strike="noStrike">
                <a:solidFill>
                  <a:srgbClr val="ee941c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ee941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ICTAMEN FISC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ee941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FORME FISC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ee941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STADOS FINANCIE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ee941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NEXOS A LOS ESTADOS FINANCIE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a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Los Requisitos de la  Documentación emitida y presentada ante la Administración Tributaria por el auditor nombrado deberá estar Conforme al Código Tributario y su Reglame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24000" y="838080"/>
            <a:ext cx="8640720" cy="56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b7e7ff"/>
                </a:solidFill>
                <a:latin typeface="Arial"/>
                <a:ea typeface="Times New Roman"/>
              </a:rPr>
              <a:t>D) GARANTIZAR QUE LO EXPRESADO EN EL    DICTAMEN E INFORME FISCAL ESTÉ RESPALDADO 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LOS ASIENTOS CONTABLES EN LIBROS LEGALIZADOS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REGISTROS AUXILIARES Y CUALQUIER OTRO REGISTRO ESPECIAL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E CONFORME A LAS LEYES TRIBUTARIAS, LEYES ESPECIALES Y A LA TÉCNICA CONTABLE, DEBA LLEVAR EL SUJETO PASIV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SÍ COMO LA DOCUMENTACIÓN QUE SUSTENTA DICHOS REGISTROS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NFRACCIÓN ART. 248 LIT. D); SANCIÓN $ 633.60         (4 SALARIOS MÍNIM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279440" y="65160"/>
            <a:ext cx="7864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b7e7ff"/>
                </a:solidFill>
                <a:latin typeface="Arial"/>
              </a:rPr>
              <a:t>OBLIGACIONES DEL AUDITOR ART. 135 C.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10920" y="304920"/>
            <a:ext cx="83041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b7e7ff"/>
                </a:solidFill>
                <a:latin typeface="Arial"/>
                <a:ea typeface="Times New Roman"/>
              </a:rPr>
              <a:t>E) ATENDER LOS REQUERIMIENTOS QUE FORMULE LA DGII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UMINISTRANDO DENTRO DE LOS PLAZOS QUE ESTA SEÑALE, LA INFORMACIÓN SOLICITAD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CLUYENDO PAPELES DE TRABAJ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NFRACCIÓN ART. 248 LIT. E); SANCIÓN              $1,900.80 (12 SALARIOS MÍNIM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b7e7ff"/>
                </a:solidFill>
                <a:latin typeface="Arial"/>
              </a:rPr>
              <a:t>ANEXOS AL DICTAMEN FISCAL EN LOS QUE SE DETERMIAN MAYORES INCUMPLIMIENTOS: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1680" y="1052280"/>
            <a:ext cx="85406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Errores Generales en el formulario F-455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Análisis Comparativo Cuenta Costos y Gasto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Comparativa Entre la Utilidad Contable y Fiscal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Conciliación Ingresos Registros, Impuestos Declarados justificaciones de Difer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Comp. Inventario Físicos s/ Auditoria y Registro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Cuadro Activos Fijo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Resumen De Antigüedad de Saldos Ctas por Cobrar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Cuadro de la Proporcionalidad del Cred. Fiscal IVA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Detalle de Hallazgos determin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3640" y="152280"/>
            <a:ext cx="8569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b7e7ff"/>
                </a:solidFill>
                <a:latin typeface="Arial"/>
              </a:rPr>
              <a:t>Dictámenes e Informes Fiscales que carecen de validez para la Administración Tributaria  (Art. 136 C.T.)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7487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os emitidos en contravención a lo establecido en el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rtículo 22, literales del a) al h) de la Ley Reguladora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el Ejercicio de la Contaduría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uando sea o haya sido en el ejercicio fiscal que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ictamina y en el ejercicio en que produce el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ictamen: director, miembro del consejo de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dministración, administrador o empleado del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ontribuyente o de una empresa afiliada, subsidiaria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o que esté vinculada económica o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dministrativamente a él, cualquiera que sea la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forma como se le designe y se le retribuyan sus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ervicio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3640" y="152280"/>
            <a:ext cx="8569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b7e7ff"/>
                </a:solidFill>
                <a:latin typeface="Arial"/>
              </a:rPr>
              <a:t>Dictámenes e Informes Fiscales que carecen de validez para la Administración Tributaria  (Art. 136 C.T.)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7487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079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uando tenga o haya tenido en el ejercicio fiscal que dictamine y en aquel en que emita el dictamen, alguna injerencia o vinculación económica en los negocios del contribuyente, que le impidan mantener su independencia e imparcialidad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uando se reciba por cualquier circunstancia o motivo, participación directa en función de los resultados de su auditoria o emita su dictamen en circunstancias en las cuales su emolumento dependa del resultado del mismo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3640" y="152280"/>
            <a:ext cx="8569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b7e7ff"/>
                </a:solidFill>
                <a:latin typeface="Arial"/>
              </a:rPr>
              <a:t>Dictámenes e Informes Fiscales que carecen de validez para la Administración Tributaria (Art. 136 C.T.)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7487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079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)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uando se tenga la calidad de agente o corredor de bolsa de valores o similares en ejercicio; y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f)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uando se trate de empleados o funcionarios del Ministerio de Hacienda y de la Corte de Cuentas de la Repúbl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3640" y="152280"/>
            <a:ext cx="8569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b7e7ff"/>
                </a:solidFill>
                <a:latin typeface="Arial"/>
                <a:ea typeface="Times New Roman"/>
              </a:rPr>
              <a:t>PROCEDIMIENTOS PARA LA IMPOSICIÓN DE SANCIONES POR INCUMPLIMIENTOS A LAS OBLIGACIONES</a:t>
            </a:r>
            <a:r>
              <a:rPr b="1" lang="es-ES_tradnl" sz="2400" spc="-1" strike="noStrike">
                <a:solidFill>
                  <a:srgbClr val="ee941c"/>
                </a:solidFill>
                <a:latin typeface="Arial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b7e7ff"/>
                </a:solidFill>
                <a:latin typeface="Arial"/>
                <a:ea typeface="Times New Roman"/>
              </a:rPr>
              <a:t>TRIBUTARIAS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87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-3934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UTO DE DESIGNACIÓN (ART. 174 C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-3934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REQUERIMIENTOS (ARTS. 135 Lit. e) y 173 Lit. n)  C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-3934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OMPETENCIA SANCIONATORIA (ART. 259 C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-3934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REVIO PROCESO DE AUDIENCIA (ART. 260 C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-3934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REQUERIMIENTO PARA SUBSANAR INCUMPLIMIENTO DENTRO DE PLAZO (ART. 261 Num. 2 C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-3934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RESOLUCIÓN  RAZONADA (ART. 260 Inc. Final C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-3934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GRAVANTES DE SANCIONES ( ART. 262 C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9600" spc="-1" strike="noStrike">
                <a:solidFill>
                  <a:srgbClr val="ffffff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b7e7ff"/>
                </a:solidFill>
                <a:latin typeface="Arial"/>
              </a:rPr>
              <a:t>DEFICIENCIAS EN LOS ESTADOS FINANCIEROS 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300" spc="-1" strike="noStrike">
                <a:solidFill>
                  <a:srgbClr val="ffffff"/>
                </a:solidFill>
                <a:latin typeface="Arial"/>
              </a:rPr>
              <a:t>TIPO DE DEFICIENCIA</a:t>
            </a:r>
            <a:r>
              <a:rPr b="1" lang="es-MX" sz="3300" spc="-1" strike="noStrike" u="sng">
                <a:solidFill>
                  <a:srgbClr val="ffffff"/>
                </a:solidFill>
                <a:uFillTx/>
                <a:latin typeface="Arial"/>
              </a:rPr>
              <a:t>.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Sin Sello de Responsab. según Reglamento del C.T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Sin Sellos del auditor y /o Empresa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Con error en las cifra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Sin firmas de los Responsables</a:t>
            </a:r>
            <a:r>
              <a:rPr b="1" lang="es-MX" sz="2400" spc="-1" strike="noStrike" u="sng">
                <a:solidFill>
                  <a:srgbClr val="ffffff"/>
                </a:solidFill>
                <a:uFillTx/>
                <a:latin typeface="Arial"/>
              </a:rPr>
              <a:t>,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No fueron presen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b7e7ff"/>
                </a:solidFill>
                <a:latin typeface="Arial"/>
              </a:rPr>
              <a:t>INCUMPLIMIENTOS EN LAS NOTAS A LOS ESTADOS FINANCIEROS 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900" spc="-1" strike="noStrike" u="sng">
                <a:solidFill>
                  <a:srgbClr val="ffffff"/>
                </a:solidFill>
                <a:uFillTx/>
                <a:latin typeface="Arial"/>
              </a:rPr>
              <a:t>CAUSALES EN  NOTAS A  EST.  FINANC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s-MX" sz="2900" spc="-1" strike="noStrike">
                <a:solidFill>
                  <a:srgbClr val="ffffff"/>
                </a:solidFill>
                <a:latin typeface="Arial"/>
              </a:rPr>
              <a:t>-- Corresponden a otra entidad,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9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s-MX" sz="2900" spc="-1" strike="noStrike">
                <a:solidFill>
                  <a:srgbClr val="ffffff"/>
                </a:solidFill>
                <a:latin typeface="Arial"/>
              </a:rPr>
              <a:t>-- Contradicción con las cifras de los </a:t>
            </a:r>
            <a:r>
              <a:rPr b="1" lang="es-MX" sz="2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MX" sz="2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900" spc="-1" strike="noStrike">
                <a:solidFill>
                  <a:srgbClr val="ffffff"/>
                </a:solidFill>
                <a:latin typeface="Arial"/>
              </a:rPr>
              <a:t>Estados Financieros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9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s-MX" sz="2900" spc="-1" strike="noStrike">
                <a:solidFill>
                  <a:srgbClr val="ffffff"/>
                </a:solidFill>
                <a:latin typeface="Arial"/>
              </a:rPr>
              <a:t>-- Incoherencias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9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2840" y="404280"/>
            <a:ext cx="8432640" cy="10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b7e7ff"/>
                </a:solidFill>
                <a:latin typeface="Arial"/>
              </a:rPr>
              <a:t>INCUMPLIMIENTOS EN LA ESTRUCTURA DE LOS  DICTAMENES E INFORMES FISCALES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680" y="1412640"/>
            <a:ext cx="85406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MX" sz="2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200" spc="-1" strike="noStrike">
                <a:solidFill>
                  <a:srgbClr val="ffffff"/>
                </a:solidFill>
                <a:latin typeface="Times New Roman"/>
              </a:rPr>
              <a:t>RESPECTO AL CONTENIDO DE LOS DICTAMENES E INFORMES FISCALES SE DETERMINAN LAS SIGUIENTES DEFICIENCIA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imes New Roman"/>
              </a:rPr>
              <a:t>EN NOTAS PRESENTADAS SE EXPRESA QUE NO SE PUEDE OPINAR; PERO SE AGREGAN TODOS LOS ANEXOS COMPLETO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imes New Roman"/>
              </a:rPr>
              <a:t>2.  SE PRESENTARON LOS DICTAMENES E INFORMES EN FECHA, PERO SIN LOS ANEXO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imes New Roman"/>
              </a:rPr>
              <a:t>3.   SEGÚN NOTAS SIMPLES SE ABSTIENEN DE OPINAR, SIN OBSERVAR LOS PROCEDIMIENTOS QUE ESTABLECE EL CODIGO TRIBUTARIO Y LA NORMA DE AUDITORIA DE CUMPLIMIENTOS DE OBLIGACIONES TRIBUTARIAS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2840" y="404280"/>
            <a:ext cx="8432640" cy="10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b7e7ff"/>
                </a:solidFill>
                <a:latin typeface="Arial"/>
              </a:rPr>
              <a:t>DEFICIENCIAS, EN LA ESTRUCTURA DE LOS  DICTAMENES E INFORMES FISCALES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4. SE HAN PRESENTADO ADICIONES AL DICTAMEN E INFORME, CAMBIANDO PARRAFOS SIN JUSTIFICACIÓN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ffff"/>
                </a:solidFill>
                <a:latin typeface="Times New Roman"/>
              </a:rPr>
              <a:t>5. SE HAN ENVIADO COMPLEMENTOS INNECESARIOS, SEÑALANDO QUE LAS POLITICAS DE LA EMPRESA HAN CAMBIADO,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ffff"/>
                </a:solidFill>
                <a:latin typeface="Times New Roman"/>
              </a:rPr>
              <a:t>6. HAN  MODIFICANDO EL INFORME  PARA SEÑALAR QUE EL CONTRIBUYENTE YA SUBSANÓ LOS INCUMPLIMIENTOS DE UNA CARTA EXHORTO QUE SE ENVIÓ DIRECTAMENTE AL CONTRIBUYENTE,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b7e7ff"/>
                </a:solidFill>
                <a:latin typeface="Arial"/>
              </a:rPr>
              <a:t>2-PAGO DE SANCIONES  POR  DICTAMINADORES A CAUSAS DE INCUMPLIMIENTOS AL PRESENTAR LOS  DICTAMENES  E INFORMES FISCALES  EN FORMA INCOMPLETA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267920"/>
            <a:ext cx="85406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LA ADMINISTRACIÓN TRIBUTARIA HA REALIZADO SU GESTIÓN DE DOS FORM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1- GESTIÓN VOLUNTARIA, EN DONDE LA LEY   PERMITE QUE LOS INCUMPLIMIENTOS PUEDAN SOLVENTARSE DE FORMA VOLUNTARIA, POR PARTE DEL AUDITOR FISC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2-  GESTIÓN COHERSITIVA, QUE ES LA QUE ADMINISTRACIÓN TRIBUTARIA DEBERÁ APLICAR AL INFRACTOR,  CON BASE EN LOS LIMITES DE LAS FACULTADES QUE LA LEY LE OTORG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3- </a:t>
            </a:r>
            <a:r>
              <a:rPr b="1" lang="es-MX" sz="2000" spc="-1" strike="noStrike" u="sng">
                <a:solidFill>
                  <a:srgbClr val="ffffff"/>
                </a:solidFill>
                <a:uFillTx/>
                <a:latin typeface="Arial"/>
              </a:rPr>
              <a:t>ES IMPORTANTE ACLARAR QUE LA GESTIÓN EN GENERAL ESTA BASADA EN PROGRAMAS ESPECIFICOS DIRIGIDOS PARA ESTE SECTOR PROFESION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188640"/>
            <a:ext cx="85104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b7e7ff"/>
                </a:solidFill>
                <a:latin typeface="Arial"/>
              </a:rPr>
              <a:t>4- REITERACIÓN DE DEFICIENCIAS EN DICTAMENES E INFORMES INCOMPLETOS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1680" y="1052280"/>
            <a:ext cx="854064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EN LA EVALUACIÓN REALIZADA AL DICTAMEN E INFORME FISCAL, PUEDE PERFECTAMENTE ASEGURARSE QUE  A UNOS NO PUEDE ATRIBUIRSE LA CATEGORIA DE DICTAMEN E INFORME, DEBIDO A QUE SOLAMENTE CONSTITUYEN UN DOCUMENTO PRESENTADO, SIN CUMPLIR LOS REQUISITOS QUE ESTABLECE LA LEY, PARA CONSIDERARLOS COMO TA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EN CADA UNO DE LOS DOCUMENTOS PRESENTADOS EN CALIDAD DE DICTAMEN E INFORME FISCAL, PUEDEN COINCIDIR HASTA CUATRO DEFICIENCIAS COMUNES REITERADAS, POR EJEMPLO: PROBLEMAS EN 1) ANEXOS, 2) ESTADOS FINANCIEROS, 3) NOTAS A LOS ESTADOS FINANCIEROS, Y 4)  MAL EXTRUCTURA DEL DICTMEN E INFORME FISC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0T13:46:16Z</dcterms:created>
  <dc:creator>UNIDAD DE INFORMATICA</dc:creator>
  <dc:description/>
  <dc:language>en-US</dc:language>
  <cp:lastModifiedBy>lnunez</cp:lastModifiedBy>
  <cp:lastPrinted>2002-04-16T12:48:12Z</cp:lastPrinted>
  <dcterms:modified xsi:type="dcterms:W3CDTF">2009-03-31T15:40:13Z</dcterms:modified>
  <cp:revision>75</cp:revision>
  <dc:subject/>
  <dc:title>COMPROBANTE DE CRÉDITO FISCAL (ART. 114 LIT. A) C.T.)</dc:title>
</cp:coreProperties>
</file>