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5B69-DA25-41B5-9F4F-6213C1C7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E8D-F2C6-4EFF-AEA7-DE927EFE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979-8B5C-4500-93EA-DBFCCA5C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BC7-6B1E-4FEB-9463-61F4277A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C948-907F-4566-B8E7-169C3A46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AF6D-118F-48D7-A914-C2547DB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CEF-BA53-471B-8C0F-03898ED7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EE6-7659-448D-82DD-04DFDBF7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C64C-B4BE-44D7-A831-04D47753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6F4E-D26B-421D-A422-5F0CA57D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8FD-DDB9-48B6-A504-E0A8C29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1A9-5504-409B-B29D-6F9B88C2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A648-DC6E-4B9F-8977-F0919536A05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522900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 </a:t>
            </a:r>
            <a:br>
              <a:rPr sz="1500"/>
            </a:br>
            <a:br>
              <a:rPr sz="1500"/>
            </a:b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LIC. Lucio Adalberto Nuñez</a:t>
            </a:r>
            <a:br>
              <a:rPr sz="1500"/>
            </a:br>
            <a:r>
              <a:rPr b="1" lang="es-CR" sz="1500" spc="-1" strike="noStrike">
                <a:solidFill>
                  <a:srgbClr val="b7e7ff"/>
                </a:solidFill>
                <a:latin typeface="Arial"/>
              </a:rPr>
              <a:t>FACILITADOR.</a:t>
            </a:r>
            <a:br>
              <a:rPr sz="1500"/>
            </a:br>
            <a:br>
              <a:rPr sz="1500"/>
            </a:br>
            <a:endParaRPr b="0" lang="en-US" sz="15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VALUACION DEL DESEMPEÑO DE LOS AUDITORES FISCA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ffffff"/>
                </a:solidFill>
                <a:latin typeface="Arial"/>
              </a:rPr>
              <a:t>DICTAMEN E INFORME FISCAL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SE DETERMINÓ LO SIGUEINT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SEGÚN NOTAS SIMPLES SE ABSTIENEN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3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EN LOS EJERCICIOS DE 2001 AL 2004, LA ADMINISTRACIÓN TRIBUTARIA HA REALIZADO SU GESTIÓN DE DOS FORM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16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4- DURANTE 2001 AL 2004, SE HAN CORREGIDO VOLUNTARIAMENTE  58 DICTAMENES E INFORMES INCOMPLETOS: 45 PERSONAS NATURALES Y 13 PERSONAS JURIDICAS, BAJO EL BENEFICIO DE LA ATENUACION QUE ESTABLECE LA LEY, HAN CANCELADO LAS SANCIONES CORRESPONDIENT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PAGO VOLUNTARIO  DE SANCIONES   DE LOS DICTAMINADORES POR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476360" y="1700280"/>
          <a:ext cx="6480360" cy="4806720"/>
        </p:xfrm>
        <a:graphic>
          <a:graphicData uri="http://schemas.openxmlformats.org/drawingml/2006/table">
            <a:tbl>
              <a:tblPr/>
              <a:tblGrid>
                <a:gridCol w="1944720"/>
                <a:gridCol w="1511280"/>
                <a:gridCol w="1512720"/>
                <a:gridCol w="1511640"/>
              </a:tblGrid>
              <a:tr h="387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Natu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.Jurid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 DEL 2001 AL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A CUANTIFICACION DE LAS DEFICIENCIAS POR AÑO, SE PRESENTAN A CONTINUACIÓN: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2320" y="228600"/>
            <a:ext cx="8429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REITERACION DE DEFICIENCIAS EN DICTAMENES E INFORMES INCOMPLETOS PRESENTADOS DEL 2001 AL 2004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95280" y="1125360"/>
          <a:ext cx="8291520" cy="5472360"/>
        </p:xfrm>
        <a:graphic>
          <a:graphicData uri="http://schemas.openxmlformats.org/drawingml/2006/table">
            <a:tbl>
              <a:tblPr/>
              <a:tblGrid>
                <a:gridCol w="1552680"/>
                <a:gridCol w="1693800"/>
                <a:gridCol w="1693800"/>
                <a:gridCol w="1693800"/>
                <a:gridCol w="1657440"/>
              </a:tblGrid>
              <a:tr h="52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In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CONTENIDO DE LA CONFER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8469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ES E INFORMES INCOMPLETOS  CORRESPONDIENTES A LOS AÑOS 2001, 2002, 2003 Y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UMPLIMIENTOS QUE CONLLEVAN A GENERAR DICTAMENES E INFORMES INCOMPLE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AGO DE SANCIONES POR INFRACCIONES COMETIDAS EN LA PRESENTACION DE DICTAMENES E INFORMES FISCALES INCOMPLE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INTERACION DE DEFICIENCIAS EN LA PRESENTACION DE DICTAMENES INCOMPLE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380880" algn="just">
              <a:lnSpc>
                <a:spcPct val="80000"/>
              </a:lnSpc>
              <a:spcBef>
                <a:spcPts val="1250"/>
              </a:spcBef>
              <a:buClr>
                <a:srgbClr val="ffcc00"/>
              </a:buClr>
              <a:buFont typeface="Arial"/>
              <a:buAutoNum type="arabicPeriod"/>
              <a:tabLst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  <a:tab algn="l" pos="78678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MEN DE INFRACCIONES Y SANCIONES RELACIONADAS CON 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31840"/>
            <a:ext cx="827856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. DICTAMENES E INFORMES  INCOMPLETOS DE LOS AÑOS  2001, 2002, 2003 Y 2004.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84692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L EVALUAR LOS DICTAMENES E INFORMES DESDE 2001 AL 2004, SE DETERMINARON QUE 552 DICTAMENES ERAN INCOMPLET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87480" algn="just">
              <a:lnSpc>
                <a:spcPct val="90000"/>
              </a:lnSpc>
              <a:spcBef>
                <a:spcPts val="1375"/>
              </a:spcBef>
              <a:buClr>
                <a:srgbClr val="ffcc00"/>
              </a:buClr>
              <a:buFont typeface="Arial"/>
              <a:buChar char="•"/>
              <a:tabLst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L ANALISIS DE CADA DICTAMEN E INFORME SE REALIZÓ CON BASE EN LA NORMATIVA ESTABLECIDA EN EL CODIGO TRIBUTARIO Y SU REGLAMENTE DE APLICACIÓN, ADEMAS SE CONSIDERÓ LA NORMA DE AUDITORIA DE CUMPLIMIENTO DE OBLIGACIONES TRIBUTARIA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DICTAMENES E INFORMES FISCALES INCOMPLETOS DE  LOS EJERCICIOS DE 2001, 2002, 2003 Y 2004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3520" y="1828800"/>
          <a:ext cx="8153280" cy="4708440"/>
        </p:xfrm>
        <a:graphic>
          <a:graphicData uri="http://schemas.openxmlformats.org/drawingml/2006/table">
            <a:tbl>
              <a:tblPr/>
              <a:tblGrid>
                <a:gridCol w="2060280"/>
                <a:gridCol w="2102040"/>
                <a:gridCol w="1930320"/>
                <a:gridCol w="206064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. Recib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incomple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,6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0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4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.9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56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4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1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2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2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552 DICTAMENES E INFORMES INCOMPLETOS, SE DETERMINARON PARA CADA EJERCICIO, PORCENTAJES SIGNIFICACTIVOS DE INCUMPLIMIENT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INCUMPLIMIENTOS DETECTADOS</a:t>
            </a: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9640" y="1197000"/>
          <a:ext cx="8209080" cy="4710240"/>
        </p:xfrm>
        <a:graphic>
          <a:graphicData uri="http://schemas.openxmlformats.org/drawingml/2006/table">
            <a:tbl>
              <a:tblPr/>
              <a:tblGrid>
                <a:gridCol w="1293840"/>
                <a:gridCol w="1379520"/>
                <a:gridCol w="1384560"/>
                <a:gridCol w="1384200"/>
                <a:gridCol w="1384200"/>
                <a:gridCol w="13827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jercic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ple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nex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. Fin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Notas E.F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Dictame. 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orm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8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.9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3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.7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2.6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.0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5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8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3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8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4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.2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Line 189"/>
          <p:cNvSpPr/>
          <p:nvPr/>
        </p:nvSpPr>
        <p:spPr>
          <a:xfrm>
            <a:off x="3348000" y="1773360"/>
            <a:ext cx="1224000" cy="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INCUMPLIMIENTOS DETERMINADOS EN ANEXOS AL DICTAMEN FISCAL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DETALLE DE ANEXOS.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Errores Generales en el formulario F-455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8 %         Análisis Comparativo Cuenta Costos y Gast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2 %         Comparativa Entre la Utilidad Contable y Fisc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onciliación Ingresos Registros, Impuestos Declarados   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justificaciones de Difer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3 %         Comp. Inventario Físicos s/ Auditoria y Registro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0 %         Cuadro Activos Fij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20 %         Resumen De Antigüedad de Saldos Ctas por Cobra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5 %         Cuadro de la Proporcionalidad del Cred. Fiscal IV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05 %          Detalle de Hallazgos determinado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%         CUANTIFIC. DE DEFICIENCIAS POR ANEXOS  EN 289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DETERMINADOS EN LOS ESTADOS FINANCIEROS: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ESTADOS FINANCIEROS.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Balance General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15 %                 Estado de  Resultado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--   30 %                 Estado  de Flujo de  Efectivo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 u="sng">
                <a:solidFill>
                  <a:srgbClr val="ffffff"/>
                </a:solidFill>
                <a:uFillTx/>
                <a:latin typeface="Arial"/>
              </a:rPr>
              <a:t>--   40 %                 Estado de  Variación del Capit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% DEFIC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. TIPO DE DEFICIENCIA</a:t>
            </a: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40  %               Sin Sello de Responsab. según Reglamento del C.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14  %               Sin Sellos del auditor y /o Empresa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01 %                Con error en las cifra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--   35 %                Sin firmas de los Responsables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--   10 %                No fueron presen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00 %                  CUANTIFIC. DE DEFICIENCIAS EN LOS                ESTADOS FINANCIEROS  EN 153 DOCUMENT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4:29:24Z</dcterms:modified>
  <cp:revision>73</cp:revision>
  <dc:subject/>
  <dc:title>COMPROBANTE DE CRÉDITO FISCAL (ART. 114 LIT. A) C.T.)</dc:title>
</cp:coreProperties>
</file>