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5A5-9680-4BBF-90CD-142D681D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4C2-C778-4030-8178-CE93105B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3AB-8149-4AF5-AA28-7BF940A4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C8E5-7F1C-4B7A-8122-8A0D8412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5DA-3F95-47CB-A392-C1C19B5D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D830-4CA7-4D70-8CEC-DCDA4661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285-4CEE-457C-89DE-8BAAEE1D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C3D-B447-4DDA-B2D0-B8993AAB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2B6-B3A3-414E-A00C-E567C08B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B6C-B2D6-48A0-9DB0-31D6F3C5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4AA-85AE-491A-AA70-189CD4CC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C301-E044-4A8C-88D6-01B75565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824D-EC18-4C8E-8AE4-83D9BABB1CF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EFICIENCIAS E INCUMPLIMIENTOS MAS FRECUENTES EN UNA AUDITORIA FIS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050920" y="981000"/>
            <a:ext cx="504036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DIRECCION GENERAL DE IMPUESTOS INTERNOS</a:t>
            </a:r>
            <a:endParaRPr b="0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INFORMACION REQUERIDA AL AUDITOR PARA VERIFICAR LOS PROCEDIMIENTOS REALIZAD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testimonio de Escritura Pública de Constitución de la Sociedad que presta los servicios de audi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La planeación de la auditoria realizad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l Estudio y Evaluación del Sistema de Control Interno de la socie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rograma de audito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just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Evidencia que sustenta los procedimientos desarrollados en la auditori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b7e7ff"/>
                </a:solidFill>
                <a:latin typeface="Arial"/>
              </a:rPr>
              <a:t>PRIMER REQUERIMIENTO DE INFORMACION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ertificación de autorización emitida por el Consejo de Vigilancia de la Profesión de la Contaduría Pública y Auditorí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a carta de salvaguar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acuerdo de Junta General de Accionistas, donde conste el nombrami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Dictamen e Informe Fiscal con sus respectivos anexos de la sociedad contribuyente  correspondiente al ejercici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y evaluó los factores de Riesgo Fiscales en la planeación de la auditor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apeles de trabajo que evidencien como determino las muestras (alcance y profundidad) a examinar y los procedimientos de auditorias a utilizar en la auditoria de la soci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Lo anterior se solicito conforme a la información realizada en el apartado del Informe Fiscal en su Romano II, en el que asevera “como parte de nuestro examen, Planificamos y evaluamos la estructura del control interno, a fin de determinar el Riesgo Fiscal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7e7ff"/>
                </a:solidFill>
                <a:latin typeface="Arial"/>
              </a:rPr>
              <a:t>SEGUNDO REQUERIMIENTO DE INFORMACION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765000"/>
            <a:ext cx="8540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Asimismo, con base a la afirmación realizada en el Romano II.2 del Informe Fiscal de la sociedad XXXX, para el año 200X, proporcionar evidencia de las pruebas realizadas a las retenciones de Renta e IVA, en las que consten que los cálculos están conforme a la normativa tributaria estable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roporcionar papeles de trabajo que evidencien la verificación de la valuación del inventario declarado por la contribuyente social X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para el año 200X;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expresando el método utilizado para su valuación que permitan determinar que el inventario final al 31 de diciembre de 200X esta correctamente valu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Papeles de trabajo que contengan la evidencia de la verificación del inventario físico tomado (observado) contra el control de inventario y lo registrado  contablement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os papeles de trabajo en los cuales constan los procedimientos de verificación de costos y gastos relacionados con la adquisición de bienes y servicios realizado en el año 200X, por la sociedad contribuyente XXX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su deducibilidad y relación con la renta gravada para efectos de Impuesto sobre la Renta, de acuerdo a lo manifestado en Romanos II.1 de su informe fiscal. Así mismo  proporcionar en detalle las cuentas y subcuentas de Cost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Proporcione los papeles de trabajo en los que conste la verificación de los ingresos, obtenidos por la sociedad, destacando atributos tales como: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erificación de registros contables específicamente en las cuentas de ingresos, identificación de las fuentes de ingresos gravables y exentos obtenidas por la contribuyente tanto en el Impuesto sobre la Renta como en el Impuesto a la Transferencia de Bienes Muebles y a la Prestación de Servicios, en base a los requisitos que señala el articulo 67 literal d) del Reglamento de Aplicación  del Código Tributario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 de los procedimientos y técnicas aplicadas para determinar la razonabilidad que ha generado  la  disminución de los Ingresos, el Costo de Venta y el Margen de Utilidad Bruta, para el ejercicio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Evidencias (Papeles de Trabajo), que sustentan si realizo el comparativo físico con el contable y registros de control de inventarios  si las cifras  fueron valorados de acuerdo al método Legal en relación al articulo 143 del código tributario, si verifico las diferencias de Inventarios (faltantes y sobrantes),  cual fue el tratamiento fiscal dado a las diferencias, en base a lo señalado en el articulo 142 del Código Tributario en relación con los artículos 67 literal f) y 81 del Reglamento de Aplicación del Código Tributari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TERCER REQUERIMIENTO DE INFORMACIO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roporcionar los papeles de trabajo donde se evidencia la determinación de la Planilla de Decisiones Preliminares y establecer las Áreas de Riesgo Fiscal, que  sirvieron  de  base para realizar el programa de la Auditoria, de acuerdo a lo dispuesto en el artículo 58 del Reglamento de Aplicación del Código Tributario y párrafos 29, 30 y 31 de Norma para Auditoría de Cumplimiento de Obligaciones Tributarias, realizado a la sociedad XXXX</a:t>
            </a: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para el año 200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l programa de auditoría desarrollado a la sociedad contribuyente XXXX</a:t>
            </a:r>
            <a:r>
              <a:rPr b="1" i="1" lang="es-MX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referenciado y firmado por los respons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b7e7ff"/>
                </a:solidFill>
                <a:latin typeface="Arial"/>
              </a:rPr>
              <a:t>INCUMPLIMIENTOS DETERMIN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8540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1.- No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mitió  el Dictamen e Informe Fiscal de acuerdo a las disposiciones establecidas en el Código Tributario su Reglamento, Leyes Tributarias y Ley Reguladora del Ejercicio de la Contaduría Publica, incumpliendo la obligación establecida en el Art. 135 Lit. a) del Código Tributario en relación con los Arts. 129 Inc. 1°, 130 Inc. 2° y 132 Lit. a) del mismo Códig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2.- 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l auditor XXX ha incumplido lo establecido en el artículo 135 literal e) del Código Tributario, ya que no presento en el plazo establecido la información solicitada relacionada con el dictamen e informe fiscal emitidos, incluyendo los papeles de trabajo, respondiendo con atraso de 86 días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066320"/>
            <a:ext cx="843912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REGIMEN DE INFRACCIONES Y SANCIONES RELACIONADOS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 CON EL </a:t>
            </a:r>
            <a:br>
              <a:rPr sz="3600"/>
            </a:br>
            <a:r>
              <a:rPr b="1" lang="es-ES" sz="3600" spc="-1" strike="noStrike">
                <a:solidFill>
                  <a:srgbClr val="b7e7ff"/>
                </a:solidFill>
                <a:latin typeface="Arial"/>
                <a:ea typeface="Times New Roman"/>
              </a:rPr>
              <a:t>DICTAMEN FISCAL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1.- INCUMPLIMIENTOS QUE CONLLEVAN A GENERAR DICTAMENES E INFORMES INCOMPLET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DESPUES DE ANALIZAR LOS DICTAMENES E INFORMES INCOMPLETOS, SE DETERMINAN PARA CADA EJERCICIO, INCUMPLIMIENTOS SIGNIFICATIVOS, DE </a:t>
            </a:r>
            <a:r>
              <a:rPr b="1" lang="es-MX" sz="3200" spc="-1" strike="noStrike">
                <a:solidFill>
                  <a:srgbClr val="66ffff"/>
                </a:solidFill>
                <a:latin typeface="Arial"/>
              </a:rPr>
              <a:t>CARÁCTER TECNICO Y LEGAL</a:t>
            </a: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;  FENÓMENO QUE LA ADMINISTRACIÓN TRIBUTARIA HA TOMADO CON MUCHA PREOCUPACIÓN, DEBIDO AL GRADO DE EXIGENCIA QUE ESTABLECEN LAS  LEYES VINCULADAS CON EL TRABAJO PROFESIONAL DEL AUDITOR FISC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9280" y="838080"/>
            <a:ext cx="878544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) EMITIR DICTAMEN E INFORME FISCAL DE ACUERDO AL ART. 132 CT.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CÓDIGO TRIBUTARIO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RÁ OPINA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JARÁ CONSTANCIA DEL CUMPLIMIENTO O NO DE OBLIGACIONES TRIBUTARIAS FORMALES O SUSTAN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ESTÉN INCLUIDAS EN EL PERÍODO A DICTAMIN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RMA DE AUDITOR NOMBRADO QUE DICTAMI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ARSE POR ESCRITO EN PLAZO LEG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REGLAMENTO DE APLICACIÓN C.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ES TRIBU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      </a:t>
            </a:r>
            <a:r>
              <a:rPr b="1" lang="es-ES" sz="2000" spc="-1" strike="noStrike">
                <a:solidFill>
                  <a:srgbClr val="b7e7ff"/>
                </a:solidFill>
                <a:latin typeface="Arial"/>
                <a:ea typeface="Times New Roman"/>
              </a:rPr>
              <a:t>LEY REGULADORA DEL EJERCICIO DE LA CONTADU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C); SANCIÓN $ 633.60 (4 SALARIOS MÍNIM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50920" y="2286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VERIFICACION DICTAMINADOR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LANIFICACIÓN DE LA AUDITO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SITOS DE LA  DOCUMENTACIÓN PRESENTADA ANTE LA ADMINISTRACIÓN TRIBUTAR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RABAJO TÉCNICO D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VIDENCIA SUFICIENTE Y APROPIA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PLANIFICACIÓN DE LA AUDITORIA</a:t>
            </a:r>
            <a:r>
              <a:rPr b="0" lang="es-ES_tradnl" sz="4400" spc="-1" strike="noStrike">
                <a:solidFill>
                  <a:srgbClr val="b7e7ff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ÁLISIS E INTERPRETACION FINANCIERA/TRIBUTARIA (EXAMEN DE ELEMENTOS PROBATORIOS E INFORMACIÓN CONTENIDA EN LOS ESTADOS FINANCIEROS Y NOTAS RELACIONADAS, DECLARACIONES Y PRUEBAS RELACIONADA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VALUACIÓN DEL SISTEMA DE CONTROL INTERNO (CON ENFOQUE FISCAL Y 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LANILLA DE DECISIONES PRELIMINARES (ÁREAS, RUBROS, COMPONENTES, FACTORES DE RIESGO DETERMINADAS POR EL AUDITOR FISCAL)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GRAMA DE AUDITORIA (ADAPTADO AL CONTRIBUYENTE EN ESTUDI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78422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EVIDENCIA SUFICIENTE Y APROPIADA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CUMENTACIÓN PROBATORIA CONTENIDA EN LOS PAPELES DE TRABAJ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 QUE SOPORTA EL TRABAJO TECNICO REALIZ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CLA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OPORTE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T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52600" y="228600"/>
            <a:ext cx="8175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TRABAJO TÉCNICO DEL DICTAMINADOR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757160"/>
            <a:ext cx="85406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JECUCIÓN Y ALCANCE DE LOS PROCEDIMIENTOS EFECTUADOS POR EL DICTAMINADO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8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TIVA LEG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 DE AUDIT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837720"/>
            <a:ext cx="8497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) GUARDAR LA MÁS ABSOLUTA INDEPENDENCIA DE CRITERIO CON RESPECTO AL SUJETO DE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127160" y="228600"/>
            <a:ext cx="79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0560" y="1066680"/>
            <a:ext cx="85122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) REFLEJAR EN EL DICTAMEN Y EN EL INFORME FIS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REALIDAD FINANCIERA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A SITUACIÓN TRIBU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 CONFORMIDAD A LOS PRINCIPIOS DE CONTABILIDAD QUE ESTABLEZCA EL CVPCP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 LAS LEYES TRIBUTARIAS, RESPECTIVAMENTE, DEL SUJETO DICTAMI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    SANCIÓN    $ 633.60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279440" y="21744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REQUISITOS DE LA  DOCUMENTACIÓN PRESENTADA ANTE LA ADMINISTRACIÓN TRIBUTARIA</a:t>
            </a:r>
            <a:r>
              <a:rPr b="1" lang="es-ES" sz="28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ICTAMEN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FORME FISC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ee941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NEXOS A LOS ESTAD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Requisitos de la  Documentación emitida y presentada ante la Administración Tributaria por el auditor nombrado deberá estar Conforme al Código Tributario y su Reglam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838080"/>
            <a:ext cx="864072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D) GARANTIZAR QUE LO EXPRESADO EN EL    DICTAMEN E INFORME FISCAL ESTÉ RESPALDADO 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ASIENTOS CONTABLES EN LIBROS LEGALIZAD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GISTROS AUXILIARES Y CUALQUIER OTRO REGISTRO ESPECIA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E CONFORME A LAS LEYES TRIBUTARIAS, LEYES ESPECIALES Y A LA TÉCNICA CONTABLE, DEBA LLEVAR EL SUJETO PASIV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SÍ COMO LA DOCUMENTACIÓN QUE SUSTENTA DICHOS REGISTRO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D); SANCIÓN $ 633.60         (4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279440" y="65160"/>
            <a:ext cx="786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</a:rPr>
              <a:t>OBLIGACIONES DEL AUDITOR ART. 135 C.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10920" y="304920"/>
            <a:ext cx="8304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b7e7ff"/>
                </a:solidFill>
                <a:latin typeface="Arial"/>
                <a:ea typeface="Times New Roman"/>
              </a:rPr>
              <a:t>E) ATENDER LOS REQUERIMIENTOS QUE FORMULE LA DGII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UMINISTRANDO DENTRO DE LOS PLAZOS QUE ESTA SEÑALE, LA INFORMACIÓN SOLICITAD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CLUYENDO PAPEL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RACCIÓN ART. 248 LIT. E); SANCIÓN              $1,900.80 (12 SALARIOS MÍNIM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ANEXOS AL DICTAMEN FISCAL EN LOS QUE SE DETERMIAN MAYORES INCUMPLIMIENTOS: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rrores Generales en el formulario F-455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nálisis Comparativo Cuenta Costos y Gast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mparativa Entre la Utilidad Contable y Fiscal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ciliación Ingresos Registros, Impuestos Declarados justificaciones de Difer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mp. Inventario Físicos s/ Auditoria y Registr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adro Activos Fijo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sumen De Antigüedad de Saldos Ctas por Cobra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uadro de la Proporcionalidad del Cred. Fiscal IV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talle de Hallazgos determin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Arial"/>
              </a:rPr>
              <a:t>Dictámenes e Informes Fiscales que carecen de validez para la Administración Tributaria  (Art. 136 C.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748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emitidos en contravención a lo establecido en 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rtículo 22, literales del a) al h) de la Ley Regulador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Ejercicio de la Contadurí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uando sea o haya sido en el ejercicio fiscal qu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ina y en el ejercicio en que produce 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ictamen: director, miembro del consejo de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dministración, administrador o empleado del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tribuyente o de una empresa afiliada, subsidiari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o que esté vinculada económica 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dministrativamente a él, cualquiera que sea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forma como se le designe y se le retribuyan sus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rvici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Arial"/>
              </a:rPr>
              <a:t>Dictámenes e Informes Fiscales que carecen de validez para la Administración Tributaria  (Art. 136 C.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748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tenga o haya tenido en el ejercicio fiscal que dictamine y en aquel en que emita el dictamen, alguna injerencia o vinculación económica en los negocios del contribuyente, que le impidan mantener su independencia e imparcialid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ndo se reciba por cualquier circunstancia o motivo, participación directa en función de los resultados de su auditoria o emita su dictamen en circunstancias en las cuales su emolumento dependa del resultado del mism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7e7ff"/>
                </a:solidFill>
                <a:latin typeface="Arial"/>
              </a:rPr>
              <a:t>Dictámenes e Informes Fiscales que carecen de validez para la Administración Tributaria (Art. 136 C.T.)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748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uando se tenga la calidad de agente o corredor de bolsa de valores o similares en ejercicio; 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uando se trate de empleados o funcionarios del Ministerio de Hacienda y de la Corte de Cuentas de la Repúbl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152280"/>
            <a:ext cx="8569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PROCEDIMIENTOS PARA LA IMPOSICIÓN DE SANCIONES POR INCUMPLIMIENTOS A LAS OBLIGACIONES</a:t>
            </a:r>
            <a:r>
              <a:rPr b="1" lang="es-ES_tradnl" sz="2400" spc="-1" strike="noStrike">
                <a:solidFill>
                  <a:srgbClr val="ee941c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b7e7ff"/>
                </a:solidFill>
                <a:latin typeface="Arial"/>
                <a:ea typeface="Times New Roman"/>
              </a:rPr>
              <a:t>TRIBUTARIA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7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UTO DE DESIGNACIÓN (ART. 174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S (ARTS. 135 Lit. e) y 173 Lit. n) 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ENCIA SANCIONATORIA (ART. 259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EVIO PROCESO DE AUDIENCIA (ART. 260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QUERIMIENTO PARA SUBSANAR INCUMPLIMIENTO DENTRO DE PLAZO (ART. 261 Num. 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CIÓN  RAZONADA (ART. 260 Inc. Final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7960" indent="-393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GRAVANTES DE SANCIONES ( ART. 262 C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96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e7ff"/>
                </a:solidFill>
                <a:latin typeface="Arial"/>
              </a:rPr>
              <a:t>DEFICIENCIAS EN LOS ESTADOS FINANCIEROS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ffffff"/>
                </a:solidFill>
                <a:latin typeface="Arial"/>
              </a:rPr>
              <a:t>TIPO DE DEFICIENCIA</a:t>
            </a:r>
            <a:r>
              <a:rPr b="1" lang="es-MX" sz="3300" spc="-1" strike="noStrike" u="sng">
                <a:solidFill>
                  <a:srgbClr val="ffffff"/>
                </a:solidFill>
                <a:uFillTx/>
                <a:latin typeface="Arial"/>
              </a:rPr>
              <a:t>.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n Sello de Responsab. según Reglamento del C.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n Sellos del auditor y /o Empres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n error en las cifr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in firmas de los Responsables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,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No fueron presen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S NOTAS A LOS ESTADOS FINANCIEROS 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 u="sng">
                <a:solidFill>
                  <a:srgbClr val="ffffff"/>
                </a:solidFill>
                <a:uFillTx/>
                <a:latin typeface="Arial"/>
              </a:rPr>
              <a:t>CAUSALES EN  NOTAS A  EST.  FINANC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rresponden a otra entidad,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Contradicción con las cifras de los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-- Incoherencias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9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INCUMPLIMIENTOS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412640"/>
            <a:ext cx="85406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MX" sz="2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RESPECTO AL CONTENIDO DE LOS DICTAMENES E INFORMES FISCALES SE DETERMINAN LAS SIGUIENTES DEFICIENCI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EN NOTAS PRESENTADAS SE EXPRESA QUE NO SE PUEDE OPINAR; PERO SE AGREGAN TODOS LOS ANEXOS COMPLE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2.  SE PRESENTARON LOS DICTAMENES E INFORMES EN FECHA, PERO SIN LOS ANEX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Times New Roman"/>
              </a:rPr>
              <a:t>3.   SEGÚN NOTAS SIMPLES SE ABSTIENEN DE OPINAR, SIN OBSERVAR LOS PROCEDIMIENTOS QUE ESTABLECE EL CODIGO TRIBUTARIO Y LA NORMA DE AUDITORIA DE CUMPLIMIENTOS DE OBLIGACIONES TRIBUTARIA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2840" y="404280"/>
            <a:ext cx="843264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b7e7ff"/>
                </a:solidFill>
                <a:latin typeface="Arial"/>
              </a:rPr>
              <a:t>DEFICIENCIAS, EN LA ESTRUCTURA DE LOS  DICTAMENES E INFORMES FISCALE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4. SE HAN PRESENTADO ADICIONES AL DICTAMEN E INFORME, CAMBIANDO PARRAFOS SIN JUSTIFICACIÓ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5. SE HAN ENVIADO COMPLEMENTOS INNECESARIOS, SEÑALANDO QUE LAS POLITICAS DE LA EMPRESA HAN CAMBIADO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6. HAN  MODIFICANDO EL INFORME  PARA SEÑALAR QUE EL CONTRIBUYENTE YA SUBSANÓ LOS INCUMPLIMIENTOS DE UNA CARTA EXHORTO QUE SE ENVIÓ DIRECTAMENTE AL CONTRIBUYENTE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e7ff"/>
                </a:solidFill>
                <a:latin typeface="Arial"/>
              </a:rPr>
              <a:t>2-PAGO DE SANCIONES  POR  DICTAMINADORES A CAUSAS DE INCUMPLIMIENTOS AL PRESENTAR LOS  DICTAMENES  E INFORMES FISCALES  EN FORMA INCOMPLETA</a:t>
            </a:r>
            <a:endParaRPr b="0" lang="en-US" sz="2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A ADMINISTRACIÓN TRIBUTARIA HA REALIZADO SU GESTIÓN DE DOS FORM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1- GESTIÓN VOLUNTARIA, EN DONDE LA LEY   PERMITE QUE LOS INCUMPLIMIENTOS PUEDAN SOLVENTARSE DE FORMA VOLUNTARIA, POR PARTE DEL AUDITOR FI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2-  GESTIÓN COHERSITIVA, QUE ES LA QUE ADMINISTRACIÓN TRIBUTARIA DEBERÁ APLICAR AL INFRACTOR,  CON BASE EN LOS LIMITES DE LAS FACULTADES QUE LA LEY LE OTORG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3- </a:t>
            </a:r>
            <a:r>
              <a:rPr b="1" lang="es-MX" sz="2000" spc="-1" strike="noStrike" u="sng">
                <a:solidFill>
                  <a:srgbClr val="ffffff"/>
                </a:solidFill>
                <a:uFillTx/>
                <a:latin typeface="Arial"/>
              </a:rPr>
              <a:t>ES IMPORTANTE ACLARAR QUE LA GESTIÓN EN GENERAL ESTA BASADA EN PROGRAMAS ESPECIFICOS DIRIGIDOS PARA ESTE SECTOR PROFES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510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7e7ff"/>
                </a:solidFill>
                <a:latin typeface="Arial"/>
              </a:rPr>
              <a:t>4- REITERACIÓN DE DEFICIENCIAS EN DICTAMENES E INFORMES INCOMPLETOS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052280"/>
            <a:ext cx="85406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LA EVALUACIÓN REALIZADA AL DICTAMEN E INFORME FISCAL, PUEDE PERFECTAMENTE ASEGURARSE QUE  A UNOS NO PUEDE ATRIBUIRSE LA CATEGORIA DE DICTAMEN E INFORME, DEBIDO A QUE SOLAMENTE CONSTITUYEN UN DOCUMENTO PRESENTADO, SIN CUMPLIR LOS REQUISITOS QUE ESTABLECE LA LEY, PARA CONSIDERARLOS COMO 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EN CADA UNO DE LOS DOCUMENTOS PRESENTADOS EN CALIDAD DE DICTAMEN E INFORME FISCAL, PUEDEN COINCIDIR HASTA CUATRO DEFICIENCIAS COMUNES REITERADAS, POR EJEMPLO: PROBLEMAS EN 1) ANEXOS, 2) ESTADOS FINANCIEROS, 3) NOTAS A LOS ESTADOS FINANCIEROS, Y 4)  MAL EXTRUCTURA DEL DICTMEN E INFORME FIS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3:46:16Z</dcterms:created>
  <dc:creator>UNIDAD DE INFORMATICA</dc:creator>
  <dc:description/>
  <dc:language>en-US</dc:language>
  <cp:lastModifiedBy>lnunez</cp:lastModifiedBy>
  <cp:lastPrinted>2002-04-16T12:48:12Z</cp:lastPrinted>
  <dcterms:modified xsi:type="dcterms:W3CDTF">2009-03-31T15:40:13Z</dcterms:modified>
  <cp:revision>75</cp:revision>
  <dc:subject/>
  <dc:title>COMPROBANTE DE CRÉDITO FISCAL (ART. 114 LIT. A) C.T.)</dc:title>
</cp:coreProperties>
</file>