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400" y="88560"/>
            <a:ext cx="82882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 65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marL="428760" indent="-42876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1" marL="915840" indent="-372960">
              <a:spcBef>
                <a:spcPts val="700"/>
              </a:spcBef>
              <a:buClr>
                <a:srgbClr val="0000ff"/>
              </a:buClr>
              <a:buSzPct val="105000"/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2" marL="14860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3" marL="19288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4" marL="2368440" indent="-22536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5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6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" name="Line 1028"/>
          <p:cNvSpPr/>
          <p:nvPr/>
        </p:nvSpPr>
        <p:spPr>
          <a:xfrm>
            <a:off x="328680" y="1295280"/>
            <a:ext cx="8564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3979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40" name="Picture 6" descr="pic268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 rot="20878800">
            <a:off x="52560" y="2782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Univers 65 Bold"/>
              </a:rPr>
              <a:t>ANALISIS Y VALORACION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0240" y="1666800"/>
            <a:ext cx="8807040" cy="4962240"/>
            <a:chOff x="30240" y="1666800"/>
            <a:chExt cx="8807040" cy="4962240"/>
          </a:xfrm>
        </p:grpSpPr>
        <p:sp>
          <p:nvSpPr>
            <p:cNvPr id="222" name="Rectangle 3"/>
            <p:cNvSpPr/>
            <p:nvPr/>
          </p:nvSpPr>
          <p:spPr>
            <a:xfrm>
              <a:off x="4743000" y="2092680"/>
              <a:ext cx="4094280" cy="45054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0d0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4750920" y="2186640"/>
              <a:ext cx="39009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Percepciones (cómo es percibida la existencia de los riesgos?)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>
              <a:off x="5181840" y="2664000"/>
              <a:ext cx="32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5191560" y="2864520"/>
              <a:ext cx="330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4780440" y="2875320"/>
              <a:ext cx="3899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Suposiciones (v. g.: cuál es la probabilidad e impacto de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5181840" y="3396600"/>
              <a:ext cx="3328200" cy="336960"/>
              <a:chOff x="5181840" y="3396600"/>
              <a:chExt cx="3328200" cy="336960"/>
            </a:xfrm>
          </p:grpSpPr>
          <p:sp>
            <p:nvSpPr>
              <p:cNvPr id="228" name="Line 9"/>
              <p:cNvSpPr/>
              <p:nvPr/>
            </p:nvSpPr>
            <p:spPr>
              <a:xfrm>
                <a:off x="5181840" y="3396600"/>
                <a:ext cx="329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29" name="Line 10"/>
              <p:cNvSpPr/>
              <p:nvPr/>
            </p:nvSpPr>
            <p:spPr>
              <a:xfrm>
                <a:off x="5200200" y="356508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>
                <a:off x="5209560" y="373356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31" name="Rectangle 12"/>
            <p:cNvSpPr/>
            <p:nvPr/>
          </p:nvSpPr>
          <p:spPr>
            <a:xfrm>
              <a:off x="4759920" y="3794040"/>
              <a:ext cx="39013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Juicios (v. g.: cómo la gerencia responde a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4819320" y="4104360"/>
              <a:ext cx="3958920" cy="25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287680" y="42012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5287680" y="43693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5287680" y="453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5287680" y="4762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5287680" y="498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5287680" y="515628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287680" y="54205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5287680" y="558072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5287680" y="5813640"/>
              <a:ext cx="172800" cy="125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5287680" y="60483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5287680" y="62085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5287680" y="640260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4764600" y="1666800"/>
              <a:ext cx="4072680" cy="575640"/>
            </a:xfrm>
            <a:prstGeom prst="rect">
              <a:avLst/>
            </a:prstGeom>
            <a:solidFill>
              <a:srgbClr val="0aff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DMINISTRACIÓN DEL RIESGO POR LA GERENCI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>
              <a:off x="159120" y="1844280"/>
              <a:ext cx="4433760" cy="447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Fuentes del Riesgo del Negocio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123480" y="3361680"/>
              <a:ext cx="1847880" cy="418680"/>
            </a:xfrm>
            <a:prstGeom prst="rect">
              <a:avLst/>
            </a:prstGeom>
            <a:gradFill rotWithShape="0">
              <a:gsLst>
                <a:gs pos="0">
                  <a:srgbClr val="d4e262"/>
                </a:gs>
                <a:gs pos="100000">
                  <a:srgbClr val="6a713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123480" y="2787480"/>
              <a:ext cx="1847880" cy="4903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235800" y="3438360"/>
              <a:ext cx="1737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ela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106560" y="3935520"/>
              <a:ext cx="1864800" cy="5065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106560" y="4542120"/>
              <a:ext cx="1864800" cy="418680"/>
            </a:xfrm>
            <a:prstGeom prst="rect">
              <a:avLst/>
            </a:prstGeom>
            <a:gradFill rotWithShape="0">
              <a:gsLst>
                <a:gs pos="0">
                  <a:srgbClr val="8fab34"/>
                </a:gs>
                <a:gs pos="100000">
                  <a:srgbClr val="72892a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>
              <a:off x="84960" y="2736720"/>
              <a:ext cx="1892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Fuerzas Externa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>
              <a:off x="48600" y="3865680"/>
              <a:ext cx="1928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         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4" name="Rectangle 35"/>
            <p:cNvSpPr/>
            <p:nvPr/>
          </p:nvSpPr>
          <p:spPr>
            <a:xfrm>
              <a:off x="30240" y="4619880"/>
              <a:ext cx="1947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Transac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55" name="Group 36"/>
            <p:cNvGrpSpPr/>
            <p:nvPr/>
          </p:nvGrpSpPr>
          <p:grpSpPr>
            <a:xfrm>
              <a:off x="2090160" y="2864520"/>
              <a:ext cx="342000" cy="2059560"/>
              <a:chOff x="2090160" y="2864520"/>
              <a:chExt cx="342000" cy="2059560"/>
            </a:xfrm>
          </p:grpSpPr>
          <p:sp>
            <p:nvSpPr>
              <p:cNvPr id="256" name="Freeform 37"/>
              <p:cNvSpPr/>
              <p:nvPr/>
            </p:nvSpPr>
            <p:spPr>
              <a:xfrm>
                <a:off x="2090160" y="286452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7" name="Freeform 38"/>
              <p:cNvSpPr/>
              <p:nvPr/>
            </p:nvSpPr>
            <p:spPr>
              <a:xfrm>
                <a:off x="2109960" y="34380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8" name="Freeform 39"/>
              <p:cNvSpPr/>
              <p:nvPr/>
            </p:nvSpPr>
            <p:spPr>
              <a:xfrm>
                <a:off x="2109960" y="40122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9" name="Freeform 40"/>
              <p:cNvSpPr/>
              <p:nvPr/>
            </p:nvSpPr>
            <p:spPr>
              <a:xfrm>
                <a:off x="2090160" y="458496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60" name="Freeform 41"/>
            <p:cNvSpPr/>
            <p:nvPr/>
          </p:nvSpPr>
          <p:spPr>
            <a:xfrm>
              <a:off x="4191840" y="3861720"/>
              <a:ext cx="347040" cy="38772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23" h="288">
                  <a:moveTo>
                    <a:pt x="81" y="220"/>
                  </a:moveTo>
                  <a:lnTo>
                    <a:pt x="222" y="220"/>
                  </a:lnTo>
                  <a:lnTo>
                    <a:pt x="222" y="67"/>
                  </a:lnTo>
                  <a:lnTo>
                    <a:pt x="77" y="67"/>
                  </a:lnTo>
                  <a:lnTo>
                    <a:pt x="77" y="0"/>
                  </a:lnTo>
                  <a:lnTo>
                    <a:pt x="0" y="141"/>
                  </a:lnTo>
                  <a:lnTo>
                    <a:pt x="81" y="287"/>
                  </a:lnTo>
                  <a:lnTo>
                    <a:pt x="81" y="220"/>
                  </a:lnTo>
                </a:path>
              </a:pathLst>
            </a:custGeom>
            <a:gradFill rotWithShape="0">
              <a:gsLst>
                <a:gs pos="0">
                  <a:srgbClr val="7c5006"/>
                </a:gs>
                <a:gs pos="50000">
                  <a:srgbClr val="f9a10c"/>
                </a:gs>
                <a:gs pos="100000">
                  <a:srgbClr val="7c500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2557080" y="3556800"/>
              <a:ext cx="1539720" cy="994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2" name="Rectangle 43"/>
            <p:cNvSpPr/>
            <p:nvPr/>
          </p:nvSpPr>
          <p:spPr>
            <a:xfrm>
              <a:off x="2384280" y="3759120"/>
              <a:ext cx="191016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760" rIns="158760" tIns="79200" bIns="792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708280"/>
                  <a:tab algn="l" pos="5416560"/>
                  <a:tab algn="l" pos="8124840"/>
                  <a:tab algn="l" pos="1083312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iesgos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3" name="Rectangle 44"/>
            <p:cNvSpPr/>
            <p:nvPr/>
          </p:nvSpPr>
          <p:spPr>
            <a:xfrm>
              <a:off x="4780440" y="2341800"/>
              <a:ext cx="39585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4" name="Rectangle 45"/>
            <p:cNvSpPr/>
            <p:nvPr/>
          </p:nvSpPr>
          <p:spPr>
            <a:xfrm>
              <a:off x="4798800" y="3234960"/>
              <a:ext cx="3958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65" name="Group 46"/>
            <p:cNvGrpSpPr/>
            <p:nvPr/>
          </p:nvGrpSpPr>
          <p:grpSpPr>
            <a:xfrm>
              <a:off x="2426400" y="4641480"/>
              <a:ext cx="2156040" cy="1868040"/>
              <a:chOff x="2426400" y="4641480"/>
              <a:chExt cx="2156040" cy="1868040"/>
            </a:xfrm>
          </p:grpSpPr>
          <p:sp>
            <p:nvSpPr>
              <p:cNvPr id="266" name="Rectangle 47"/>
              <p:cNvSpPr/>
              <p:nvPr/>
            </p:nvSpPr>
            <p:spPr>
              <a:xfrm>
                <a:off x="2426400" y="4641480"/>
                <a:ext cx="2156040" cy="1868040"/>
              </a:xfrm>
              <a:prstGeom prst="rect">
                <a:avLst/>
              </a:prstGeom>
              <a:noFill/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360" rIns="144360" tIns="71280" bIns="71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1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2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3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7" name="Line 48"/>
              <p:cNvSpPr/>
              <p:nvPr/>
            </p:nvSpPr>
            <p:spPr>
              <a:xfrm>
                <a:off x="2812320" y="482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>
                <a:off x="2812320" y="503064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>
                <a:off x="2821680" y="536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2821680" y="557100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1" name="Line 52"/>
              <p:cNvSpPr/>
              <p:nvPr/>
            </p:nvSpPr>
            <p:spPr>
              <a:xfrm>
                <a:off x="2821680" y="591552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2" name="Line 53"/>
              <p:cNvSpPr/>
              <p:nvPr/>
            </p:nvSpPr>
            <p:spPr>
              <a:xfrm>
                <a:off x="2821680" y="610956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73" name="Line 54"/>
            <p:cNvSpPr/>
            <p:nvPr/>
          </p:nvSpPr>
          <p:spPr>
            <a:xfrm>
              <a:off x="6411960" y="43437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4" name="Line 55"/>
            <p:cNvSpPr/>
            <p:nvPr/>
          </p:nvSpPr>
          <p:spPr>
            <a:xfrm>
              <a:off x="6422760" y="450396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5" name="Line 56"/>
            <p:cNvSpPr/>
            <p:nvPr/>
          </p:nvSpPr>
          <p:spPr>
            <a:xfrm>
              <a:off x="6432120" y="466452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366600" y="51375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7" name="Line 58"/>
            <p:cNvSpPr/>
            <p:nvPr/>
          </p:nvSpPr>
          <p:spPr>
            <a:xfrm>
              <a:off x="6375960" y="529776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8" name="Line 59"/>
            <p:cNvSpPr/>
            <p:nvPr/>
          </p:nvSpPr>
          <p:spPr>
            <a:xfrm>
              <a:off x="6422760" y="563472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9" name="Line 60"/>
            <p:cNvSpPr/>
            <p:nvPr/>
          </p:nvSpPr>
          <p:spPr>
            <a:xfrm>
              <a:off x="6366600" y="595512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0" name="Line 61"/>
            <p:cNvSpPr/>
            <p:nvPr/>
          </p:nvSpPr>
          <p:spPr>
            <a:xfrm>
              <a:off x="6441480" y="48506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1" name="Line 62"/>
            <p:cNvSpPr/>
            <p:nvPr/>
          </p:nvSpPr>
          <p:spPr>
            <a:xfrm>
              <a:off x="6422760" y="549180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2" name="Line 63"/>
            <p:cNvSpPr/>
            <p:nvPr/>
          </p:nvSpPr>
          <p:spPr>
            <a:xfrm>
              <a:off x="6366600" y="61491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3" name="Line 64"/>
            <p:cNvSpPr/>
            <p:nvPr/>
          </p:nvSpPr>
          <p:spPr>
            <a:xfrm>
              <a:off x="6366600" y="634320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4" name="Line 65"/>
            <p:cNvSpPr/>
            <p:nvPr/>
          </p:nvSpPr>
          <p:spPr>
            <a:xfrm>
              <a:off x="6366600" y="65372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285" name="Rectangle 6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6" name="Rectangle 67"/>
          <p:cNvSpPr/>
          <p:nvPr/>
        </p:nvSpPr>
        <p:spPr>
          <a:xfrm>
            <a:off x="272880" y="1231920"/>
            <a:ext cx="835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Riesgos  Estratégicos de Negocio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572040" y="1782720"/>
            <a:ext cx="8627400" cy="4748760"/>
            <a:chOff x="572040" y="1782720"/>
            <a:chExt cx="8627400" cy="4748760"/>
          </a:xfrm>
        </p:grpSpPr>
        <p:graphicFrame>
          <p:nvGraphicFramePr>
            <p:cNvPr id="290" name="Object 5"/>
            <p:cNvGraphicFramePr/>
            <p:nvPr/>
          </p:nvGraphicFramePr>
          <p:xfrm>
            <a:off x="703080" y="1782720"/>
            <a:ext cx="362160" cy="49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3080" y="1782720"/>
                      <a:ext cx="36216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Rectangle 6"/>
            <p:cNvSpPr/>
            <p:nvPr/>
          </p:nvSpPr>
          <p:spPr>
            <a:xfrm>
              <a:off x="1224360" y="1822680"/>
              <a:ext cx="797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ff"/>
                  </a:solidFill>
                  <a:latin typeface="Univers"/>
                </a:rPr>
                <a:t>Matriz de evaluación de riesgos asociados a objetivos: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788200" y="2351520"/>
              <a:ext cx="118188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4039200" y="2351520"/>
              <a:ext cx="118044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289120" y="235152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2789640" y="342000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4039200" y="3418560"/>
              <a:ext cx="118044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5289120" y="341856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2789640" y="448704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4040640" y="4487040"/>
              <a:ext cx="11772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5289120" y="4485600"/>
              <a:ext cx="118152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1834200" y="253656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1842120" y="48798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572040" y="3314520"/>
              <a:ext cx="1577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Magnitu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l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Impac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5894640" y="562500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2666520" y="56250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468960" y="5711040"/>
              <a:ext cx="2217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Probabilida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 que Ocurra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8" name="Rectangle 22"/>
            <p:cNvSpPr/>
            <p:nvPr/>
          </p:nvSpPr>
          <p:spPr>
            <a:xfrm>
              <a:off x="5426640" y="2567880"/>
              <a:ext cx="1030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, 5, 9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9" name="Rectangle 23"/>
            <p:cNvSpPr/>
            <p:nvPr/>
          </p:nvSpPr>
          <p:spPr>
            <a:xfrm>
              <a:off x="4220280" y="256788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, 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0" name="Rectangle 24"/>
            <p:cNvSpPr/>
            <p:nvPr/>
          </p:nvSpPr>
          <p:spPr>
            <a:xfrm>
              <a:off x="3125160" y="249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1" name="Text Box 25"/>
            <p:cNvSpPr/>
            <p:nvPr/>
          </p:nvSpPr>
          <p:spPr>
            <a:xfrm>
              <a:off x="4403520" y="370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5580360" y="37033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7, 8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13" name="Rectangle 27"/>
          <p:cNvSpPr/>
          <p:nvPr/>
        </p:nvSpPr>
        <p:spPr>
          <a:xfrm>
            <a:off x="957240" y="1265400"/>
            <a:ext cx="727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Mapa de riesgos estratégico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2771640" y="3411360"/>
            <a:ext cx="1216080" cy="1016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2770200" y="4483080"/>
            <a:ext cx="1219320" cy="10288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4005360" y="4483080"/>
            <a:ext cx="1231920" cy="1015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336680" y="0"/>
            <a:ext cx="7385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131760" y="1668600"/>
            <a:ext cx="9012240" cy="5236560"/>
            <a:chOff x="131760" y="1668600"/>
            <a:chExt cx="9012240" cy="5236560"/>
          </a:xfrm>
        </p:grpSpPr>
        <p:sp>
          <p:nvSpPr>
            <p:cNvPr id="320" name="Rectangle 4"/>
            <p:cNvSpPr/>
            <p:nvPr/>
          </p:nvSpPr>
          <p:spPr>
            <a:xfrm>
              <a:off x="703440" y="6467760"/>
              <a:ext cx="18986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165480" y="6467760"/>
              <a:ext cx="28130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563400" y="1777680"/>
              <a:ext cx="113508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2739960" y="1668600"/>
              <a:ext cx="347040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ocesos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6905520" y="1750320"/>
              <a:ext cx="155736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ONTRO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228600" y="2177280"/>
              <a:ext cx="2209680" cy="4300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31760" y="2206440"/>
              <a:ext cx="2416320" cy="442260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dentificamos riesgos de: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dministración 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raud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mage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400800" y="2177280"/>
              <a:ext cx="2558880" cy="4592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6429240" y="2206440"/>
              <a:ext cx="2714760" cy="446472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cada actividad de los procesos, asociamos los riesgos con sus respectivos controles de: 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tribu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cument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stema de información gerenc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7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532240" y="2177280"/>
              <a:ext cx="3767040" cy="4659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2719440" y="2206440"/>
              <a:ext cx="3579840" cy="467496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Mercadeo e investiga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comercial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Produc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Distribu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NP.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Planeación y control del negocio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administrativa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financier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informát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Administración del talento human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juríd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2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31" name="Rectangle 15"/>
          <p:cNvSpPr/>
          <p:nvPr/>
        </p:nvSpPr>
        <p:spPr>
          <a:xfrm>
            <a:off x="998640" y="1260360"/>
            <a:ext cx="711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Univers 65 Bold"/>
              </a:rPr>
              <a:t>Riesgos Estratégicos a Nivel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28600" y="1720800"/>
            <a:ext cx="409248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45520" y="1449360"/>
            <a:ext cx="413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CRITICIDAD (C)  Y CUADRANTE DE CRITICIDAD (CU1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362840" y="1449360"/>
            <a:ext cx="48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RIESGO REMANENTE (R)  Y CUADRANTE DE CRITICIDAD (CU2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6204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67320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961920" y="225432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961920" y="2635200"/>
            <a:ext cx="35424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328760" y="263520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169380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961920" y="30160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2876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169380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328760" y="2254320"/>
            <a:ext cx="3538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69380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647800" y="2254320"/>
            <a:ext cx="35424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2647800" y="286380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647800" y="34732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3067200" y="224172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306720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067200" y="346068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219204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101340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64692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64764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PACTO EN LA ORGANIZACION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428760" y="1947960"/>
            <a:ext cx="270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4695840" y="1720800"/>
            <a:ext cx="401796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520236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2" name="Line 31"/>
          <p:cNvSpPr/>
          <p:nvPr/>
        </p:nvSpPr>
        <p:spPr>
          <a:xfrm>
            <a:off x="521352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5502240" y="225432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5502240" y="2635200"/>
            <a:ext cx="35388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5867280" y="26352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623412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550224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867280" y="30160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623412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58672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623412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71866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7186680" y="28638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7186680" y="34732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7605720" y="224172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760572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7605720" y="346068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673056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55372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518724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518796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ITUACION ACTUAL- CONTROL INTERNO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968720" y="1947960"/>
            <a:ext cx="2638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83" name="Group 52"/>
          <p:cNvGrpSpPr/>
          <p:nvPr/>
        </p:nvGrpSpPr>
        <p:grpSpPr>
          <a:xfrm>
            <a:off x="231840" y="4222800"/>
            <a:ext cx="8378280" cy="2110320"/>
            <a:chOff x="231840" y="4222800"/>
            <a:chExt cx="8378280" cy="2110320"/>
          </a:xfrm>
        </p:grpSpPr>
        <p:sp>
          <p:nvSpPr>
            <p:cNvPr id="384" name="Rectangle 53"/>
            <p:cNvSpPr/>
            <p:nvPr/>
          </p:nvSpPr>
          <p:spPr>
            <a:xfrm>
              <a:off x="231840" y="4222800"/>
              <a:ext cx="27064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ROBABILIDAD DE OCURRENCIA  (P.O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5" name="Rectangle 54"/>
            <p:cNvSpPr/>
            <p:nvPr/>
          </p:nvSpPr>
          <p:spPr>
            <a:xfrm>
              <a:off x="5807520" y="4222800"/>
              <a:ext cx="2455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TUACION ACTUAL (S.A.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L CONTROL INTERN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6" name="Rectangle 55"/>
            <p:cNvSpPr/>
            <p:nvPr/>
          </p:nvSpPr>
          <p:spPr>
            <a:xfrm>
              <a:off x="235800" y="4832280"/>
              <a:ext cx="2769480" cy="15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poco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medianamente probable 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altamente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7" name="Rectangle 56"/>
            <p:cNvSpPr/>
            <p:nvPr/>
          </p:nvSpPr>
          <p:spPr>
            <a:xfrm>
              <a:off x="3286800" y="4832280"/>
              <a:ext cx="23475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baj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median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alt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8" name="Rectangle 57"/>
            <p:cNvSpPr/>
            <p:nvPr/>
          </p:nvSpPr>
          <p:spPr>
            <a:xfrm>
              <a:off x="5734080" y="4844880"/>
              <a:ext cx="287604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en gran par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medianamen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o existe ningún tipo de medid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9" name="Rectangle 58"/>
            <p:cNvSpPr/>
            <p:nvPr/>
          </p:nvSpPr>
          <p:spPr>
            <a:xfrm>
              <a:off x="3077280" y="4222800"/>
              <a:ext cx="27734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ACTO  EN LA ORGANIZACIÓN   (I)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90" name="Rectangle 5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76280" y="2039760"/>
            <a:ext cx="17049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robabilidad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313000" y="1598760"/>
            <a:ext cx="59133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129120" y="2401920"/>
            <a:ext cx="4608360" cy="349236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454356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621972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3173400" y="3462480"/>
            <a:ext cx="4568760" cy="144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127320" y="4821120"/>
            <a:ext cx="4616640" cy="1296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95640" y="2095560"/>
            <a:ext cx="0" cy="38815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95640" y="5964120"/>
            <a:ext cx="4997520" cy="129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1981080" y="2744640"/>
            <a:ext cx="1157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uy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1951200" y="3863880"/>
            <a:ext cx="1125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1951200" y="5033880"/>
            <a:ext cx="1125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Poco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125880" y="6005520"/>
            <a:ext cx="1544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In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4890960" y="6005520"/>
            <a:ext cx="1177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6294600" y="6005520"/>
            <a:ext cx="13255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3384720" y="6438960"/>
            <a:ext cx="4011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agnitud del Impacto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777960" y="1271520"/>
            <a:ext cx="7530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Mapa de riesgos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Proceso x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3384720" y="2622600"/>
            <a:ext cx="26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1.   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6585120" y="346068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2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661080" y="4908600"/>
            <a:ext cx="77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3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1" name="Rectangle 22"/>
          <p:cNvSpPr/>
          <p:nvPr/>
        </p:nvSpPr>
        <p:spPr>
          <a:xfrm>
            <a:off x="6585120" y="262260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4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384720" y="5060880"/>
            <a:ext cx="9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5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6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4320" y="120780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medición, monitoreo y el aprendizaje dan soporte al mejoramiento continu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2035080" y="3021120"/>
            <a:ext cx="1027080" cy="3333600"/>
            <a:chOff x="2035080" y="3021120"/>
            <a:chExt cx="1027080" cy="3333600"/>
          </a:xfrm>
        </p:grpSpPr>
        <p:sp>
          <p:nvSpPr>
            <p:cNvPr id="416" name="Line 4"/>
            <p:cNvSpPr/>
            <p:nvPr/>
          </p:nvSpPr>
          <p:spPr>
            <a:xfrm>
              <a:off x="306216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203508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909720" y="350532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911160" y="409716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925560" y="468936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36720" y="304632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194000" y="5533920"/>
            <a:ext cx="18108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23" name="Group 11"/>
          <p:cNvGrpSpPr/>
          <p:nvPr/>
        </p:nvGrpSpPr>
        <p:grpSpPr>
          <a:xfrm>
            <a:off x="2035080" y="5335560"/>
            <a:ext cx="1027080" cy="244440"/>
            <a:chOff x="2035080" y="5335560"/>
            <a:chExt cx="1027080" cy="244440"/>
          </a:xfrm>
        </p:grpSpPr>
        <p:sp>
          <p:nvSpPr>
            <p:cNvPr id="424" name="Line 12"/>
            <p:cNvSpPr/>
            <p:nvPr/>
          </p:nvSpPr>
          <p:spPr>
            <a:xfrm>
              <a:off x="306216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25" name="Line 13"/>
            <p:cNvSpPr/>
            <p:nvPr/>
          </p:nvSpPr>
          <p:spPr>
            <a:xfrm>
              <a:off x="203508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26" name="Text Box 14"/>
          <p:cNvSpPr/>
          <p:nvPr/>
        </p:nvSpPr>
        <p:spPr>
          <a:xfrm>
            <a:off x="911160" y="587520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915840" y="528156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11400" y="229716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090440" y="5275440"/>
            <a:ext cx="280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edición, monitoreo y aprendizaj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30" name="Group 18"/>
          <p:cNvGrpSpPr/>
          <p:nvPr/>
        </p:nvGrpSpPr>
        <p:grpSpPr>
          <a:xfrm>
            <a:off x="736560" y="3083040"/>
            <a:ext cx="3298680" cy="318600"/>
            <a:chOff x="736560" y="3083040"/>
            <a:chExt cx="3298680" cy="318600"/>
          </a:xfrm>
        </p:grpSpPr>
        <p:sp>
          <p:nvSpPr>
            <p:cNvPr id="431" name="Text Box 19"/>
            <p:cNvSpPr/>
            <p:nvPr/>
          </p:nvSpPr>
          <p:spPr>
            <a:xfrm>
              <a:off x="96948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2" name="Text Box 20"/>
            <p:cNvSpPr/>
            <p:nvPr/>
          </p:nvSpPr>
          <p:spPr>
            <a:xfrm>
              <a:off x="202212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3" name="Text Box 21"/>
            <p:cNvSpPr/>
            <p:nvPr/>
          </p:nvSpPr>
          <p:spPr>
            <a:xfrm>
              <a:off x="3022560" y="30830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4" name="Text Box 22"/>
            <p:cNvSpPr/>
            <p:nvPr/>
          </p:nvSpPr>
          <p:spPr>
            <a:xfrm>
              <a:off x="736560" y="316368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5" name="Text Box 23"/>
            <p:cNvSpPr/>
            <p:nvPr/>
          </p:nvSpPr>
          <p:spPr>
            <a:xfrm>
              <a:off x="176292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277416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37" name="Text Box 25"/>
          <p:cNvSpPr/>
          <p:nvPr/>
        </p:nvSpPr>
        <p:spPr>
          <a:xfrm>
            <a:off x="4670280" y="181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834080" y="2206800"/>
            <a:ext cx="3979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aprobados por el comité de riesgos/junta directiva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monitoreados con 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“triggers” </a:t>
            </a:r>
            <a:r>
              <a:rPr b="1" lang="en-US" sz="2000" spc="-1" strike="noStrike">
                <a:solidFill>
                  <a:srgbClr val="0000ff"/>
                </a:solidFill>
                <a:latin typeface="Univers 65 Bold"/>
              </a:rPr>
              <a:t>(Disparadore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Frecuencia definida para los reportes en todos los nivel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 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552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optimización del riesgo ayuda a balancear el riesgo y el retorn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1935000" y="3017880"/>
            <a:ext cx="1027440" cy="3333600"/>
            <a:chOff x="1935000" y="3017880"/>
            <a:chExt cx="1027440" cy="3333600"/>
          </a:xfrm>
        </p:grpSpPr>
        <p:sp>
          <p:nvSpPr>
            <p:cNvPr id="442" name="Line 4"/>
            <p:cNvSpPr/>
            <p:nvPr/>
          </p:nvSpPr>
          <p:spPr>
            <a:xfrm>
              <a:off x="296244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19350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44" name="Text Box 6"/>
          <p:cNvSpPr/>
          <p:nvPr/>
        </p:nvSpPr>
        <p:spPr>
          <a:xfrm>
            <a:off x="80964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81108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82548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83664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09428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9" name="Group 11"/>
          <p:cNvGrpSpPr/>
          <p:nvPr/>
        </p:nvGrpSpPr>
        <p:grpSpPr>
          <a:xfrm>
            <a:off x="1935000" y="5332320"/>
            <a:ext cx="1027440" cy="244440"/>
            <a:chOff x="1935000" y="5332320"/>
            <a:chExt cx="1027440" cy="244440"/>
          </a:xfrm>
        </p:grpSpPr>
        <p:sp>
          <p:nvSpPr>
            <p:cNvPr id="450" name="Line 12"/>
            <p:cNvSpPr/>
            <p:nvPr/>
          </p:nvSpPr>
          <p:spPr>
            <a:xfrm>
              <a:off x="296244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1" name="Line 13"/>
            <p:cNvSpPr/>
            <p:nvPr/>
          </p:nvSpPr>
          <p:spPr>
            <a:xfrm>
              <a:off x="19350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52" name="Text Box 14"/>
          <p:cNvSpPr/>
          <p:nvPr/>
        </p:nvSpPr>
        <p:spPr>
          <a:xfrm>
            <a:off x="81108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81612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11132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344520" y="576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za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56" name="Group 18"/>
          <p:cNvGrpSpPr/>
          <p:nvPr/>
        </p:nvGrpSpPr>
        <p:grpSpPr>
          <a:xfrm>
            <a:off x="582480" y="3083040"/>
            <a:ext cx="3383280" cy="318600"/>
            <a:chOff x="582480" y="3083040"/>
            <a:chExt cx="3383280" cy="318600"/>
          </a:xfrm>
        </p:grpSpPr>
        <p:sp>
          <p:nvSpPr>
            <p:cNvPr id="457" name="Text Box 19"/>
            <p:cNvSpPr/>
            <p:nvPr/>
          </p:nvSpPr>
          <p:spPr>
            <a:xfrm>
              <a:off x="81540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8" name="Text Box 20"/>
            <p:cNvSpPr/>
            <p:nvPr/>
          </p:nvSpPr>
          <p:spPr>
            <a:xfrm>
              <a:off x="186804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9" name="Text Box 21"/>
            <p:cNvSpPr/>
            <p:nvPr/>
          </p:nvSpPr>
          <p:spPr>
            <a:xfrm>
              <a:off x="2867760" y="3083040"/>
              <a:ext cx="109800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a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582480" y="3163680"/>
              <a:ext cx="966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160884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261972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63" name="Text Box 25"/>
          <p:cNvSpPr/>
          <p:nvPr/>
        </p:nvSpPr>
        <p:spPr>
          <a:xfrm>
            <a:off x="4518000" y="17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4611600" y="2274840"/>
            <a:ext cx="43372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Análisis costo-beneficio relacionado con las decisiones de consideración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locación de capital basado en los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Relación entre los riesgos existentes y entendid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5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35"/>
          <p:cNvSpPr/>
          <p:nvPr/>
        </p:nvSpPr>
        <p:spPr>
          <a:xfrm rot="5386200">
            <a:off x="1371960" y="4676040"/>
            <a:ext cx="3110040" cy="723960"/>
          </a:xfrm>
          <a:custGeom>
            <a:avLst/>
            <a:gdLst>
              <a:gd name="textAreaLeft" fmla="*/ 552240 w 3110040"/>
              <a:gd name="textAreaRight" fmla="*/ 2246760 w 311004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-2194886"/>
                <a:lnTo>
                  <a:pt x="20848" y="9326"/>
                </a:lnTo>
                <a:lnTo>
                  <a:pt x="17394" y="0"/>
                </a:lnTo>
                <a:lnTo>
                  <a:pt x="12435" y="9326"/>
                </a:lnTo>
                <a:lnTo>
                  <a:pt x="14595" y="9326"/>
                </a:lnTo>
                <a:arcTo wR="7674" hR="21600" stAng="3205114" swAng="1858018"/>
                <a:lnTo>
                  <a:pt x="9720" y="20818"/>
                </a:lnTo>
                <a:arcTo wR="7674" hR="21600" stAng="5736869" swAng="506313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336869"/>
                <a:lnTo>
                  <a:pt x="9720" y="20818"/>
                </a:lnTo>
                <a:arcTo wR="7674" hR="21600" stAng="5736869" swAng="5063131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67" name="Group 37"/>
          <p:cNvGrpSpPr/>
          <p:nvPr/>
        </p:nvGrpSpPr>
        <p:grpSpPr>
          <a:xfrm>
            <a:off x="4838760" y="2379600"/>
            <a:ext cx="1587600" cy="2692440"/>
            <a:chOff x="4838760" y="2379600"/>
            <a:chExt cx="1587600" cy="2692440"/>
          </a:xfrm>
        </p:grpSpPr>
        <p:sp>
          <p:nvSpPr>
            <p:cNvPr id="468" name="Line 4"/>
            <p:cNvSpPr/>
            <p:nvPr/>
          </p:nvSpPr>
          <p:spPr>
            <a:xfrm>
              <a:off x="64263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48387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3282840" y="3065400"/>
            <a:ext cx="48038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3286080" y="382428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3287880" y="4599000"/>
            <a:ext cx="48067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3286080" y="2306520"/>
            <a:ext cx="4800600" cy="27655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4" name="Oval 43"/>
          <p:cNvSpPr/>
          <p:nvPr/>
        </p:nvSpPr>
        <p:spPr>
          <a:xfrm>
            <a:off x="3854520" y="313992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5" name="Oval 44"/>
          <p:cNvSpPr/>
          <p:nvPr/>
        </p:nvSpPr>
        <p:spPr>
          <a:xfrm>
            <a:off x="3854520" y="466416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6" name="AutoShape 42"/>
          <p:cNvSpPr/>
          <p:nvPr/>
        </p:nvSpPr>
        <p:spPr>
          <a:xfrm rot="16186200">
            <a:off x="6721200" y="4524480"/>
            <a:ext cx="3109680" cy="690480"/>
          </a:xfrm>
          <a:custGeom>
            <a:avLst/>
            <a:gdLst>
              <a:gd name="textAreaLeft" fmla="*/ 543960 w 3109680"/>
              <a:gd name="textAreaRight" fmla="*/ 2254680 w 3109680"/>
              <a:gd name="textAreaTop" fmla="*/ 92520 h 690480"/>
              <a:gd name="textAreaBottom" fmla="*/ 59796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55623"/>
                <a:lnTo>
                  <a:pt x="20764" y="9872"/>
                </a:lnTo>
                <a:lnTo>
                  <a:pt x="17280" y="0"/>
                </a:lnTo>
                <a:lnTo>
                  <a:pt x="12124" y="9872"/>
                </a:lnTo>
                <a:lnTo>
                  <a:pt x="14284" y="9872"/>
                </a:lnTo>
                <a:arcTo wR="7560" hR="21600" stAng="3344377" swAng="169818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7823160" y="5668920"/>
            <a:ext cx="279360" cy="8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78" name="Group 38"/>
          <p:cNvGrpSpPr/>
          <p:nvPr/>
        </p:nvGrpSpPr>
        <p:grpSpPr>
          <a:xfrm>
            <a:off x="4838760" y="5415120"/>
            <a:ext cx="1587600" cy="1168200"/>
            <a:chOff x="4838760" y="5415120"/>
            <a:chExt cx="1587600" cy="1168200"/>
          </a:xfrm>
        </p:grpSpPr>
        <p:sp>
          <p:nvSpPr>
            <p:cNvPr id="479" name="Line 39"/>
            <p:cNvSpPr/>
            <p:nvPr/>
          </p:nvSpPr>
          <p:spPr>
            <a:xfrm>
              <a:off x="64263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80" name="Line 40"/>
            <p:cNvSpPr/>
            <p:nvPr/>
          </p:nvSpPr>
          <p:spPr>
            <a:xfrm>
              <a:off x="48387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81" name="Text Box 21"/>
          <p:cNvSpPr/>
          <p:nvPr/>
        </p:nvSpPr>
        <p:spPr>
          <a:xfrm>
            <a:off x="3286080" y="610884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3290760" y="5418000"/>
            <a:ext cx="47959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3286080" y="5415120"/>
            <a:ext cx="4800600" cy="11682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01880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Univers 65 Bold"/>
              </a:rPr>
              <a:t>Se debe definir el objetivo y determinar un plan de acción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700440" y="1955880"/>
            <a:ext cx="39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la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1565280" y="313524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1558800" y="389880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1023840" y="4589640"/>
            <a:ext cx="2495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, monitoreo y aprendizaje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9" name="Text Box 26"/>
          <p:cNvSpPr/>
          <p:nvPr/>
        </p:nvSpPr>
        <p:spPr>
          <a:xfrm>
            <a:off x="1581120" y="54849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0" name="Text Box 27"/>
          <p:cNvSpPr/>
          <p:nvPr/>
        </p:nvSpPr>
        <p:spPr>
          <a:xfrm>
            <a:off x="1611360" y="625968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timiz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91" name="Group 58"/>
          <p:cNvGrpSpPr/>
          <p:nvPr/>
        </p:nvGrpSpPr>
        <p:grpSpPr>
          <a:xfrm>
            <a:off x="977760" y="1830240"/>
            <a:ext cx="1511280" cy="1107720"/>
            <a:chOff x="977760" y="1830240"/>
            <a:chExt cx="1511280" cy="1107720"/>
          </a:xfrm>
        </p:grpSpPr>
        <p:sp>
          <p:nvSpPr>
            <p:cNvPr id="492" name="Rectangle 41"/>
            <p:cNvSpPr/>
            <p:nvPr/>
          </p:nvSpPr>
          <p:spPr>
            <a:xfrm>
              <a:off x="977760" y="1856520"/>
              <a:ext cx="1511280" cy="1081440"/>
            </a:xfrm>
            <a:prstGeom prst="rect">
              <a:avLst/>
            </a:prstGeom>
            <a:solidFill>
              <a:srgbClr val="c1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1002240" y="183024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r E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je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pl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4" name="Oval 31"/>
            <p:cNvSpPr/>
            <p:nvPr/>
          </p:nvSpPr>
          <p:spPr>
            <a:xfrm>
              <a:off x="1163520" y="2157120"/>
              <a:ext cx="311760" cy="29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5" name="Oval 32"/>
            <p:cNvSpPr/>
            <p:nvPr/>
          </p:nvSpPr>
          <p:spPr>
            <a:xfrm>
              <a:off x="1163520" y="2517840"/>
              <a:ext cx="311760" cy="293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1454760" y="2155680"/>
              <a:ext cx="18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7" name="Text Box 34"/>
            <p:cNvSpPr/>
            <p:nvPr/>
          </p:nvSpPr>
          <p:spPr>
            <a:xfrm>
              <a:off x="1454760" y="2516400"/>
              <a:ext cx="18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98" name="Oval 45"/>
          <p:cNvSpPr/>
          <p:nvPr/>
        </p:nvSpPr>
        <p:spPr>
          <a:xfrm>
            <a:off x="3854520" y="6188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9" name="Oval 52"/>
          <p:cNvSpPr/>
          <p:nvPr/>
        </p:nvSpPr>
        <p:spPr>
          <a:xfrm>
            <a:off x="5378400" y="3902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0" name="Oval 47"/>
          <p:cNvSpPr/>
          <p:nvPr/>
        </p:nvSpPr>
        <p:spPr>
          <a:xfrm>
            <a:off x="5492880" y="313992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1" name="Oval 48"/>
          <p:cNvSpPr/>
          <p:nvPr/>
        </p:nvSpPr>
        <p:spPr>
          <a:xfrm>
            <a:off x="5645160" y="390204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2" name="Oval 49"/>
          <p:cNvSpPr/>
          <p:nvPr/>
        </p:nvSpPr>
        <p:spPr>
          <a:xfrm>
            <a:off x="5492880" y="467676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3" name="Oval 50"/>
          <p:cNvSpPr/>
          <p:nvPr/>
        </p:nvSpPr>
        <p:spPr>
          <a:xfrm>
            <a:off x="5530680" y="61880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4" name="Oval 51"/>
          <p:cNvSpPr/>
          <p:nvPr/>
        </p:nvSpPr>
        <p:spPr>
          <a:xfrm>
            <a:off x="5518080" y="55022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5" name="Oval 53"/>
          <p:cNvSpPr/>
          <p:nvPr/>
        </p:nvSpPr>
        <p:spPr>
          <a:xfrm>
            <a:off x="7130880" y="54896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6" name="Line 54"/>
          <p:cNvSpPr/>
          <p:nvPr/>
        </p:nvSpPr>
        <p:spPr>
          <a:xfrm>
            <a:off x="4305240" y="331956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7" name="Line 55"/>
          <p:cNvSpPr/>
          <p:nvPr/>
        </p:nvSpPr>
        <p:spPr>
          <a:xfrm>
            <a:off x="4305240" y="63547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4305240" y="484344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5969160" y="56563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0" name="Group 65"/>
          <p:cNvGrpSpPr/>
          <p:nvPr/>
        </p:nvGrpSpPr>
        <p:grpSpPr>
          <a:xfrm>
            <a:off x="3319560" y="2343240"/>
            <a:ext cx="4746600" cy="757080"/>
            <a:chOff x="3319560" y="2343240"/>
            <a:chExt cx="4746600" cy="757080"/>
          </a:xfrm>
        </p:grpSpPr>
        <p:sp>
          <p:nvSpPr>
            <p:cNvPr id="511" name="Text Box 59"/>
            <p:cNvSpPr/>
            <p:nvPr/>
          </p:nvSpPr>
          <p:spPr>
            <a:xfrm>
              <a:off x="3683160" y="234468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2" name="Text Box 60"/>
            <p:cNvSpPr/>
            <p:nvPr/>
          </p:nvSpPr>
          <p:spPr>
            <a:xfrm>
              <a:off x="5309280" y="235116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3" name="Text Box 61"/>
            <p:cNvSpPr/>
            <p:nvPr/>
          </p:nvSpPr>
          <p:spPr>
            <a:xfrm>
              <a:off x="6856560" y="2343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4" name="Text Box 62"/>
            <p:cNvSpPr/>
            <p:nvPr/>
          </p:nvSpPr>
          <p:spPr>
            <a:xfrm>
              <a:off x="3319560" y="2724120"/>
              <a:ext cx="1495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Reactivo a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5" name="Text Box 63"/>
            <p:cNvSpPr/>
            <p:nvPr/>
          </p:nvSpPr>
          <p:spPr>
            <a:xfrm>
              <a:off x="4907160" y="2714760"/>
              <a:ext cx="1479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Preparado para e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6" name="Text Box 64"/>
            <p:cNvSpPr/>
            <p:nvPr/>
          </p:nvSpPr>
          <p:spPr>
            <a:xfrm>
              <a:off x="6472440" y="2709720"/>
              <a:ext cx="1593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Anticipa el 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Ri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17" name="Rectangle 6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7975440" y="6378480"/>
            <a:ext cx="116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314280" y="544680"/>
            <a:ext cx="8659440" cy="5892120"/>
            <a:chOff x="314280" y="544680"/>
            <a:chExt cx="8659440" cy="5892120"/>
          </a:xfrm>
        </p:grpSpPr>
        <p:pic>
          <p:nvPicPr>
            <p:cNvPr id="520" name="Picture 4" descr="BALANZA"/>
            <p:cNvPicPr/>
            <p:nvPr/>
          </p:nvPicPr>
          <p:blipFill>
            <a:blip r:embed="rId1"/>
            <a:stretch/>
          </p:blipFill>
          <p:spPr>
            <a:xfrm>
              <a:off x="357120" y="890280"/>
              <a:ext cx="861660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"/>
            <p:cNvSpPr/>
            <p:nvPr/>
          </p:nvSpPr>
          <p:spPr>
            <a:xfrm>
              <a:off x="7372440" y="1230840"/>
              <a:ext cx="1513440" cy="44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s de Riesgo a Nivel de la Junta Directiva y Alta Gerenci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 y evaluación del riesgo en toda la organiz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nguaje y enfoque comune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ción adecuada del riesgo en todos los procesos del negoci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tamiento y Optimiz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722304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3810240" y="1227600"/>
              <a:ext cx="1678320" cy="39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reconoce necesidad de administrar el riesgo en toda la empresa y se comienza un proceso de sensibilización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xiste una identificación de riesgos en todos los procesos, pero no es sistémica y frecuente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de datos con datos históricos, pero sin integración para la toma de decision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31428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616000" y="1225800"/>
              <a:ext cx="157284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alta gerencia respaldan con la definición de una política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iste un  Comité de Riesg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responsabilidad en la administración de riesgos depende de cada proces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063160" y="1200240"/>
              <a:ext cx="1746720" cy="49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la Gerencia patrocinan la administración de riesgo, pero no tienen mecanismos para ejecutarlas con éxit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lta de enfoque y lenguaje común para administrar los riesgo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Univers 65 Bold"/>
                </a:rPr>
                <a:t>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 riesgos son manejados cada áreas de manera intuitiva y desintegrada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administración de riesgos es responsabilidad del área de auditorí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314280" y="547920"/>
              <a:ext cx="173376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2048040" y="547920"/>
              <a:ext cx="173412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3767400" y="547920"/>
              <a:ext cx="1734120" cy="64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548640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5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205020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2" name="Rectangle 16"/>
            <p:cNvSpPr/>
            <p:nvPr/>
          </p:nvSpPr>
          <p:spPr>
            <a:xfrm>
              <a:off x="377136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3" name="Rectangle 17"/>
            <p:cNvSpPr/>
            <p:nvPr/>
          </p:nvSpPr>
          <p:spPr>
            <a:xfrm>
              <a:off x="549252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4" name="Rectangle 18"/>
            <p:cNvSpPr/>
            <p:nvPr/>
          </p:nvSpPr>
          <p:spPr>
            <a:xfrm>
              <a:off x="722844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5" name="Rectangle 19"/>
            <p:cNvSpPr/>
            <p:nvPr/>
          </p:nvSpPr>
          <p:spPr>
            <a:xfrm>
              <a:off x="396360" y="1200240"/>
              <a:ext cx="166284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 Junta Directiva ni gerencia enfatizan administr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todologías homologadas para la administración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canismos de reportes formal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260280" y="84240"/>
            <a:ext cx="8883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ffffff"/>
                </a:solidFill>
                <a:latin typeface="Arial"/>
              </a:rPr>
              <a:t>Cuadro base para el análisis</a:t>
            </a:r>
            <a:endParaRPr b="1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7" name="Rectangle 21"/>
          <p:cNvSpPr/>
          <p:nvPr/>
        </p:nvSpPr>
        <p:spPr>
          <a:xfrm>
            <a:off x="4195800" y="6486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C31-220A-4267-8DE7-DF44B95A1591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777960" y="2206800"/>
            <a:ext cx="773568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777960" y="2930400"/>
            <a:ext cx="7735680" cy="59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777960" y="3591000"/>
            <a:ext cx="7735680" cy="1985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777960" y="5695920"/>
            <a:ext cx="7735680" cy="61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777960" y="2206800"/>
            <a:ext cx="76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Objetivos del proceso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852480" y="2930400"/>
            <a:ext cx="76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Factores de producción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77960" y="3552840"/>
            <a:ext cx="77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Actividades 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927000" y="4006800"/>
            <a:ext cx="1170000" cy="520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2311560" y="4006800"/>
            <a:ext cx="126180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3797280" y="4006800"/>
            <a:ext cx="12495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23080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2092320" y="420372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3552840" y="416088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4976640" y="4172040"/>
            <a:ext cx="23364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686124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6600960" y="4160880"/>
            <a:ext cx="23652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891480" y="482904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852480" y="5692680"/>
            <a:ext cx="75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Resultados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7541280" y="4332240"/>
            <a:ext cx="3600" cy="471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281160" y="1298520"/>
            <a:ext cx="85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Univers 65 Bold"/>
              </a:rPr>
              <a:t>Sistema de Administración Integral de Riesgos 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1920" y="227340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rédi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027160" y="228132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merc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735360" y="2273400"/>
            <a:ext cx="17128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liquidez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43560" y="2279520"/>
            <a:ext cx="171144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leg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161120" y="227160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de insuficiencia de reserva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39840" y="341316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oper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35080" y="340668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estratégic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728880" y="3413160"/>
            <a:ext cx="17132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reput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437080" y="3405240"/>
            <a:ext cx="175428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ontrapar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175520" y="3414600"/>
            <a:ext cx="1711440" cy="11178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...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651200" y="310356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Indicadores claves del rendimiento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609480" y="2427120"/>
            <a:ext cx="797904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Sistemas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693720" y="3125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22440" y="308448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Factores Críticos de Éxito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 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670280" y="403704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Controles relacionados con los riesgos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641520" y="401796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Riesgos de negocios que amenazan los objetivos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639720" y="4987800"/>
            <a:ext cx="8026560" cy="1083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Oportunidades para mejorar el rendimiento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010040" y="3444840"/>
            <a:ext cx="6062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3967200" y="4384800"/>
            <a:ext cx="6778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401760" y="1801800"/>
            <a:ext cx="8346600" cy="4889520"/>
            <a:chOff x="401760" y="1801800"/>
            <a:chExt cx="8346600" cy="4889520"/>
          </a:xfrm>
        </p:grpSpPr>
        <p:sp>
          <p:nvSpPr>
            <p:cNvPr id="573" name="Rectangle 5"/>
            <p:cNvSpPr/>
            <p:nvPr/>
          </p:nvSpPr>
          <p:spPr>
            <a:xfrm>
              <a:off x="403560" y="1801800"/>
              <a:ext cx="8344800" cy="4889520"/>
            </a:xfrm>
            <a:prstGeom prst="rect">
              <a:avLst/>
            </a:prstGeom>
            <a:solidFill>
              <a:srgbClr val="f7e4d1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403560" y="1801800"/>
              <a:ext cx="8344800" cy="422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>
              <a:off x="2169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>
              <a:off x="3897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>
              <a:off x="74656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>
              <a:off x="7890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>
              <a:off x="83170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>
              <a:off x="874224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>
              <a:off x="7038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>
              <a:off x="6615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>
              <a:off x="6189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5679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1760" y="1862280"/>
              <a:ext cx="17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72600" y="1877760"/>
              <a:ext cx="161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5750640" y="182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6221880" y="18388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64704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0" name="Text Box 22"/>
            <p:cNvSpPr/>
            <p:nvPr/>
          </p:nvSpPr>
          <p:spPr>
            <a:xfrm>
              <a:off x="707328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1" name="Text Box 23"/>
            <p:cNvSpPr/>
            <p:nvPr/>
          </p:nvSpPr>
          <p:spPr>
            <a:xfrm>
              <a:off x="7498440" y="1838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2" name="Text Box 24"/>
            <p:cNvSpPr/>
            <p:nvPr/>
          </p:nvSpPr>
          <p:spPr>
            <a:xfrm>
              <a:off x="792360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834984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507600" y="2264400"/>
              <a:ext cx="165528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se generan notas por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otizaciones por afiliado o centro de trabaj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álculo de Cotizaciones por tas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Sumatoria de cotizaciones vs. totales de autoliquid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2219400" y="1877760"/>
              <a:ext cx="161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2161440" y="2273760"/>
              <a:ext cx="1699560" cy="16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Disminución del ingres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Implicación legal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965760" y="2267640"/>
              <a:ext cx="155052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Operaciones 200X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579348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625176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0" name="Text Box 32"/>
            <p:cNvSpPr/>
            <p:nvPr/>
          </p:nvSpPr>
          <p:spPr>
            <a:xfrm>
              <a:off x="709092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7526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2" name="Text Box 34"/>
            <p:cNvSpPr/>
            <p:nvPr/>
          </p:nvSpPr>
          <p:spPr>
            <a:xfrm>
              <a:off x="6671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840600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4" name="Text Box 36"/>
            <p:cNvSpPr/>
            <p:nvPr/>
          </p:nvSpPr>
          <p:spPr>
            <a:xfrm>
              <a:off x="7941600" y="2362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318960" y="1817640"/>
            <a:ext cx="8567640" cy="4854600"/>
            <a:chOff x="318960" y="1817640"/>
            <a:chExt cx="8567640" cy="4854600"/>
          </a:xfrm>
        </p:grpSpPr>
        <p:sp>
          <p:nvSpPr>
            <p:cNvPr id="608" name="Rectangle 5"/>
            <p:cNvSpPr/>
            <p:nvPr/>
          </p:nvSpPr>
          <p:spPr>
            <a:xfrm>
              <a:off x="320760" y="1817640"/>
              <a:ext cx="84848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320760" y="1817640"/>
              <a:ext cx="84848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21168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3873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7501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7932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>
              <a:off x="8367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>
              <a:off x="8799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>
              <a:off x="7067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>
              <a:off x="6636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6203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>
              <a:off x="5685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0" name="Text Box 17"/>
            <p:cNvSpPr/>
            <p:nvPr/>
          </p:nvSpPr>
          <p:spPr>
            <a:xfrm>
              <a:off x="318960" y="1877760"/>
              <a:ext cx="179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1" name="Text Box 18"/>
            <p:cNvSpPr/>
            <p:nvPr/>
          </p:nvSpPr>
          <p:spPr>
            <a:xfrm>
              <a:off x="3949920" y="1892880"/>
              <a:ext cx="16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57726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3" name="Text Box 20"/>
            <p:cNvSpPr/>
            <p:nvPr/>
          </p:nvSpPr>
          <p:spPr>
            <a:xfrm>
              <a:off x="624636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4" name="Text Box 21"/>
            <p:cNvSpPr/>
            <p:nvPr/>
          </p:nvSpPr>
          <p:spPr>
            <a:xfrm>
              <a:off x="66808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5" name="Text Box 22"/>
            <p:cNvSpPr/>
            <p:nvPr/>
          </p:nvSpPr>
          <p:spPr>
            <a:xfrm>
              <a:off x="712044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6" name="Text Box 23"/>
            <p:cNvSpPr/>
            <p:nvPr/>
          </p:nvSpPr>
          <p:spPr>
            <a:xfrm>
              <a:off x="755028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7" name="Text Box 24"/>
            <p:cNvSpPr/>
            <p:nvPr/>
          </p:nvSpPr>
          <p:spPr>
            <a:xfrm>
              <a:off x="79786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8" name="Text Box 25"/>
            <p:cNvSpPr/>
            <p:nvPr/>
          </p:nvSpPr>
          <p:spPr>
            <a:xfrm>
              <a:off x="841788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9" name="Text Box 26"/>
            <p:cNvSpPr/>
            <p:nvPr/>
          </p:nvSpPr>
          <p:spPr>
            <a:xfrm>
              <a:off x="426600" y="2277000"/>
              <a:ext cx="1683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trasladar las oficinas administrativas fuera de San Salvador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0" name="Text Box 27"/>
            <p:cNvSpPr/>
            <p:nvPr/>
          </p:nvSpPr>
          <p:spPr>
            <a:xfrm>
              <a:off x="2167200" y="1892880"/>
              <a:ext cx="163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1" name="Text Box 28"/>
            <p:cNvSpPr/>
            <p:nvPr/>
          </p:nvSpPr>
          <p:spPr>
            <a:xfrm>
              <a:off x="2108160" y="2286360"/>
              <a:ext cx="17280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uevos costos (Transporte)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sibilidad de deterioro del Capital Humano (Renuncia de personal ya capacitado y con experiencia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3943080" y="2279880"/>
              <a:ext cx="157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definid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3" name="Text Box 30"/>
            <p:cNvSpPr/>
            <p:nvPr/>
          </p:nvSpPr>
          <p:spPr>
            <a:xfrm>
              <a:off x="58050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62708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5" name="Text Box 32"/>
            <p:cNvSpPr/>
            <p:nvPr/>
          </p:nvSpPr>
          <p:spPr>
            <a:xfrm>
              <a:off x="71218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6" name="Text Box 33"/>
            <p:cNvSpPr/>
            <p:nvPr/>
          </p:nvSpPr>
          <p:spPr>
            <a:xfrm>
              <a:off x="75672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7" name="Text Box 34"/>
            <p:cNvSpPr/>
            <p:nvPr/>
          </p:nvSpPr>
          <p:spPr>
            <a:xfrm>
              <a:off x="6696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8" name="Text Box 35"/>
            <p:cNvSpPr/>
            <p:nvPr/>
          </p:nvSpPr>
          <p:spPr>
            <a:xfrm>
              <a:off x="84603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9" name="Text Box 36"/>
            <p:cNvSpPr/>
            <p:nvPr/>
          </p:nvSpPr>
          <p:spPr>
            <a:xfrm>
              <a:off x="798912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290520" y="1817640"/>
            <a:ext cx="8562600" cy="4854600"/>
            <a:chOff x="290520" y="1817640"/>
            <a:chExt cx="8562600" cy="4854600"/>
          </a:xfrm>
        </p:grpSpPr>
        <p:sp>
          <p:nvSpPr>
            <p:cNvPr id="643" name="Rectangle 5"/>
            <p:cNvSpPr/>
            <p:nvPr/>
          </p:nvSpPr>
          <p:spPr>
            <a:xfrm>
              <a:off x="292320" y="1817640"/>
              <a:ext cx="8501400" cy="485460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292320" y="1817640"/>
              <a:ext cx="850140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>
              <a:off x="20912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3851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7485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79178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8352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8785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7050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6619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6185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56660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5" name="Text Box 17"/>
            <p:cNvSpPr/>
            <p:nvPr/>
          </p:nvSpPr>
          <p:spPr>
            <a:xfrm>
              <a:off x="290520" y="1877760"/>
              <a:ext cx="18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6" name="Text Box 18"/>
            <p:cNvSpPr/>
            <p:nvPr/>
          </p:nvSpPr>
          <p:spPr>
            <a:xfrm>
              <a:off x="3927600" y="1892880"/>
              <a:ext cx="16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7" name="Text Box 19"/>
            <p:cNvSpPr/>
            <p:nvPr/>
          </p:nvSpPr>
          <p:spPr>
            <a:xfrm>
              <a:off x="57384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8" name="Text Box 20"/>
            <p:cNvSpPr/>
            <p:nvPr/>
          </p:nvSpPr>
          <p:spPr>
            <a:xfrm>
              <a:off x="621828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9" name="Text Box 21"/>
            <p:cNvSpPr/>
            <p:nvPr/>
          </p:nvSpPr>
          <p:spPr>
            <a:xfrm>
              <a:off x="66520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0" name="Text Box 22"/>
            <p:cNvSpPr/>
            <p:nvPr/>
          </p:nvSpPr>
          <p:spPr>
            <a:xfrm>
              <a:off x="70855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1" name="Text Box 23"/>
            <p:cNvSpPr/>
            <p:nvPr/>
          </p:nvSpPr>
          <p:spPr>
            <a:xfrm>
              <a:off x="7518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2" name="Text Box 24"/>
            <p:cNvSpPr/>
            <p:nvPr/>
          </p:nvSpPr>
          <p:spPr>
            <a:xfrm>
              <a:off x="795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83844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4" name="Text Box 26"/>
            <p:cNvSpPr/>
            <p:nvPr/>
          </p:nvSpPr>
          <p:spPr>
            <a:xfrm>
              <a:off x="398520" y="2277000"/>
              <a:ext cx="168588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iniciar un nuevo proyecto de ¨Bienes Raíces ¨ que incluy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) Construcción – Venta casas residencia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b) Compra – Alquiler- Vent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5" name="Text Box 27"/>
            <p:cNvSpPr/>
            <p:nvPr/>
          </p:nvSpPr>
          <p:spPr>
            <a:xfrm>
              <a:off x="2142000" y="1892880"/>
              <a:ext cx="16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6" name="Text Box 28"/>
            <p:cNvSpPr/>
            <p:nvPr/>
          </p:nvSpPr>
          <p:spPr>
            <a:xfrm>
              <a:off x="2082960" y="2286360"/>
              <a:ext cx="1731240" cy="41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Posibles Pérdidas derivadas d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Inexperiencia en este tipo de construcción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de construir pocas casas es más alto que para otras constructora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financieros adicionales en caso de no vender oportunamente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7" name="Text Box 29"/>
            <p:cNvSpPr/>
            <p:nvPr/>
          </p:nvSpPr>
          <p:spPr>
            <a:xfrm>
              <a:off x="3920760" y="2279880"/>
              <a:ext cx="157932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Sistemas de Controles presupuestarios aún en proceso de diseñ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líticas y procedimientos específicos de C/I no definidos (incluyendo políticas de no conflicto de intereses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8" name="Text Box 30"/>
            <p:cNvSpPr/>
            <p:nvPr/>
          </p:nvSpPr>
          <p:spPr>
            <a:xfrm>
              <a:off x="57855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625248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71056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7550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6678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84463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797328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87360" y="1817640"/>
            <a:ext cx="8262360" cy="4854600"/>
            <a:chOff x="387360" y="1817640"/>
            <a:chExt cx="8262360" cy="4854600"/>
          </a:xfrm>
        </p:grpSpPr>
        <p:sp>
          <p:nvSpPr>
            <p:cNvPr id="678" name="Rectangle 5"/>
            <p:cNvSpPr/>
            <p:nvPr/>
          </p:nvSpPr>
          <p:spPr>
            <a:xfrm>
              <a:off x="389160" y="1817640"/>
              <a:ext cx="81842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9" name="Rectangle 6"/>
            <p:cNvSpPr/>
            <p:nvPr/>
          </p:nvSpPr>
          <p:spPr>
            <a:xfrm>
              <a:off x="389160" y="1817640"/>
              <a:ext cx="81842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0" name="Line 7"/>
            <p:cNvSpPr/>
            <p:nvPr/>
          </p:nvSpPr>
          <p:spPr>
            <a:xfrm>
              <a:off x="2121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1" name="Line 8"/>
            <p:cNvSpPr/>
            <p:nvPr/>
          </p:nvSpPr>
          <p:spPr>
            <a:xfrm>
              <a:off x="38160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2" name="Line 9"/>
            <p:cNvSpPr/>
            <p:nvPr/>
          </p:nvSpPr>
          <p:spPr>
            <a:xfrm>
              <a:off x="73152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7731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>
              <a:off x="81504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5" name="Line 12"/>
            <p:cNvSpPr/>
            <p:nvPr/>
          </p:nvSpPr>
          <p:spPr>
            <a:xfrm>
              <a:off x="8567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6" name="Line 13"/>
            <p:cNvSpPr/>
            <p:nvPr/>
          </p:nvSpPr>
          <p:spPr>
            <a:xfrm>
              <a:off x="68965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>
              <a:off x="6481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>
              <a:off x="6063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55630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0" name="Text Box 17"/>
            <p:cNvSpPr/>
            <p:nvPr/>
          </p:nvSpPr>
          <p:spPr>
            <a:xfrm>
              <a:off x="387360" y="1877760"/>
              <a:ext cx="173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1" name="Text Box 18"/>
            <p:cNvSpPr/>
            <p:nvPr/>
          </p:nvSpPr>
          <p:spPr>
            <a:xfrm>
              <a:off x="3889440" y="1892880"/>
              <a:ext cx="15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563256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3" name="Text Box 20"/>
            <p:cNvSpPr/>
            <p:nvPr/>
          </p:nvSpPr>
          <p:spPr>
            <a:xfrm>
              <a:off x="609552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4" name="Text Box 21"/>
            <p:cNvSpPr/>
            <p:nvPr/>
          </p:nvSpPr>
          <p:spPr>
            <a:xfrm>
              <a:off x="651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5" name="Text Box 22"/>
            <p:cNvSpPr/>
            <p:nvPr/>
          </p:nvSpPr>
          <p:spPr>
            <a:xfrm>
              <a:off x="69397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6" name="Text Box 23"/>
            <p:cNvSpPr/>
            <p:nvPr/>
          </p:nvSpPr>
          <p:spPr>
            <a:xfrm>
              <a:off x="7347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7" name="Text Box 24"/>
            <p:cNvSpPr/>
            <p:nvPr/>
          </p:nvSpPr>
          <p:spPr>
            <a:xfrm>
              <a:off x="776412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8" name="Text Box 25"/>
            <p:cNvSpPr/>
            <p:nvPr/>
          </p:nvSpPr>
          <p:spPr>
            <a:xfrm>
              <a:off x="81810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9" name="Text Box 26"/>
            <p:cNvSpPr/>
            <p:nvPr/>
          </p:nvSpPr>
          <p:spPr>
            <a:xfrm>
              <a:off x="491400" y="2277000"/>
              <a:ext cx="1623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dquisición o arrendamiento de locales no apropiados para …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0" name="Text Box 27"/>
            <p:cNvSpPr/>
            <p:nvPr/>
          </p:nvSpPr>
          <p:spPr>
            <a:xfrm>
              <a:off x="2170080" y="1892880"/>
              <a:ext cx="15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1" name="Text Box 28"/>
            <p:cNvSpPr/>
            <p:nvPr/>
          </p:nvSpPr>
          <p:spPr>
            <a:xfrm>
              <a:off x="2113200" y="2286360"/>
              <a:ext cx="16668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2" name="Text Box 29"/>
            <p:cNvSpPr/>
            <p:nvPr/>
          </p:nvSpPr>
          <p:spPr>
            <a:xfrm>
              <a:off x="3882960" y="2279880"/>
              <a:ext cx="152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3" name="Text Box 30"/>
            <p:cNvSpPr/>
            <p:nvPr/>
          </p:nvSpPr>
          <p:spPr>
            <a:xfrm>
              <a:off x="567432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4" name="Text Box 31"/>
            <p:cNvSpPr/>
            <p:nvPr/>
          </p:nvSpPr>
          <p:spPr>
            <a:xfrm>
              <a:off x="61236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5" name="Text Box 32"/>
            <p:cNvSpPr/>
            <p:nvPr/>
          </p:nvSpPr>
          <p:spPr>
            <a:xfrm>
              <a:off x="69447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6" name="Text Box 33"/>
            <p:cNvSpPr/>
            <p:nvPr/>
          </p:nvSpPr>
          <p:spPr>
            <a:xfrm>
              <a:off x="73742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7" name="Text Box 34"/>
            <p:cNvSpPr/>
            <p:nvPr/>
          </p:nvSpPr>
          <p:spPr>
            <a:xfrm>
              <a:off x="6533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8" name="Text Box 35"/>
            <p:cNvSpPr/>
            <p:nvPr/>
          </p:nvSpPr>
          <p:spPr>
            <a:xfrm>
              <a:off x="82339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9" name="Text Box 36"/>
            <p:cNvSpPr/>
            <p:nvPr/>
          </p:nvSpPr>
          <p:spPr>
            <a:xfrm>
              <a:off x="777924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MCBD07306_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528560" cy="1827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sylvester-animated"/>
          <p:cNvPicPr/>
          <p:nvPr/>
        </p:nvPicPr>
        <p:blipFill>
          <a:blip r:embed="rId2"/>
          <a:stretch/>
        </p:blipFill>
        <p:spPr>
          <a:xfrm rot="19672800">
            <a:off x="3059280" y="1341360"/>
            <a:ext cx="3019320" cy="35053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20720" y="2743200"/>
            <a:ext cx="7719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7e4d1"/>
                </a:solidFill>
                <a:latin typeface="Lucida Sans Unicode"/>
              </a:rPr>
              <a:t>Cómo implementar un adecuado Sistema de Gestión de riesgos en la organización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714" name="Picture 11" descr="MPj03093930000[1]"/>
          <p:cNvPicPr/>
          <p:nvPr/>
        </p:nvPicPr>
        <p:blipFill>
          <a:blip r:embed="rId3"/>
          <a:stretch/>
        </p:blipFill>
        <p:spPr>
          <a:xfrm>
            <a:off x="2682720" y="445608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428760" y="15084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7050240" y="1789200"/>
            <a:ext cx="874440" cy="4687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7" name="Text Box 4"/>
          <p:cNvSpPr/>
          <p:nvPr/>
        </p:nvSpPr>
        <p:spPr>
          <a:xfrm rot="10805400">
            <a:off x="7345440" y="2799360"/>
            <a:ext cx="4237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MONITOREO Y REVISIÓ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990720" y="1841400"/>
            <a:ext cx="920520" cy="44848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9" name="Text Box 6"/>
          <p:cNvSpPr/>
          <p:nvPr/>
        </p:nvSpPr>
        <p:spPr>
          <a:xfrm rot="10800000">
            <a:off x="1260000" y="2610720"/>
            <a:ext cx="42372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COMUNICACIÓN Y CONSULT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2627280" y="2124000"/>
            <a:ext cx="3700440" cy="5158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2934360" y="2243160"/>
            <a:ext cx="28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STABLECER EL CONTEX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646360" y="3027240"/>
            <a:ext cx="3714840" cy="5000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2872440" y="3130560"/>
            <a:ext cx="31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IDENTIFICACIÓN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2655720" y="3936960"/>
            <a:ext cx="3691080" cy="50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3211200" y="401148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ANÁLISIS DE RIESGOS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6" name="Rectangle 13"/>
          <p:cNvSpPr/>
          <p:nvPr/>
        </p:nvSpPr>
        <p:spPr>
          <a:xfrm>
            <a:off x="2639880" y="4802040"/>
            <a:ext cx="3710160" cy="5144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3096360" y="491976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VALUACIÓN DEL RIESGO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2643120" y="5694480"/>
            <a:ext cx="3697200" cy="5126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3364920" y="581184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TRATAR 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6330960" y="23652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6362640" y="32259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2" name="Line 19"/>
          <p:cNvSpPr/>
          <p:nvPr/>
        </p:nvSpPr>
        <p:spPr>
          <a:xfrm>
            <a:off x="6367320" y="42768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3" name="Line 20"/>
          <p:cNvSpPr/>
          <p:nvPr/>
        </p:nvSpPr>
        <p:spPr>
          <a:xfrm>
            <a:off x="6362640" y="505152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356520" y="595476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1930320" y="23986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1951200" y="32878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1944720" y="41799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1951200" y="50547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1957320" y="59720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7518240" y="167652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1" name="Line 28"/>
          <p:cNvSpPr/>
          <p:nvPr/>
        </p:nvSpPr>
        <p:spPr>
          <a:xfrm flipH="1">
            <a:off x="4386240" y="1690560"/>
            <a:ext cx="3132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2" name="Line 29"/>
          <p:cNvSpPr/>
          <p:nvPr/>
        </p:nvSpPr>
        <p:spPr>
          <a:xfrm>
            <a:off x="4400640" y="1706400"/>
            <a:ext cx="0" cy="4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4438800" y="266076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4" name="Line 31"/>
          <p:cNvSpPr/>
          <p:nvPr/>
        </p:nvSpPr>
        <p:spPr>
          <a:xfrm>
            <a:off x="4430880" y="3535200"/>
            <a:ext cx="0" cy="3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4398840" y="444024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6" name="Line 33"/>
          <p:cNvSpPr/>
          <p:nvPr/>
        </p:nvSpPr>
        <p:spPr>
          <a:xfrm>
            <a:off x="4392720" y="5327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4387680" y="620244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8" name="Line 35"/>
          <p:cNvSpPr/>
          <p:nvPr/>
        </p:nvSpPr>
        <p:spPr>
          <a:xfrm>
            <a:off x="4413240" y="6629400"/>
            <a:ext cx="311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7531200" y="6480000"/>
            <a:ext cx="0" cy="14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1" name="Text Box 3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3" name="Text Box 5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4" name="Line 16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5" name="Line 17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6" name="Line 18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7" name="Line 19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9" name="Line 21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0" name="Line 22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1" name="Line 23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2" name="Line 24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3" name="Line 25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4" name="Line 26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5" name="Line 27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6" name="Line 28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7" name="Line 29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8" name="Line 30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9" name="Line 31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0" name="Line 32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1" name="Line 33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2" name="Line 34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3" name="Line 35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4" name="Text Box 36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estratégi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Organizacional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de Gestión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os criterios de la evalu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 estructur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214200" y="6305400"/>
            <a:ext cx="8763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7e4d1"/>
                </a:solidFill>
                <a:latin typeface="Lucida Sans Unicode"/>
              </a:rPr>
              <a:t>El respaldo de la alta dirección es un elemento clave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6" name="Rectangle 3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 identificación requiere un proceso amplio, sistemático y estructurad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8" name="Text Box 3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lo que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como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la identificación (listas de verificación, experiencia, registros, lluvia de ideas, etc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1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3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4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8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3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4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6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7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8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9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0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1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2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3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4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5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6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7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8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9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0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1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3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El análisis resulta de la combinación de cálculos de consecuencia y posibilidad en el contexto de las medidas de control existente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4876920" y="18288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el análisi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los controles existente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consecuencia y probabilidad o posibilidad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el tipo de análisis (cualitativo y/o cuantitativ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8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0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3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5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9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4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5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6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7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8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9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0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1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2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3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4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5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6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8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9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0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300960" y="2094480"/>
            <a:ext cx="8594640" cy="4574520"/>
            <a:chOff x="300960" y="2094480"/>
            <a:chExt cx="8594640" cy="4574520"/>
          </a:xfrm>
        </p:grpSpPr>
        <p:sp>
          <p:nvSpPr>
            <p:cNvPr id="55" name="Freeform 2"/>
            <p:cNvSpPr/>
            <p:nvPr/>
          </p:nvSpPr>
          <p:spPr>
            <a:xfrm>
              <a:off x="3580920" y="2565360"/>
              <a:ext cx="2366280" cy="3768840"/>
            </a:xfrm>
            <a:custGeom>
              <a:avLst/>
              <a:gdLst>
                <a:gd name="textAreaLeft" fmla="*/ 0 w 2366280"/>
                <a:gd name="textAreaRight" fmla="*/ 2366280 w 2366280"/>
                <a:gd name="textAreaTop" fmla="*/ 0 h 3768840"/>
                <a:gd name="textAreaBottom" fmla="*/ 3769200 h 3768840"/>
              </a:gdLst>
              <a:ahLst/>
              <a:rect l="textAreaLeft" t="textAreaTop" r="textAreaRight" b="textAreaBottom"/>
              <a:pathLst>
                <a:path w="1431" h="2374">
                  <a:moveTo>
                    <a:pt x="0" y="780"/>
                  </a:moveTo>
                  <a:lnTo>
                    <a:pt x="1431" y="0"/>
                  </a:lnTo>
                  <a:lnTo>
                    <a:pt x="1431" y="2374"/>
                  </a:lnTo>
                  <a:lnTo>
                    <a:pt x="0" y="1586"/>
                  </a:lnTo>
                  <a:lnTo>
                    <a:pt x="0" y="78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6" name="Text Box 3"/>
            <p:cNvSpPr/>
            <p:nvPr/>
          </p:nvSpPr>
          <p:spPr>
            <a:xfrm>
              <a:off x="6018480" y="2389680"/>
              <a:ext cx="2090160" cy="4279320"/>
            </a:xfrm>
            <a:prstGeom prst="rect">
              <a:avLst/>
            </a:prstGeom>
            <a:solidFill>
              <a:srgbClr val="cc00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Opera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Finanz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apital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Huma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ompetenci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Medio ambient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recimiento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Glob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eputa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ó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300960" y="3182040"/>
              <a:ext cx="39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Tradicional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5311800" y="2094480"/>
              <a:ext cx="35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Visión Empresar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794520" y="3809520"/>
              <a:ext cx="2678400" cy="1280520"/>
            </a:xfrm>
            <a:prstGeom prst="rect">
              <a:avLst/>
            </a:prstGeom>
            <a:solidFill>
              <a:srgbClr val="cc0000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s Financie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iesgos de Segu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en Invers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Cambiari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113184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“</a:t>
            </a: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Gestión de Riesgo</a:t>
            </a: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” </a:t>
            </a:r>
            <a:br>
              <a:rPr sz="2400"/>
            </a:b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Mayor cobertura del negocio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Enfoque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152280" y="6019920"/>
            <a:ext cx="8763120" cy="69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s decisiones del análisis deben dar cuenta de la consideración de tolerabilidad de los riesgos asumid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4952880" y="1887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análisi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l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Semi – 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álisis de sensibil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091040" y="1595520"/>
            <a:ext cx="560160" cy="411156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5" name="Text Box 6"/>
          <p:cNvSpPr/>
          <p:nvPr/>
        </p:nvSpPr>
        <p:spPr>
          <a:xfrm rot="10805400">
            <a:off x="4210200" y="276948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206280" y="1641600"/>
            <a:ext cx="590760" cy="3933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7" name="Text Box 8"/>
          <p:cNvSpPr/>
          <p:nvPr/>
        </p:nvSpPr>
        <p:spPr>
          <a:xfrm rot="10800000">
            <a:off x="304920" y="1649520"/>
            <a:ext cx="3628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1255680" y="1889280"/>
            <a:ext cx="2371680" cy="452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290600" y="197316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1268280" y="268128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1266840" y="27464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1273320" y="3479760"/>
            <a:ext cx="2366640" cy="4399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1422360" y="357336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263600" y="4238640"/>
            <a:ext cx="2378160" cy="4507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5" name="Text Box 16"/>
          <p:cNvSpPr/>
          <p:nvPr/>
        </p:nvSpPr>
        <p:spPr>
          <a:xfrm>
            <a:off x="1341360" y="433548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6" name="Rectangle 17"/>
          <p:cNvSpPr/>
          <p:nvPr/>
        </p:nvSpPr>
        <p:spPr>
          <a:xfrm>
            <a:off x="1265400" y="5019840"/>
            <a:ext cx="236988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1521000" y="512748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3629160" y="21016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649680" y="2855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0" name="Line 21"/>
          <p:cNvSpPr/>
          <p:nvPr/>
        </p:nvSpPr>
        <p:spPr>
          <a:xfrm>
            <a:off x="3652920" y="377676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1" name="Line 22"/>
          <p:cNvSpPr/>
          <p:nvPr/>
        </p:nvSpPr>
        <p:spPr>
          <a:xfrm>
            <a:off x="3649680" y="44560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2" name="Line 23"/>
          <p:cNvSpPr/>
          <p:nvPr/>
        </p:nvSpPr>
        <p:spPr>
          <a:xfrm>
            <a:off x="3646440" y="52484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3" name="Line 24"/>
          <p:cNvSpPr/>
          <p:nvPr/>
        </p:nvSpPr>
        <p:spPr>
          <a:xfrm>
            <a:off x="808200" y="213048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822240" y="2909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5" name="Line 26"/>
          <p:cNvSpPr/>
          <p:nvPr/>
        </p:nvSpPr>
        <p:spPr>
          <a:xfrm>
            <a:off x="817560" y="369252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6" name="Line 27"/>
          <p:cNvSpPr/>
          <p:nvPr/>
        </p:nvSpPr>
        <p:spPr>
          <a:xfrm>
            <a:off x="822240" y="44593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7" name="Line 28"/>
          <p:cNvSpPr/>
          <p:nvPr/>
        </p:nvSpPr>
        <p:spPr>
          <a:xfrm>
            <a:off x="825480" y="52642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8" name="Line 29"/>
          <p:cNvSpPr/>
          <p:nvPr/>
        </p:nvSpPr>
        <p:spPr>
          <a:xfrm flipV="1">
            <a:off x="4390920" y="149688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9" name="Line 30"/>
          <p:cNvSpPr/>
          <p:nvPr/>
        </p:nvSpPr>
        <p:spPr>
          <a:xfrm flipH="1">
            <a:off x="2382840" y="149544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2392200" y="150984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2416320" y="23605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2" name="Line 33"/>
          <p:cNvSpPr/>
          <p:nvPr/>
        </p:nvSpPr>
        <p:spPr>
          <a:xfrm>
            <a:off x="2411280" y="31273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390760" y="39211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2387520" y="469908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2384280" y="546588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6" name="Line 37"/>
          <p:cNvSpPr/>
          <p:nvPr/>
        </p:nvSpPr>
        <p:spPr>
          <a:xfrm>
            <a:off x="2400480" y="584028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7" name="Line 38"/>
          <p:cNvSpPr/>
          <p:nvPr/>
        </p:nvSpPr>
        <p:spPr>
          <a:xfrm>
            <a:off x="4398840" y="5710320"/>
            <a:ext cx="0" cy="12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0" name="Text Box 4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2" name="Text Box 6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4" name="Text Box 8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1" name="Rectangle 15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3" name="Line 17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4" name="Line 18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6" name="Line 20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7" name="Line 21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9" name="Line 23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0" name="Line 24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1" name="Line 25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2" name="Line 26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3" name="Line 27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4" name="Line 28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5" name="Line 29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6" name="Line 30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7" name="Line 31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8" name="Line 32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9" name="Line 33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0" name="Line 34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1" name="Line 35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2" name="Line 36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3" name="Text Box 37"/>
          <p:cNvSpPr/>
          <p:nvPr/>
        </p:nvSpPr>
        <p:spPr>
          <a:xfrm>
            <a:off x="4876920" y="1352520"/>
            <a:ext cx="419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dentificar opciones para el tratamiento de riesgos (Evitar, reducir probabilidad, reducir consecuencia, transferir, retener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valuar opciones de tratamiento (costo / benefici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Preparar planes de tratamient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mplement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4" name="Rectangle 38"/>
          <p:cNvSpPr/>
          <p:nvPr/>
        </p:nvSpPr>
        <p:spPr>
          <a:xfrm>
            <a:off x="184320" y="6127920"/>
            <a:ext cx="876276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Si los riesgos no encajan en la categoría medios o bajos deberán analizarse el tratamiento apropiad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711360" y="28987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Univers 65 Bold"/>
              </a:rPr>
              <a:t>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360360" y="1752480"/>
            <a:ext cx="8461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herramienta para la evaluación de riesgos, que permit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resentar gráficamente el impact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everidad)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y la frecuenci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probabilidad de ocurrencia) de l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guía visual que facilita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signar prioridades en la atención de determinad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apa de riesgos simple puede contener sólo 4 cuadrantes: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0" name="Line 6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ransition spd="med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El Mapa de Riesg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04920" y="1295280"/>
            <a:ext cx="86104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ahoma"/>
              </a:rPr>
              <a:t>Busca evaluar los eventos tomando en cuenta su </a:t>
            </a:r>
            <a:r>
              <a:rPr b="1" lang="es-PE" sz="2400" spc="-1" strike="noStrike">
                <a:solidFill>
                  <a:srgbClr val="0000d5"/>
                </a:solidFill>
                <a:latin typeface="Tahoma"/>
              </a:rPr>
              <a:t>probabilidad de ocurrencia y su impacto</a:t>
            </a: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.  Esto permite que la administración elija qué riesgos merecen ser tratados y establecer prioridades para su tratamiento.</a:t>
            </a: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44" name="Object 5"/>
          <p:cNvGraphicFramePr/>
          <p:nvPr/>
        </p:nvGraphicFramePr>
        <p:xfrm>
          <a:off x="1981080" y="3124080"/>
          <a:ext cx="563904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3904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6" name="Text Box 6"/>
          <p:cNvSpPr/>
          <p:nvPr/>
        </p:nvSpPr>
        <p:spPr>
          <a:xfrm>
            <a:off x="228600" y="5715000"/>
            <a:ext cx="876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En general, un riesgo de baja probabilidad de ocurrencia y bajo impacto no merece consideración adicional.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/>
          <p:cNvSpPr/>
          <p:nvPr/>
        </p:nvSpPr>
        <p:spPr>
          <a:xfrm>
            <a:off x="609480" y="1447920"/>
            <a:ext cx="78901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rv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ara evaluar los riesgos y tomar decisiones para enfrentarl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utilidad d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obviamente de la calidad y relevancia de la informa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utilicemos para elaborarlo. Podemos usar información cuantitativa y/o cualitativa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utilidad también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del modelo que utilicemos para estimar impacto y probabilidad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ocurrencia: de nuestra capacidad de aproximarnos a estas variables razonablemente. El modelo no tiene porque ser sofisticado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consenso de un grupo de personas con conocimiento y sentido común, puede generar un mapa igual o más útil que una estimación econométric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1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609480" y="1676520"/>
            <a:ext cx="8001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sólo es útil si se elabora en el contexto de un proceso bien definido de administración de riesg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Para ello es necesario que se cumplan al menos tres condicione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os riesgos sean examinados en función a su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relación con los objetivos estratégic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 o institu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a evaluación de riesgos sea utilizada efectivamente para 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elaborar el plan de ac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mpresa sobre cómo enfrentar los riesgos (asignación de prioridades y recurso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l mapa de riesgos esté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lineado con el “apetito por el riesgo”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l ban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539640" y="2209680"/>
            <a:ext cx="76964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de las dimensiones del mapa de riesgos es el impacto del riesgo: es fundamental tener claro impacto ¿sobre qué? 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 el logro de los objetivos estratégicos. Por ejemplo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banco puede presentar el </a:t>
            </a:r>
            <a:r>
              <a:rPr b="1" lang="es-ES_tradnl" sz="2400" spc="-1" strike="noStrike">
                <a:solidFill>
                  <a:srgbClr val="0000d5"/>
                </a:solidFill>
                <a:latin typeface="Arial"/>
              </a:rPr>
              <a:t>impacto de sus riesgos sobre las utilidades o el patrimonio de sus accionista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0440" y="53172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3600" spc="-1" strike="noStrike">
                <a:solidFill>
                  <a:srgbClr val="669900"/>
                </a:solidFill>
                <a:latin typeface="Tahoma"/>
              </a:rPr>
              <a:t>relacionado a objetivos estratégicos</a:t>
            </a:r>
            <a:r>
              <a:rPr b="0" lang="es-PE" sz="2800" spc="-1" strike="noStrike">
                <a:solidFill>
                  <a:srgbClr val="669900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609480" y="17524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banco puede utilizar su mapa de riesgos para tomar decisiones sobr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ómo enfrentar sus riesgos críticos y mejorar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administr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SB puede utilizar el mapa de riesgos de un banco para decidi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e aspectos críticos resaltar en la supervis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ese banco particul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ernativamente, la SB puede usar un mapa de riesgos del sistema financiero par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dentificar los bancos con mayor probabilidad de insolvencia e impacto sobre la estabilidad del sistema financier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Esto puede servir para asignar los recursos escasos de supervisión a los bancos con mayor impacto y probabilidad de insolvencia, más eficientemente, y para diseñar un plan de acción para cada ent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4000" spc="-1" strike="noStrike">
                <a:solidFill>
                  <a:srgbClr val="669900"/>
                </a:solidFill>
                <a:latin typeface="Tahoma"/>
              </a:rPr>
              <a:t>base para elaborar el plan de acció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609480" y="1676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1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tablecer los objetivo(s) estratégico(s) sobre los que evaluaremos el impacto de los riesgos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2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os eventos que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ueden afectar la implementación de la estrategia o el logro de objetiv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3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r el modelo para el mapa de riesgos: el método para asignar probabilidades e impactos a cada uno de los riesgos y los niveles de “aversión al riesgo”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4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imar el modelo...asignar probabilidades de ocurrencia e impacto a cada uno de los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5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nstruir el mapa de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6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as posibles respuestas para cada uno de los  riesgos, elaborar planes de acción e implementarl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El proceso de elaboración de un 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304920" y="58118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cc00"/>
                </a:solidFill>
                <a:latin typeface="Tahoma"/>
              </a:rPr>
              <a:t>...</a:t>
            </a:r>
            <a:r>
              <a:rPr b="1" lang="es-PE" sz="2000" spc="-1" strike="noStrike">
                <a:solidFill>
                  <a:srgbClr val="0000ff"/>
                </a:solidFill>
                <a:latin typeface="Tahoma"/>
              </a:rPr>
              <a:t>Proceso iterativo: repetir pasos 4 al 6 luego de implementar el plan de ac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5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3" name="Line 3"/>
          <p:cNvSpPr/>
          <p:nvPr/>
        </p:nvSpPr>
        <p:spPr>
          <a:xfrm>
            <a:off x="635004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6236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137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triz de madurez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417840" y="1914480"/>
            <a:ext cx="8179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Reactiv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149080" y="1920960"/>
            <a:ext cx="715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Táct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96080" y="1913040"/>
            <a:ext cx="1012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stratég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021120" y="2205000"/>
            <a:ext cx="1590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Reactivo 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1400" y="2212920"/>
            <a:ext cx="1574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Preparado par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7840" y="2214720"/>
            <a:ext cx="1244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Anticip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006720" y="2562120"/>
            <a:ext cx="5111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asociar y manejar riesgos basado en los objetivos y estrategias corporativa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009960" y="3333600"/>
            <a:ext cx="5108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soportar y asegurar la estrategia y responsabilidades de los riesgo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09960" y="5657760"/>
            <a:ext cx="51084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ar riesgos potenciales contra Oportunidades dentro del portafolio establecido basado en la disposición o apetito y capacidad de acep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11400" y="4122720"/>
            <a:ext cx="5129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para identificación, asesorar y categorizar riesgos a través de la compañía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014640" y="4954680"/>
            <a:ext cx="51037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miento del criterio de medición y el proceso continuo de medición y mejoramiento del trabajo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77" name="Group 17"/>
          <p:cNvGrpSpPr/>
          <p:nvPr/>
        </p:nvGrpSpPr>
        <p:grpSpPr>
          <a:xfrm>
            <a:off x="1108080" y="2523960"/>
            <a:ext cx="1806120" cy="3681360"/>
            <a:chOff x="1108080" y="2523960"/>
            <a:chExt cx="1806120" cy="3681360"/>
          </a:xfrm>
        </p:grpSpPr>
        <p:sp>
          <p:nvSpPr>
            <p:cNvPr id="78" name="AutoShape 18"/>
            <p:cNvSpPr/>
            <p:nvPr/>
          </p:nvSpPr>
          <p:spPr>
            <a:xfrm>
              <a:off x="1108080" y="329940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1108080" y="408924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1108080" y="49143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1" name="AutoShape 21"/>
            <p:cNvSpPr/>
            <p:nvPr/>
          </p:nvSpPr>
          <p:spPr>
            <a:xfrm>
              <a:off x="1108080" y="57027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2" name="AutoShape 22"/>
            <p:cNvSpPr/>
            <p:nvPr/>
          </p:nvSpPr>
          <p:spPr>
            <a:xfrm>
              <a:off x="1108080" y="252396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83" name="Text Box 24"/>
          <p:cNvSpPr/>
          <p:nvPr/>
        </p:nvSpPr>
        <p:spPr>
          <a:xfrm>
            <a:off x="1219320" y="2505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1212840" y="3295800"/>
            <a:ext cx="151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l riesg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1222200" y="4071960"/>
            <a:ext cx="1498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orta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236600" y="4944960"/>
            <a:ext cx="14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268280" y="5745240"/>
            <a:ext cx="140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tim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3009960" y="1863720"/>
            <a:ext cx="5108400" cy="445788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1189080" y="4838760"/>
            <a:ext cx="14986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 y monitore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539640" y="1679400"/>
            <a:ext cx="77724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os objetivos pueden ser cuant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mantener el capital por encima del límite legal, mantener un ROE mayor a 5%)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o cual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ntinuidad de operaciones, aumentar la confianza del público).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no o varios objetivos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.g. mantener el capital por encima del límite legal a la vez que aumentar la confianza del público).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hay más de un objetivo, hay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oblemas de agreg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ya que un riesgo puede afectar de distinta manera ambos objetivos, y los impactos pueden no ser independientes entre sí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1:</a:t>
            </a: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Establecer objetivo(s) estratégico(s) sobre los que evaluaremos el impacto de los riesgos</a:t>
            </a:r>
            <a:endParaRPr b="0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6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0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6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1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2" name="Rectangle 7"/>
          <p:cNvSpPr/>
          <p:nvPr/>
        </p:nvSpPr>
        <p:spPr>
          <a:xfrm>
            <a:off x="179280" y="1704960"/>
            <a:ext cx="873612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Técnicas para identificar eventos: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ventarios de eventos pasados,  talleres para identificar eventos a partir de la experiencia del personal, agrupar a los eventos en categorías, definir “gatillos” por encima de los cuales se considera un event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Selectividad</a:t>
            </a:r>
            <a:r>
              <a:rPr b="1" lang="es-PE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Aunque muchos eventos pueden afectar a los bancos, sólo algunos afectarán sus objetivos estratégicos u operativ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 y no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: Se debe considerar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(recurrentes, familiares) y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no esperado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(de baja probabilidad de ocurrencia pero que, de materializarse, pueden tener un fuerte impacto)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87" name="Object 7"/>
          <p:cNvGraphicFramePr/>
          <p:nvPr/>
        </p:nvGraphicFramePr>
        <p:xfrm>
          <a:off x="762120" y="1981080"/>
          <a:ext cx="8001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Rectangle 8"/>
          <p:cNvSpPr/>
          <p:nvPr/>
        </p:nvSpPr>
        <p:spPr>
          <a:xfrm>
            <a:off x="7560" y="1461960"/>
            <a:ext cx="26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cc00"/>
                </a:solidFill>
                <a:latin typeface="Tahoma"/>
              </a:rPr>
              <a:t>....un ejemplo: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para elaborar el mapa de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380880" y="2057400"/>
            <a:ext cx="84582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ara establecer la importancia de los riesgos (probabilidad e impacto) se puede usar una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combinación de técnicas cuant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ecisas, complejas, sofisticadas)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y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ácticas, económicas)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veces no es posible (o es muy costoso) estimar la probabilidad de ocurrencia o su impacto, y se puede optar por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aproximaciones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éstos: e.g. Evaluar si la probabilidad o el impacto son ALTO, MEDIO o BAJO. Esta evaluación puede resultar del consenso de un grupo informado, o de estándares preestablecidos en los manuales de operación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Los resultados dependerán fundamentalmente de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a calidad de la información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, de los supuestos y del modelo utilizado para la estimación. A veces es útil evaluar la sensibilidad de los resultados a cambios en la especificación del modelo o en los supuest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o más importante: ....buena información y simplicidad ante todo.....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del mapa de riesgos</a:t>
            </a: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Técnicas cuantitativas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 fontScale="99000"/>
          </a:bodyPr>
          <a:p>
            <a:pPr marL="424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Entre las técnicas cuantitativas más comunes podemos citar: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Benchmarking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Técnica en la que varios participantes de un mercado (o personas) comparten información de eventos, valoraciones o precios para generar métricas comunes. Se puede usar para estimar probabilidades de ocurrencia e impactos de un determinado evento a nivel de mercado o en una institución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Asocian rangos de eventos e impacto resultante a una probabilidad de ocurrencia, sobre la base de ciertos supuestos, basados en información histórica o simulada. Algunos ejemplos son los modelos de valor en riesgo o ganancia en riesgo, o las estimaciones de probabilidad de no pago de un deudor. Estos modelos pueden ser usados para comparar impactos de eventos esperados con aquellos de eventos extremos o de baja probabilidad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no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Utilizan supuestos ad-hoc para determinar el impacto de ciertos eventos sin estimar su probabilidad de ocurrencia. Algunos ejemplos son los análisis de sensibilidad, estrés tests o análisis de escenarios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La elección de la técnica dependerá de la necesidad de precisión, de la cultura de quien efectúa el análisis, etc. Pero no se debe perder de vista que </a:t>
            </a: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el fin último es  facilitar la evaluación de los riesgos.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8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stimar el modelo... asignar impactos y probabilidades de ocurrencia a cada uno de los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3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05" name="Object 8"/>
          <p:cNvGraphicFramePr/>
          <p:nvPr/>
        </p:nvGraphicFramePr>
        <p:xfrm>
          <a:off x="47520" y="2133720"/>
          <a:ext cx="909648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2133720"/>
                    <a:ext cx="9096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stimar el modelo... asignar grados de importancia a los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13" name="Object 8"/>
          <p:cNvGraphicFramePr/>
          <p:nvPr/>
        </p:nvGraphicFramePr>
        <p:xfrm>
          <a:off x="380880" y="2286000"/>
          <a:ext cx="55627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5562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Text Box 9"/>
          <p:cNvSpPr/>
          <p:nvPr/>
        </p:nvSpPr>
        <p:spPr>
          <a:xfrm>
            <a:off x="6553080" y="2286000"/>
            <a:ext cx="2286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A mayor riesgo ...corresponde una mayor </a:t>
            </a: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urgencia</a:t>
            </a: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 o intensidad de  respuesta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5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onstruir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l mapa de riesgos del banco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21" name="Object 7"/>
          <p:cNvGraphicFramePr/>
          <p:nvPr/>
        </p:nvGraphicFramePr>
        <p:xfrm>
          <a:off x="0" y="1523880"/>
          <a:ext cx="70866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0866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Text Box 8"/>
          <p:cNvSpPr/>
          <p:nvPr/>
        </p:nvSpPr>
        <p:spPr>
          <a:xfrm>
            <a:off x="7238880" y="1905120"/>
            <a:ext cx="175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Cada número corresponde a un riesgo: los riesgos 1 y 6 son de alta prioridad; los riesgos 8,17 y 19 son de prioridad media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respuestas, elaborar planes de acción e implementarlos.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8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52280" y="1828800"/>
            <a:ext cx="891540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Identificar posibles respuesta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para reducir probabilidad o impacto de los riesgos de acuerdo a su prioridad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i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salir de la línea de negocio, del producto, del sector, de la zona que genera el riesgo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Reduc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ej. pedir más garantías, reducir la exposición con un deudor, reducir montos máximos para aprobación de créditos, mejorar el calce de tasas de interés, desconcentrar depósitos, introducir nuevos controles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Compart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(transferir): tomar un seguro, operaciones de cobertura (“hedging”), créditos sindicados, etc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Acep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 no tomar acción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aluar las respuestas posible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el efecto de la medida sobre la probabilidad de ocurrencia y sobre el impacto del riesgo: ¿nos coloca dentro de los niveles de tolerancia al riesgo aceptables?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costos y beneficios de la medid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Seleccionar una respuesta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hacer un plan para su adopción e implementar el pla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Proceso iterativo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 ..........evaluar riesgo residual y volver a empezar..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76320" y="1371600"/>
            <a:ext cx="90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2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posibles respuestas, elaborar planes de acción e implementarlos.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36" name="Object 7"/>
          <p:cNvGraphicFramePr/>
          <p:nvPr/>
        </p:nvGraphicFramePr>
        <p:xfrm>
          <a:off x="152280" y="1752480"/>
          <a:ext cx="8915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Rectangle 8"/>
          <p:cNvSpPr/>
          <p:nvPr/>
        </p:nvSpPr>
        <p:spPr>
          <a:xfrm>
            <a:off x="79200" y="1295280"/>
            <a:ext cx="492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76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ategia de riesgos lleva a la respuesta corporativa de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2082960" y="3094200"/>
            <a:ext cx="1027080" cy="3308040"/>
            <a:chOff x="2082960" y="3094200"/>
            <a:chExt cx="1027080" cy="3308040"/>
          </a:xfrm>
        </p:grpSpPr>
        <p:sp>
          <p:nvSpPr>
            <p:cNvPr id="92" name="Line 4"/>
            <p:cNvSpPr/>
            <p:nvPr/>
          </p:nvSpPr>
          <p:spPr>
            <a:xfrm>
              <a:off x="311004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208296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1100160" y="355284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101600" y="414504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116000" y="473724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112760" y="3094200"/>
            <a:ext cx="310536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384800" y="5581800"/>
            <a:ext cx="180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2225520" y="5383080"/>
            <a:ext cx="1027440" cy="244440"/>
            <a:chOff x="2225520" y="5383080"/>
            <a:chExt cx="1027440" cy="244440"/>
          </a:xfrm>
        </p:grpSpPr>
        <p:sp>
          <p:nvSpPr>
            <p:cNvPr id="100" name="Line 12"/>
            <p:cNvSpPr/>
            <p:nvPr/>
          </p:nvSpPr>
          <p:spPr>
            <a:xfrm>
              <a:off x="325296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222552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1101600" y="59230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106640" y="532908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401840" y="234468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173240" y="356868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ategi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911160" y="3146400"/>
            <a:ext cx="3298680" cy="318600"/>
            <a:chOff x="911160" y="3146400"/>
            <a:chExt cx="3298680" cy="318600"/>
          </a:xfrm>
        </p:grpSpPr>
        <p:sp>
          <p:nvSpPr>
            <p:cNvPr id="107" name="Text Box 19"/>
            <p:cNvSpPr/>
            <p:nvPr/>
          </p:nvSpPr>
          <p:spPr>
            <a:xfrm>
              <a:off x="1144080" y="314640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2196720" y="314784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3197160" y="314640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e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911160" y="322704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1937520" y="322416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948760" y="322416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4683240" y="2338560"/>
            <a:ext cx="4343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l riesgo es integrado con la planeación y el presupuest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olíticas de manejo de riesgos y procedimientos existen y son integrales a las operacion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 junta y los directivos apoyan el acercamiento de ERM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123660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uctura de riesgos ayuda a asegurar la estrategia y las responsabilidade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978200" y="3017880"/>
            <a:ext cx="1027080" cy="3333600"/>
            <a:chOff x="1978200" y="3017880"/>
            <a:chExt cx="1027080" cy="3333600"/>
          </a:xfrm>
        </p:grpSpPr>
        <p:sp>
          <p:nvSpPr>
            <p:cNvPr id="117" name="Line 4"/>
            <p:cNvSpPr/>
            <p:nvPr/>
          </p:nvSpPr>
          <p:spPr>
            <a:xfrm>
              <a:off x="30052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>
              <a:off x="19782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9" name="Text Box 6"/>
          <p:cNvSpPr/>
          <p:nvPr/>
        </p:nvSpPr>
        <p:spPr>
          <a:xfrm>
            <a:off x="85248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85392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6832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7948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13712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24" name="Group 11"/>
          <p:cNvGrpSpPr/>
          <p:nvPr/>
        </p:nvGrpSpPr>
        <p:grpSpPr>
          <a:xfrm>
            <a:off x="1978200" y="5332320"/>
            <a:ext cx="1027080" cy="244440"/>
            <a:chOff x="1978200" y="5332320"/>
            <a:chExt cx="1027080" cy="244440"/>
          </a:xfrm>
        </p:grpSpPr>
        <p:sp>
          <p:nvSpPr>
            <p:cNvPr id="125" name="Line 12"/>
            <p:cNvSpPr/>
            <p:nvPr/>
          </p:nvSpPr>
          <p:spPr>
            <a:xfrm>
              <a:off x="30052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19782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27" name="Text Box 14"/>
          <p:cNvSpPr/>
          <p:nvPr/>
        </p:nvSpPr>
        <p:spPr>
          <a:xfrm>
            <a:off x="85392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5896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15416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941400" y="4114800"/>
            <a:ext cx="30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uctura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649440" y="3095640"/>
            <a:ext cx="3355560" cy="324000"/>
            <a:chOff x="649440" y="3095640"/>
            <a:chExt cx="3355560" cy="324000"/>
          </a:xfrm>
        </p:grpSpPr>
        <p:sp>
          <p:nvSpPr>
            <p:cNvPr id="132" name="Text Box 19"/>
            <p:cNvSpPr/>
            <p:nvPr/>
          </p:nvSpPr>
          <p:spPr>
            <a:xfrm>
              <a:off x="886680" y="30956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967040" y="30970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2992320" y="30956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649440" y="3181320"/>
              <a:ext cx="9900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701360" y="3178080"/>
              <a:ext cx="9792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2737800" y="3178080"/>
              <a:ext cx="10558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437832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595760" y="2317680"/>
            <a:ext cx="439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mité de riesgos unido a las actividades a lo largo del negoci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valuaciones de desempeño ligadas a las competencias en la administración de riesgos en toda la organización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structura/sistema formal de reporte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AutoShape 2"/>
          <p:cNvCxnSpPr/>
          <p:nvPr/>
        </p:nvCxnSpPr>
        <p:spPr>
          <a:xfrm flipH="1">
            <a:off x="3690360" y="3031920"/>
            <a:ext cx="4356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3"/>
          <p:cNvCxnSpPr/>
          <p:nvPr/>
        </p:nvCxnSpPr>
        <p:spPr>
          <a:xfrm>
            <a:off x="5889240" y="4911480"/>
            <a:ext cx="87840" cy="802440"/>
          </a:xfrm>
          <a:prstGeom prst="bentConnector3">
            <a:avLst>
              <a:gd name="adj1" fmla="val 401234"/>
            </a:avLst>
          </a:prstGeom>
          <a:ln w="9360">
            <a:solidFill>
              <a:srgbClr val="f7e4d1"/>
            </a:solidFill>
            <a:miter/>
          </a:ln>
        </p:spPr>
      </p:cxnSp>
      <p:sp>
        <p:nvSpPr>
          <p:cNvPr id="143" name="Line 4"/>
          <p:cNvSpPr/>
          <p:nvPr/>
        </p:nvSpPr>
        <p:spPr>
          <a:xfrm flipV="1">
            <a:off x="308304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483696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0720" y="5340240"/>
            <a:ext cx="5526360" cy="1189080"/>
          </a:xfrm>
          <a:prstGeom prst="rect">
            <a:avLst/>
          </a:prstGeom>
          <a:solidFill>
            <a:srgbClr val="ffff5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dentificar, analizar, evaluar y optimizar los riesgos de los proces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cer seguimiento a indicador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ortar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 en la definición e implantación de las acciones correctiv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alizar Autoevaluacione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tener responsables de riesgos – 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ORDINADORES”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3600" y="4738680"/>
            <a:ext cx="175428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1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427800" y="1817640"/>
            <a:ext cx="2676600" cy="1446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aff0a"/>
                </a:solidFill>
                <a:latin typeface="Arial"/>
              </a:rPr>
              <a:t>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prioridades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as tareas realizadas por el dependencia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474920" y="1847880"/>
            <a:ext cx="3313080" cy="1201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mité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política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el perfil de riesgos de la entidad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signar recurs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379600" y="4761000"/>
            <a:ext cx="1492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2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046400" y="4761000"/>
            <a:ext cx="1843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n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67400" y="3838680"/>
            <a:ext cx="2600280" cy="2538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aff0a"/>
                </a:solidFill>
                <a:latin typeface="Arial"/>
              </a:rPr>
              <a:t>Control interno</a:t>
            </a: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os procedimient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Coordinar y proveer input para la Autoevalu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sistema de reporte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marco general de gest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 y al 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2" name="AutoShape 13"/>
          <p:cNvCxnSpPr>
            <a:stCxn id="146" idx="1"/>
            <a:endCxn id="145" idx="1"/>
          </p:cNvCxnSpPr>
          <p:nvPr/>
        </p:nvCxnSpPr>
        <p:spPr>
          <a:xfrm flipH="1" flipV="1" rot="10800000">
            <a:off x="363240" y="4963680"/>
            <a:ext cx="87840" cy="975600"/>
          </a:xfrm>
          <a:prstGeom prst="bentConnector3">
            <a:avLst>
              <a:gd name="adj1" fmla="val -26172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Rectangle 14"/>
          <p:cNvSpPr/>
          <p:nvPr/>
        </p:nvSpPr>
        <p:spPr>
          <a:xfrm>
            <a:off x="187200" y="3247920"/>
            <a:ext cx="6053400" cy="1362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ependencia para la Administración Integral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metodologías para la identificación, evaluación, monitoreo y reporte de riesgo.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políticas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sarrollar programas de capacitación y sensibil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la necesidades de inform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801720" y="45810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2994120" y="3049560"/>
            <a:ext cx="0" cy="3016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6" name="AutoShape 17"/>
          <p:cNvCxnSpPr>
            <a:stCxn id="151" idx="0"/>
            <a:endCxn id="147" idx="2"/>
          </p:cNvCxnSpPr>
          <p:nvPr/>
        </p:nvCxnSpPr>
        <p:spPr>
          <a:xfrm flipV="1" rot="16200000">
            <a:off x="7478640" y="3549600"/>
            <a:ext cx="57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57" name="Line 18"/>
          <p:cNvSpPr/>
          <p:nvPr/>
        </p:nvSpPr>
        <p:spPr>
          <a:xfrm>
            <a:off x="5889600" y="48355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995480" y="1230480"/>
            <a:ext cx="53625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E s t r u c t u r a  d e  R i e s g o 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407880" y="115920"/>
            <a:ext cx="82882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1" name="Line 23"/>
          <p:cNvSpPr/>
          <p:nvPr/>
        </p:nvSpPr>
        <p:spPr>
          <a:xfrm flipV="1">
            <a:off x="1233360" y="51958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3192480" y="5195880"/>
            <a:ext cx="0" cy="1461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4905360" y="52102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920" y="1177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s técnicas de portafolio ayudan a observar los riesgos a lo largo de la organización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008080" y="3017880"/>
            <a:ext cx="1027080" cy="3333600"/>
            <a:chOff x="2008080" y="3017880"/>
            <a:chExt cx="1027080" cy="3333600"/>
          </a:xfrm>
        </p:grpSpPr>
        <p:sp>
          <p:nvSpPr>
            <p:cNvPr id="166" name="Line 4"/>
            <p:cNvSpPr/>
            <p:nvPr/>
          </p:nvSpPr>
          <p:spPr>
            <a:xfrm>
              <a:off x="303516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20080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68" name="Text Box 6"/>
          <p:cNvSpPr/>
          <p:nvPr/>
        </p:nvSpPr>
        <p:spPr>
          <a:xfrm>
            <a:off x="88272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8416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89856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90972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16736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008080" y="5332320"/>
            <a:ext cx="1027080" cy="244440"/>
            <a:chOff x="2008080" y="5332320"/>
            <a:chExt cx="1027080" cy="244440"/>
          </a:xfrm>
        </p:grpSpPr>
        <p:sp>
          <p:nvSpPr>
            <p:cNvPr id="174" name="Line 12"/>
            <p:cNvSpPr/>
            <p:nvPr/>
          </p:nvSpPr>
          <p:spPr>
            <a:xfrm>
              <a:off x="303516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0080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76" name="Text Box 14"/>
          <p:cNvSpPr/>
          <p:nvPr/>
        </p:nvSpPr>
        <p:spPr>
          <a:xfrm>
            <a:off x="88416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888840" y="527832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18440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57120" y="459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li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706320" y="3108240"/>
            <a:ext cx="3298680" cy="319320"/>
            <a:chOff x="706320" y="3108240"/>
            <a:chExt cx="3298680" cy="319320"/>
          </a:xfrm>
        </p:grpSpPr>
        <p:sp>
          <p:nvSpPr>
            <p:cNvPr id="181" name="Text Box 19"/>
            <p:cNvSpPr/>
            <p:nvPr/>
          </p:nvSpPr>
          <p:spPr>
            <a:xfrm>
              <a:off x="939240" y="31082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1991880" y="31096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992320" y="3108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706320" y="3189240"/>
              <a:ext cx="96696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1732680" y="3186000"/>
              <a:ext cx="9554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2743920" y="3186000"/>
              <a:ext cx="10292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87" name="Text Box 25"/>
          <p:cNvSpPr/>
          <p:nvPr/>
        </p:nvSpPr>
        <p:spPr>
          <a:xfrm>
            <a:off x="4772160" y="18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713120" y="2324160"/>
            <a:ext cx="428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Identificación del riesgo - asesoramiento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Consistencia, criterio definido para la evaluación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Apetito de riesgo definid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68120" y="2200320"/>
            <a:ext cx="8890200" cy="4241880"/>
          </a:xfrm>
          <a:prstGeom prst="rect">
            <a:avLst/>
          </a:prstGeom>
          <a:solidFill>
            <a:srgbClr val="ffff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52440" y="480060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52440" y="215892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067440" y="2171880"/>
            <a:ext cx="277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Cumpl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171960" y="2158920"/>
            <a:ext cx="28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Integ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52440" y="2158920"/>
            <a:ext cx="273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Gobernabilidad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30200" y="242568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c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entos sobre primas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ímit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ditoría Inter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236760" y="2425680"/>
            <a:ext cx="2168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a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os emplea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os Ilíci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o no autoriz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127920" y="2425680"/>
            <a:ext cx="27399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pues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 y Seguridad Ambient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ndo de Pen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g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165480" y="2438280"/>
            <a:ext cx="2857320" cy="1244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52440" y="4829040"/>
            <a:ext cx="2819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Manejo de la Información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105000" y="4829040"/>
            <a:ext cx="2962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Manejo Financier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62760" y="4829040"/>
            <a:ext cx="27478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30200" y="383544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scrip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rif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s en condic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260440" y="3835440"/>
            <a:ext cx="13622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solesc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rm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fici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660840" y="3835440"/>
            <a:ext cx="18558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e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produc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el produc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cro cesante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clos de tiemp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278320" y="3835440"/>
            <a:ext cx="23004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uficiencia de Reservas Técnic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 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348680" y="3835440"/>
            <a:ext cx="147312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ón y Manten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Segurid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07880" y="5087880"/>
            <a:ext cx="251136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 información 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de IT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fi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extern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o/disponi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idad/segu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38560" y="5100480"/>
            <a:ext cx="2790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o y plane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ujo de caj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 de inver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sión de fon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contabl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110280" y="5087880"/>
            <a:ext cx="27622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 RH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luta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/Conservación/Remune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l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iderazg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317196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606744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3" name="Line 25"/>
          <p:cNvSpPr/>
          <p:nvPr/>
        </p:nvSpPr>
        <p:spPr>
          <a:xfrm flipV="1">
            <a:off x="317196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4" name="Line 26"/>
          <p:cNvSpPr/>
          <p:nvPr/>
        </p:nvSpPr>
        <p:spPr>
          <a:xfrm flipV="1">
            <a:off x="602928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352440" y="3556080"/>
            <a:ext cx="8515440" cy="280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828720" y="3568680"/>
            <a:ext cx="76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Operacion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317988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606744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272880" y="1274760"/>
            <a:ext cx="835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Identificar Riesgos que Amenazan el Objeto del Negocio y los Procesos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6T10:13:50Z</dcterms:created>
  <dc:creator>Carlos Gómez</dc:creator>
  <dc:description/>
  <dc:language>en-US</dc:language>
  <cp:lastModifiedBy>Javier Miranda</cp:lastModifiedBy>
  <cp:lastPrinted>2000-02-24T15:42:04Z</cp:lastPrinted>
  <dcterms:modified xsi:type="dcterms:W3CDTF">2015-08-25T20:59:47Z</dcterms:modified>
  <cp:revision>309</cp:revision>
  <dc:subject/>
  <dc:title>NDPPS Template Guide</dc:title>
</cp:coreProperties>
</file>