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6.gif" ContentType="image/gif"/>
  <Override PartName="/ppt/media/image8.wmf" ContentType="image/x-wmf"/>
  <Override PartName="/ppt/media/image9.png" ContentType="image/png"/>
  <Override PartName="/ppt/media/image13.wmf" ContentType="image/x-wmf"/>
  <Override PartName="/ppt/media/image11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82320"/>
            <a:ext cx="77724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8232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8232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82320"/>
            <a:ext cx="250236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82320"/>
            <a:ext cx="250236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82320"/>
            <a:ext cx="250236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2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2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28400" y="88560"/>
            <a:ext cx="82882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2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8232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2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8232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82320"/>
            <a:ext cx="77724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 65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2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marL="428760" indent="-42876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  <a:p>
            <a:pPr lvl="1" marL="915840" indent="-372960">
              <a:spcBef>
                <a:spcPts val="700"/>
              </a:spcBef>
              <a:buClr>
                <a:srgbClr val="0000ff"/>
              </a:buClr>
              <a:buSzPct val="105000"/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  <a:p>
            <a:pPr lvl="2" marL="1486080" indent="-228600">
              <a:spcBef>
                <a:spcPts val="700"/>
              </a:spcBef>
              <a:buClr>
                <a:srgbClr val="0000ff"/>
              </a:buClr>
              <a:buFont typeface="Univers 65 Bold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  <a:p>
            <a:pPr lvl="3" marL="1928880" indent="-228600">
              <a:spcBef>
                <a:spcPts val="700"/>
              </a:spcBef>
              <a:buClr>
                <a:srgbClr val="0000ff"/>
              </a:buClr>
              <a:buFont typeface="Univers 65 Bold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  <a:p>
            <a:pPr lvl="4" marL="2368440" indent="-225360">
              <a:spcBef>
                <a:spcPts val="700"/>
              </a:spcBef>
              <a:buClr>
                <a:srgbClr val="0000ff"/>
              </a:buClr>
              <a:buFont typeface="Univers 65 Bold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  <a:p>
            <a:pPr lvl="5" marL="2368440" indent="-225360">
              <a:spcBef>
                <a:spcPts val="700"/>
              </a:spcBef>
              <a:buClr>
                <a:srgbClr val="000000"/>
              </a:buClr>
              <a:buFont typeface="Univers 65 Bold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  <a:p>
            <a:pPr lvl="6" marL="2368440" indent="-225360">
              <a:spcBef>
                <a:spcPts val="700"/>
              </a:spcBef>
              <a:buClr>
                <a:srgbClr val="000000"/>
              </a:buClr>
              <a:buFont typeface="Univers 65 Bold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" name="Line 1028"/>
          <p:cNvSpPr/>
          <p:nvPr/>
        </p:nvSpPr>
        <p:spPr>
          <a:xfrm>
            <a:off x="328680" y="1295280"/>
            <a:ext cx="85644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3"/>
          <p:cNvSpPr/>
          <p:nvPr/>
        </p:nvSpPr>
        <p:spPr>
          <a:xfrm>
            <a:off x="397980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pic>
        <p:nvPicPr>
          <p:cNvPr id="40" name="Picture 6" descr="pic2682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8"/>
          <p:cNvSpPr/>
          <p:nvPr/>
        </p:nvSpPr>
        <p:spPr>
          <a:xfrm rot="20878800">
            <a:off x="52560" y="278280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Univers 65 Bold"/>
              </a:rPr>
              <a:t>ANALISIS Y VALORACION DE RIESG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30240" y="1666800"/>
            <a:ext cx="8807040" cy="4962240"/>
            <a:chOff x="30240" y="1666800"/>
            <a:chExt cx="8807040" cy="4962240"/>
          </a:xfrm>
        </p:grpSpPr>
        <p:sp>
          <p:nvSpPr>
            <p:cNvPr id="222" name="Rectangle 3"/>
            <p:cNvSpPr/>
            <p:nvPr/>
          </p:nvSpPr>
          <p:spPr>
            <a:xfrm>
              <a:off x="4743000" y="2092680"/>
              <a:ext cx="4094280" cy="45054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0d0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4750920" y="2186640"/>
              <a:ext cx="390096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just">
                <a:lnSpc>
                  <a:spcPct val="85000"/>
                </a:lnSpc>
                <a:spcBef>
                  <a:spcPts val="437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Percepciones (cómo es percibida la existencia de los riesgos?)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just">
                <a:lnSpc>
                  <a:spcPct val="85000"/>
                </a:lnSpc>
                <a:spcBef>
                  <a:spcPts val="437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24" name="Line 5"/>
            <p:cNvSpPr/>
            <p:nvPr/>
          </p:nvSpPr>
          <p:spPr>
            <a:xfrm>
              <a:off x="5181840" y="2664000"/>
              <a:ext cx="32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25" name="Line 6"/>
            <p:cNvSpPr/>
            <p:nvPr/>
          </p:nvSpPr>
          <p:spPr>
            <a:xfrm>
              <a:off x="5191560" y="2864520"/>
              <a:ext cx="330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>
              <a:off x="4780440" y="2875320"/>
              <a:ext cx="38998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Suposiciones (v. g.: cuál es la probabilidad e impacto del riesgo?)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grpSp>
          <p:nvGrpSpPr>
            <p:cNvPr id="227" name="Group 8"/>
            <p:cNvGrpSpPr/>
            <p:nvPr/>
          </p:nvGrpSpPr>
          <p:grpSpPr>
            <a:xfrm>
              <a:off x="5181840" y="3396600"/>
              <a:ext cx="3328200" cy="336960"/>
              <a:chOff x="5181840" y="3396600"/>
              <a:chExt cx="3328200" cy="336960"/>
            </a:xfrm>
          </p:grpSpPr>
          <p:sp>
            <p:nvSpPr>
              <p:cNvPr id="228" name="Line 9"/>
              <p:cNvSpPr/>
              <p:nvPr/>
            </p:nvSpPr>
            <p:spPr>
              <a:xfrm>
                <a:off x="5181840" y="3396600"/>
                <a:ext cx="329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29" name="Line 10"/>
              <p:cNvSpPr/>
              <p:nvPr/>
            </p:nvSpPr>
            <p:spPr>
              <a:xfrm>
                <a:off x="5200200" y="3565080"/>
                <a:ext cx="330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30" name="Line 11"/>
              <p:cNvSpPr/>
              <p:nvPr/>
            </p:nvSpPr>
            <p:spPr>
              <a:xfrm>
                <a:off x="5209560" y="3733560"/>
                <a:ext cx="330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</p:grpSp>
        <p:sp>
          <p:nvSpPr>
            <p:cNvPr id="231" name="Rectangle 12"/>
            <p:cNvSpPr/>
            <p:nvPr/>
          </p:nvSpPr>
          <p:spPr>
            <a:xfrm>
              <a:off x="4759920" y="3794040"/>
              <a:ext cx="39013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just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Juicios (v. g.: cómo la gerencia responde al riesgo?)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2" name="Rectangle 13"/>
            <p:cNvSpPr/>
            <p:nvPr/>
          </p:nvSpPr>
          <p:spPr>
            <a:xfrm>
              <a:off x="4819320" y="4104360"/>
              <a:ext cx="3958920" cy="25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Acepta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acción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Reduc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Transfier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Evad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Acepta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acción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Reduc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Transfier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Evad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Acepta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acción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Reduc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Transfier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Evad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3" name="Rectangle 14"/>
            <p:cNvSpPr/>
            <p:nvPr/>
          </p:nvSpPr>
          <p:spPr>
            <a:xfrm>
              <a:off x="5287680" y="4201200"/>
              <a:ext cx="172800" cy="12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4" name="Rectangle 15"/>
            <p:cNvSpPr/>
            <p:nvPr/>
          </p:nvSpPr>
          <p:spPr>
            <a:xfrm>
              <a:off x="5287680" y="4369320"/>
              <a:ext cx="172800" cy="12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5" name="Rectangle 16"/>
            <p:cNvSpPr/>
            <p:nvPr/>
          </p:nvSpPr>
          <p:spPr>
            <a:xfrm>
              <a:off x="5287680" y="4537800"/>
              <a:ext cx="172800" cy="12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6" name="Rectangle 17"/>
            <p:cNvSpPr/>
            <p:nvPr/>
          </p:nvSpPr>
          <p:spPr>
            <a:xfrm>
              <a:off x="5287680" y="4762800"/>
              <a:ext cx="172800" cy="12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7" name="Rectangle 18"/>
            <p:cNvSpPr/>
            <p:nvPr/>
          </p:nvSpPr>
          <p:spPr>
            <a:xfrm>
              <a:off x="5287680" y="4987800"/>
              <a:ext cx="172800" cy="12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8" name="Rectangle 19"/>
            <p:cNvSpPr/>
            <p:nvPr/>
          </p:nvSpPr>
          <p:spPr>
            <a:xfrm>
              <a:off x="5287680" y="5156280"/>
              <a:ext cx="172800" cy="12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>
              <a:off x="5287680" y="5420520"/>
              <a:ext cx="172800" cy="12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5287680" y="5580720"/>
              <a:ext cx="172800" cy="12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1" name="Rectangle 22"/>
            <p:cNvSpPr/>
            <p:nvPr/>
          </p:nvSpPr>
          <p:spPr>
            <a:xfrm>
              <a:off x="5287680" y="5813640"/>
              <a:ext cx="172800" cy="125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2" name="Rectangle 23"/>
            <p:cNvSpPr/>
            <p:nvPr/>
          </p:nvSpPr>
          <p:spPr>
            <a:xfrm>
              <a:off x="5287680" y="6048360"/>
              <a:ext cx="172800" cy="12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3" name="Rectangle 24"/>
            <p:cNvSpPr/>
            <p:nvPr/>
          </p:nvSpPr>
          <p:spPr>
            <a:xfrm>
              <a:off x="5287680" y="6208560"/>
              <a:ext cx="172800" cy="12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4" name="Rectangle 25"/>
            <p:cNvSpPr/>
            <p:nvPr/>
          </p:nvSpPr>
          <p:spPr>
            <a:xfrm>
              <a:off x="5287680" y="6402600"/>
              <a:ext cx="172800" cy="12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5" name="Rectangle 26"/>
            <p:cNvSpPr/>
            <p:nvPr/>
          </p:nvSpPr>
          <p:spPr>
            <a:xfrm>
              <a:off x="4764600" y="1666800"/>
              <a:ext cx="4072680" cy="575640"/>
            </a:xfrm>
            <a:prstGeom prst="rect">
              <a:avLst/>
            </a:prstGeom>
            <a:solidFill>
              <a:srgbClr val="0aff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DMINISTRACIÓN DEL RIESGO POR LA GERENCIA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6" name="Rectangle 27"/>
            <p:cNvSpPr/>
            <p:nvPr/>
          </p:nvSpPr>
          <p:spPr>
            <a:xfrm>
              <a:off x="159120" y="1844280"/>
              <a:ext cx="4433760" cy="4478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Fuentes del Riesgo del Negocio</a:t>
              </a:r>
              <a:endParaRPr b="1" lang="en-US" sz="20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7" name="Rectangle 28"/>
            <p:cNvSpPr/>
            <p:nvPr/>
          </p:nvSpPr>
          <p:spPr>
            <a:xfrm>
              <a:off x="123480" y="3361680"/>
              <a:ext cx="1847880" cy="418680"/>
            </a:xfrm>
            <a:prstGeom prst="rect">
              <a:avLst/>
            </a:prstGeom>
            <a:gradFill rotWithShape="0">
              <a:gsLst>
                <a:gs pos="0">
                  <a:srgbClr val="d4e262"/>
                </a:gs>
                <a:gs pos="100000">
                  <a:srgbClr val="6a7131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8" name="Rectangle 29"/>
            <p:cNvSpPr/>
            <p:nvPr/>
          </p:nvSpPr>
          <p:spPr>
            <a:xfrm>
              <a:off x="123480" y="2787480"/>
              <a:ext cx="1847880" cy="490320"/>
            </a:xfrm>
            <a:prstGeom prst="rect">
              <a:avLst/>
            </a:prstGeom>
            <a:gradFill rotWithShape="0">
              <a:gsLst>
                <a:gs pos="0">
                  <a:srgbClr val="c3da56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9" name="Rectangle 30"/>
            <p:cNvSpPr/>
            <p:nvPr/>
          </p:nvSpPr>
          <p:spPr>
            <a:xfrm>
              <a:off x="235800" y="3438360"/>
              <a:ext cx="1737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Relaciones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50" name="Rectangle 31"/>
            <p:cNvSpPr/>
            <p:nvPr/>
          </p:nvSpPr>
          <p:spPr>
            <a:xfrm>
              <a:off x="106560" y="3935520"/>
              <a:ext cx="1864800" cy="506520"/>
            </a:xfrm>
            <a:prstGeom prst="rect">
              <a:avLst/>
            </a:prstGeom>
            <a:gradFill rotWithShape="0">
              <a:gsLst>
                <a:gs pos="0">
                  <a:srgbClr val="c3da56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51" name="Rectangle 32"/>
            <p:cNvSpPr/>
            <p:nvPr/>
          </p:nvSpPr>
          <p:spPr>
            <a:xfrm>
              <a:off x="106560" y="4542120"/>
              <a:ext cx="1864800" cy="418680"/>
            </a:xfrm>
            <a:prstGeom prst="rect">
              <a:avLst/>
            </a:prstGeom>
            <a:gradFill rotWithShape="0">
              <a:gsLst>
                <a:gs pos="0">
                  <a:srgbClr val="8fab34"/>
                </a:gs>
                <a:gs pos="100000">
                  <a:srgbClr val="72892a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52" name="Rectangle 33"/>
            <p:cNvSpPr/>
            <p:nvPr/>
          </p:nvSpPr>
          <p:spPr>
            <a:xfrm>
              <a:off x="84960" y="2736720"/>
              <a:ext cx="18928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Fuerzas Externas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53" name="Rectangle 34"/>
            <p:cNvSpPr/>
            <p:nvPr/>
          </p:nvSpPr>
          <p:spPr>
            <a:xfrm>
              <a:off x="48600" y="3865680"/>
              <a:ext cx="19288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rocesos           del Negocio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54" name="Rectangle 35"/>
            <p:cNvSpPr/>
            <p:nvPr/>
          </p:nvSpPr>
          <p:spPr>
            <a:xfrm>
              <a:off x="30240" y="4619880"/>
              <a:ext cx="1947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Transacciones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grpSp>
          <p:nvGrpSpPr>
            <p:cNvPr id="255" name="Group 36"/>
            <p:cNvGrpSpPr/>
            <p:nvPr/>
          </p:nvGrpSpPr>
          <p:grpSpPr>
            <a:xfrm>
              <a:off x="2090160" y="2864520"/>
              <a:ext cx="342000" cy="2059560"/>
              <a:chOff x="2090160" y="2864520"/>
              <a:chExt cx="342000" cy="2059560"/>
            </a:xfrm>
          </p:grpSpPr>
          <p:sp>
            <p:nvSpPr>
              <p:cNvPr id="256" name="Freeform 37"/>
              <p:cNvSpPr/>
              <p:nvPr/>
            </p:nvSpPr>
            <p:spPr>
              <a:xfrm>
                <a:off x="2090160" y="2864520"/>
                <a:ext cx="323640" cy="33912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339120"/>
                  <a:gd name="textAreaBottom" fmla="*/ 339480 h 339120"/>
                </a:gdLst>
                <a:ahLst/>
                <a:rect l="textAreaLeft" t="textAreaTop" r="textAreaRight" b="textAreaBottom"/>
                <a:pathLst>
                  <a:path w="208" h="252">
                    <a:moveTo>
                      <a:pt x="131" y="59"/>
                    </a:moveTo>
                    <a:lnTo>
                      <a:pt x="0" y="59"/>
                    </a:lnTo>
                    <a:lnTo>
                      <a:pt x="0" y="192"/>
                    </a:lnTo>
                    <a:lnTo>
                      <a:pt x="135" y="192"/>
                    </a:lnTo>
                    <a:lnTo>
                      <a:pt x="135" y="251"/>
                    </a:lnTo>
                    <a:lnTo>
                      <a:pt x="207" y="128"/>
                    </a:lnTo>
                    <a:lnTo>
                      <a:pt x="131" y="0"/>
                    </a:lnTo>
                    <a:lnTo>
                      <a:pt x="131" y="59"/>
                    </a:lnTo>
                  </a:path>
                </a:pathLst>
              </a:custGeom>
              <a:gradFill rotWithShape="0">
                <a:gsLst>
                  <a:gs pos="0">
                    <a:srgbClr val="7c5006"/>
                  </a:gs>
                  <a:gs pos="50000">
                    <a:srgbClr val="f9a10c"/>
                  </a:gs>
                  <a:gs pos="100000">
                    <a:srgbClr val="7c5006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57" name="Freeform 38"/>
              <p:cNvSpPr/>
              <p:nvPr/>
            </p:nvSpPr>
            <p:spPr>
              <a:xfrm>
                <a:off x="2109960" y="3438000"/>
                <a:ext cx="322200" cy="338040"/>
              </a:xfrm>
              <a:custGeom>
                <a:avLst/>
                <a:gdLst>
                  <a:gd name="textAreaLeft" fmla="*/ 0 w 322200"/>
                  <a:gd name="textAreaRight" fmla="*/ 322200 w 3222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07" h="251">
                    <a:moveTo>
                      <a:pt x="131" y="59"/>
                    </a:moveTo>
                    <a:lnTo>
                      <a:pt x="0" y="59"/>
                    </a:lnTo>
                    <a:lnTo>
                      <a:pt x="0" y="191"/>
                    </a:lnTo>
                    <a:lnTo>
                      <a:pt x="135" y="191"/>
                    </a:lnTo>
                    <a:lnTo>
                      <a:pt x="135" y="250"/>
                    </a:lnTo>
                    <a:lnTo>
                      <a:pt x="206" y="128"/>
                    </a:lnTo>
                    <a:lnTo>
                      <a:pt x="131" y="0"/>
                    </a:lnTo>
                    <a:lnTo>
                      <a:pt x="131" y="59"/>
                    </a:lnTo>
                  </a:path>
                </a:pathLst>
              </a:custGeom>
              <a:gradFill rotWithShape="0">
                <a:gsLst>
                  <a:gs pos="0">
                    <a:srgbClr val="7c5006"/>
                  </a:gs>
                  <a:gs pos="50000">
                    <a:srgbClr val="f9a10c"/>
                  </a:gs>
                  <a:gs pos="100000">
                    <a:srgbClr val="7c5006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58" name="Freeform 39"/>
              <p:cNvSpPr/>
              <p:nvPr/>
            </p:nvSpPr>
            <p:spPr>
              <a:xfrm>
                <a:off x="2109960" y="4012200"/>
                <a:ext cx="322200" cy="338040"/>
              </a:xfrm>
              <a:custGeom>
                <a:avLst/>
                <a:gdLst>
                  <a:gd name="textAreaLeft" fmla="*/ 0 w 322200"/>
                  <a:gd name="textAreaRight" fmla="*/ 322200 w 3222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07" h="251">
                    <a:moveTo>
                      <a:pt x="131" y="59"/>
                    </a:moveTo>
                    <a:lnTo>
                      <a:pt x="0" y="59"/>
                    </a:lnTo>
                    <a:lnTo>
                      <a:pt x="0" y="191"/>
                    </a:lnTo>
                    <a:lnTo>
                      <a:pt x="135" y="191"/>
                    </a:lnTo>
                    <a:lnTo>
                      <a:pt x="135" y="250"/>
                    </a:lnTo>
                    <a:lnTo>
                      <a:pt x="206" y="128"/>
                    </a:lnTo>
                    <a:lnTo>
                      <a:pt x="131" y="0"/>
                    </a:lnTo>
                    <a:lnTo>
                      <a:pt x="131" y="59"/>
                    </a:lnTo>
                  </a:path>
                </a:pathLst>
              </a:custGeom>
              <a:gradFill rotWithShape="0">
                <a:gsLst>
                  <a:gs pos="0">
                    <a:srgbClr val="7c5006"/>
                  </a:gs>
                  <a:gs pos="50000">
                    <a:srgbClr val="f9a10c"/>
                  </a:gs>
                  <a:gs pos="100000">
                    <a:srgbClr val="7c5006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59" name="Freeform 40"/>
              <p:cNvSpPr/>
              <p:nvPr/>
            </p:nvSpPr>
            <p:spPr>
              <a:xfrm>
                <a:off x="2090160" y="4584960"/>
                <a:ext cx="323640" cy="33912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339120"/>
                  <a:gd name="textAreaBottom" fmla="*/ 339480 h 339120"/>
                </a:gdLst>
                <a:ahLst/>
                <a:rect l="textAreaLeft" t="textAreaTop" r="textAreaRight" b="textAreaBottom"/>
                <a:pathLst>
                  <a:path w="208" h="252">
                    <a:moveTo>
                      <a:pt x="131" y="59"/>
                    </a:moveTo>
                    <a:lnTo>
                      <a:pt x="0" y="59"/>
                    </a:lnTo>
                    <a:lnTo>
                      <a:pt x="0" y="192"/>
                    </a:lnTo>
                    <a:lnTo>
                      <a:pt x="135" y="192"/>
                    </a:lnTo>
                    <a:lnTo>
                      <a:pt x="135" y="251"/>
                    </a:lnTo>
                    <a:lnTo>
                      <a:pt x="207" y="128"/>
                    </a:lnTo>
                    <a:lnTo>
                      <a:pt x="131" y="0"/>
                    </a:lnTo>
                    <a:lnTo>
                      <a:pt x="131" y="59"/>
                    </a:lnTo>
                  </a:path>
                </a:pathLst>
              </a:custGeom>
              <a:gradFill rotWithShape="0">
                <a:gsLst>
                  <a:gs pos="0">
                    <a:srgbClr val="7c5006"/>
                  </a:gs>
                  <a:gs pos="50000">
                    <a:srgbClr val="f9a10c"/>
                  </a:gs>
                  <a:gs pos="100000">
                    <a:srgbClr val="7c5006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</p:grpSp>
        <p:sp>
          <p:nvSpPr>
            <p:cNvPr id="260" name="Freeform 41"/>
            <p:cNvSpPr/>
            <p:nvPr/>
          </p:nvSpPr>
          <p:spPr>
            <a:xfrm>
              <a:off x="4191840" y="3861720"/>
              <a:ext cx="347040" cy="38772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223" h="288">
                  <a:moveTo>
                    <a:pt x="81" y="220"/>
                  </a:moveTo>
                  <a:lnTo>
                    <a:pt x="222" y="220"/>
                  </a:lnTo>
                  <a:lnTo>
                    <a:pt x="222" y="67"/>
                  </a:lnTo>
                  <a:lnTo>
                    <a:pt x="77" y="67"/>
                  </a:lnTo>
                  <a:lnTo>
                    <a:pt x="77" y="0"/>
                  </a:lnTo>
                  <a:lnTo>
                    <a:pt x="0" y="141"/>
                  </a:lnTo>
                  <a:lnTo>
                    <a:pt x="81" y="287"/>
                  </a:lnTo>
                  <a:lnTo>
                    <a:pt x="81" y="220"/>
                  </a:lnTo>
                </a:path>
              </a:pathLst>
            </a:custGeom>
            <a:gradFill rotWithShape="0">
              <a:gsLst>
                <a:gs pos="0">
                  <a:srgbClr val="7c5006"/>
                </a:gs>
                <a:gs pos="50000">
                  <a:srgbClr val="f9a10c"/>
                </a:gs>
                <a:gs pos="100000">
                  <a:srgbClr val="7c5006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61" name="Oval 42"/>
            <p:cNvSpPr/>
            <p:nvPr/>
          </p:nvSpPr>
          <p:spPr>
            <a:xfrm>
              <a:off x="2557080" y="3556800"/>
              <a:ext cx="1539720" cy="994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62" name="Rectangle 43"/>
            <p:cNvSpPr/>
            <p:nvPr/>
          </p:nvSpPr>
          <p:spPr>
            <a:xfrm>
              <a:off x="2384280" y="3759120"/>
              <a:ext cx="1910160" cy="6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8760" rIns="158760" tIns="79200" bIns="792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708280"/>
                  <a:tab algn="l" pos="5416560"/>
                  <a:tab algn="l" pos="8124840"/>
                  <a:tab algn="l" pos="1083312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Riesgos del Negocio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63" name="Rectangle 44"/>
            <p:cNvSpPr/>
            <p:nvPr/>
          </p:nvSpPr>
          <p:spPr>
            <a:xfrm>
              <a:off x="4780440" y="2341800"/>
              <a:ext cx="395856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marL="298440" indent="-29844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98440" indent="-29844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98440" indent="-29844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64" name="Rectangle 45"/>
            <p:cNvSpPr/>
            <p:nvPr/>
          </p:nvSpPr>
          <p:spPr>
            <a:xfrm>
              <a:off x="4798800" y="3234960"/>
              <a:ext cx="395892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marL="298440" indent="-29844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98440" indent="-29844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98440" indent="-29844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grpSp>
          <p:nvGrpSpPr>
            <p:cNvPr id="265" name="Group 46"/>
            <p:cNvGrpSpPr/>
            <p:nvPr/>
          </p:nvGrpSpPr>
          <p:grpSpPr>
            <a:xfrm>
              <a:off x="2426400" y="4641480"/>
              <a:ext cx="2156040" cy="1868040"/>
              <a:chOff x="2426400" y="4641480"/>
              <a:chExt cx="2156040" cy="1868040"/>
            </a:xfrm>
          </p:grpSpPr>
          <p:sp>
            <p:nvSpPr>
              <p:cNvPr id="266" name="Rectangle 47"/>
              <p:cNvSpPr/>
              <p:nvPr/>
            </p:nvSpPr>
            <p:spPr>
              <a:xfrm>
                <a:off x="2426400" y="4641480"/>
                <a:ext cx="2156040" cy="1868040"/>
              </a:xfrm>
              <a:prstGeom prst="rect">
                <a:avLst/>
              </a:prstGeom>
              <a:noFill/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360" rIns="144360" tIns="71280" bIns="71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2238480"/>
                    <a:tab algn="l" pos="4476600"/>
                    <a:tab algn="l" pos="6715080"/>
                    <a:tab algn="l" pos="895356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Arial"/>
                  </a:rPr>
                  <a:t>1.</a:t>
                </a:r>
                <a:endParaRPr b="1" lang="en-US" sz="1600" spc="-1" strike="noStrike">
                  <a:solidFill>
                    <a:srgbClr val="ffffff"/>
                  </a:solidFill>
                  <a:latin typeface="Univers 65 Bold"/>
                </a:endParaRPr>
              </a:p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2238480"/>
                    <a:tab algn="l" pos="4476600"/>
                    <a:tab algn="l" pos="6715080"/>
                    <a:tab algn="l" pos="895356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Univers 65 Bold"/>
                </a:endParaRPr>
              </a:p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2238480"/>
                    <a:tab algn="l" pos="4476600"/>
                    <a:tab algn="l" pos="6715080"/>
                    <a:tab algn="l" pos="895356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Arial"/>
                  </a:rPr>
                  <a:t>2.</a:t>
                </a:r>
                <a:endParaRPr b="1" lang="en-US" sz="1600" spc="-1" strike="noStrike">
                  <a:solidFill>
                    <a:srgbClr val="ffffff"/>
                  </a:solidFill>
                  <a:latin typeface="Univers 65 Bold"/>
                </a:endParaRPr>
              </a:p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2238480"/>
                    <a:tab algn="l" pos="4476600"/>
                    <a:tab algn="l" pos="6715080"/>
                    <a:tab algn="l" pos="895356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Univers 65 Bold"/>
                </a:endParaRPr>
              </a:p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2238480"/>
                    <a:tab algn="l" pos="4476600"/>
                    <a:tab algn="l" pos="6715080"/>
                    <a:tab algn="l" pos="895356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Arial"/>
                  </a:rPr>
                  <a:t>3.</a:t>
                </a:r>
                <a:endParaRPr b="1" lang="en-US" sz="16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67" name="Line 48"/>
              <p:cNvSpPr/>
              <p:nvPr/>
            </p:nvSpPr>
            <p:spPr>
              <a:xfrm>
                <a:off x="2812320" y="4828680"/>
                <a:ext cx="1702800" cy="0"/>
              </a:xfrm>
              <a:prstGeom prst="line">
                <a:avLst/>
              </a:prstGeom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68" name="Line 49"/>
              <p:cNvSpPr/>
              <p:nvPr/>
            </p:nvSpPr>
            <p:spPr>
              <a:xfrm>
                <a:off x="2812320" y="5030640"/>
                <a:ext cx="1702800" cy="0"/>
              </a:xfrm>
              <a:prstGeom prst="line">
                <a:avLst/>
              </a:prstGeom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69" name="Line 50"/>
              <p:cNvSpPr/>
              <p:nvPr/>
            </p:nvSpPr>
            <p:spPr>
              <a:xfrm>
                <a:off x="2821680" y="5368680"/>
                <a:ext cx="1702800" cy="0"/>
              </a:xfrm>
              <a:prstGeom prst="line">
                <a:avLst/>
              </a:prstGeom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70" name="Line 51"/>
              <p:cNvSpPr/>
              <p:nvPr/>
            </p:nvSpPr>
            <p:spPr>
              <a:xfrm>
                <a:off x="2821680" y="5571000"/>
                <a:ext cx="1702800" cy="0"/>
              </a:xfrm>
              <a:prstGeom prst="line">
                <a:avLst/>
              </a:prstGeom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71" name="Line 52"/>
              <p:cNvSpPr/>
              <p:nvPr/>
            </p:nvSpPr>
            <p:spPr>
              <a:xfrm>
                <a:off x="2821680" y="5915520"/>
                <a:ext cx="1702800" cy="0"/>
              </a:xfrm>
              <a:prstGeom prst="line">
                <a:avLst/>
              </a:prstGeom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72" name="Line 53"/>
              <p:cNvSpPr/>
              <p:nvPr/>
            </p:nvSpPr>
            <p:spPr>
              <a:xfrm>
                <a:off x="2821680" y="6109560"/>
                <a:ext cx="1702800" cy="0"/>
              </a:xfrm>
              <a:prstGeom prst="line">
                <a:avLst/>
              </a:prstGeom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</p:grpSp>
        <p:sp>
          <p:nvSpPr>
            <p:cNvPr id="273" name="Line 54"/>
            <p:cNvSpPr/>
            <p:nvPr/>
          </p:nvSpPr>
          <p:spPr>
            <a:xfrm>
              <a:off x="6411960" y="434376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74" name="Line 55"/>
            <p:cNvSpPr/>
            <p:nvPr/>
          </p:nvSpPr>
          <p:spPr>
            <a:xfrm>
              <a:off x="6422760" y="4503960"/>
              <a:ext cx="227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75" name="Line 56"/>
            <p:cNvSpPr/>
            <p:nvPr/>
          </p:nvSpPr>
          <p:spPr>
            <a:xfrm>
              <a:off x="6432120" y="4664520"/>
              <a:ext cx="227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76" name="Line 57"/>
            <p:cNvSpPr/>
            <p:nvPr/>
          </p:nvSpPr>
          <p:spPr>
            <a:xfrm>
              <a:off x="6366600" y="513756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77" name="Line 58"/>
            <p:cNvSpPr/>
            <p:nvPr/>
          </p:nvSpPr>
          <p:spPr>
            <a:xfrm>
              <a:off x="6375960" y="5297760"/>
              <a:ext cx="227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78" name="Line 59"/>
            <p:cNvSpPr/>
            <p:nvPr/>
          </p:nvSpPr>
          <p:spPr>
            <a:xfrm>
              <a:off x="6422760" y="5634720"/>
              <a:ext cx="227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79" name="Line 60"/>
            <p:cNvSpPr/>
            <p:nvPr/>
          </p:nvSpPr>
          <p:spPr>
            <a:xfrm>
              <a:off x="6366600" y="595512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80" name="Line 61"/>
            <p:cNvSpPr/>
            <p:nvPr/>
          </p:nvSpPr>
          <p:spPr>
            <a:xfrm>
              <a:off x="6441480" y="485064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81" name="Line 62"/>
            <p:cNvSpPr/>
            <p:nvPr/>
          </p:nvSpPr>
          <p:spPr>
            <a:xfrm>
              <a:off x="6422760" y="5491800"/>
              <a:ext cx="227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82" name="Line 63"/>
            <p:cNvSpPr/>
            <p:nvPr/>
          </p:nvSpPr>
          <p:spPr>
            <a:xfrm>
              <a:off x="6366600" y="614916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83" name="Line 64"/>
            <p:cNvSpPr/>
            <p:nvPr/>
          </p:nvSpPr>
          <p:spPr>
            <a:xfrm>
              <a:off x="6366600" y="634320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84" name="Line 65"/>
            <p:cNvSpPr/>
            <p:nvPr/>
          </p:nvSpPr>
          <p:spPr>
            <a:xfrm>
              <a:off x="6366600" y="653724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285" name="Rectangle 66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7e4d1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86" name="Rectangle 67"/>
          <p:cNvSpPr/>
          <p:nvPr/>
        </p:nvSpPr>
        <p:spPr>
          <a:xfrm>
            <a:off x="272880" y="1231920"/>
            <a:ext cx="835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ff0000"/>
                </a:solidFill>
                <a:latin typeface="Univers 65 Bold"/>
              </a:rPr>
              <a:t>Riesgos  Estratégicos de Negocio</a:t>
            </a:r>
            <a:endParaRPr b="1" lang="en-US" sz="26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289" name="Group 4"/>
          <p:cNvGrpSpPr/>
          <p:nvPr/>
        </p:nvGrpSpPr>
        <p:grpSpPr>
          <a:xfrm>
            <a:off x="572040" y="1782720"/>
            <a:ext cx="8627400" cy="4748760"/>
            <a:chOff x="572040" y="1782720"/>
            <a:chExt cx="8627400" cy="4748760"/>
          </a:xfrm>
        </p:grpSpPr>
        <p:graphicFrame>
          <p:nvGraphicFramePr>
            <p:cNvPr id="290" name="Object 5"/>
            <p:cNvGraphicFramePr/>
            <p:nvPr/>
          </p:nvGraphicFramePr>
          <p:xfrm>
            <a:off x="703080" y="1782720"/>
            <a:ext cx="362160" cy="497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03080" y="1782720"/>
                      <a:ext cx="362160" cy="49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Rectangle 6"/>
            <p:cNvSpPr/>
            <p:nvPr/>
          </p:nvSpPr>
          <p:spPr>
            <a:xfrm>
              <a:off x="1224360" y="1822680"/>
              <a:ext cx="7975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ff"/>
                  </a:solidFill>
                  <a:latin typeface="Univers"/>
                </a:rPr>
                <a:t>Matriz de evaluación de riesgos asociados a objetivos: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3" name="Rectangle 7"/>
            <p:cNvSpPr/>
            <p:nvPr/>
          </p:nvSpPr>
          <p:spPr>
            <a:xfrm>
              <a:off x="2788200" y="2351520"/>
              <a:ext cx="1181880" cy="995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4039200" y="2351520"/>
              <a:ext cx="1180440" cy="99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5" name="Rectangle 9"/>
            <p:cNvSpPr/>
            <p:nvPr/>
          </p:nvSpPr>
          <p:spPr>
            <a:xfrm>
              <a:off x="5289120" y="2351520"/>
              <a:ext cx="1181520" cy="99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2789640" y="3420000"/>
              <a:ext cx="1179000" cy="992880"/>
            </a:xfrm>
            <a:prstGeom prst="rect">
              <a:avLst/>
            </a:prstGeom>
            <a:noFill/>
            <a:ln w="28440">
              <a:solidFill>
                <a:srgbClr val="f7e4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4039200" y="3418560"/>
              <a:ext cx="1180440" cy="995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8" name="Rectangle 12"/>
            <p:cNvSpPr/>
            <p:nvPr/>
          </p:nvSpPr>
          <p:spPr>
            <a:xfrm>
              <a:off x="5289120" y="3418560"/>
              <a:ext cx="1181520" cy="99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9" name="Rectangle 13"/>
            <p:cNvSpPr/>
            <p:nvPr/>
          </p:nvSpPr>
          <p:spPr>
            <a:xfrm>
              <a:off x="2789640" y="4487040"/>
              <a:ext cx="1179000" cy="992880"/>
            </a:xfrm>
            <a:prstGeom prst="rect">
              <a:avLst/>
            </a:prstGeom>
            <a:noFill/>
            <a:ln w="28440">
              <a:solidFill>
                <a:srgbClr val="f7e4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0" name="Rectangle 14"/>
            <p:cNvSpPr/>
            <p:nvPr/>
          </p:nvSpPr>
          <p:spPr>
            <a:xfrm>
              <a:off x="4040640" y="4487040"/>
              <a:ext cx="1177200" cy="992880"/>
            </a:xfrm>
            <a:prstGeom prst="rect">
              <a:avLst/>
            </a:prstGeom>
            <a:noFill/>
            <a:ln w="28440">
              <a:solidFill>
                <a:srgbClr val="f7e4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5289120" y="4485600"/>
              <a:ext cx="1181520" cy="995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2" name="Rectangle 16"/>
            <p:cNvSpPr/>
            <p:nvPr/>
          </p:nvSpPr>
          <p:spPr>
            <a:xfrm>
              <a:off x="1834200" y="2536560"/>
              <a:ext cx="766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Univers 65 Bold"/>
                </a:rPr>
                <a:t>Alto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3" name="Rectangle 17"/>
            <p:cNvSpPr/>
            <p:nvPr/>
          </p:nvSpPr>
          <p:spPr>
            <a:xfrm>
              <a:off x="1842120" y="4879800"/>
              <a:ext cx="820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669900"/>
                  </a:solidFill>
                  <a:latin typeface="Univers 65 Bold"/>
                </a:rPr>
                <a:t>Bajo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4" name="Rectangle 18"/>
            <p:cNvSpPr/>
            <p:nvPr/>
          </p:nvSpPr>
          <p:spPr>
            <a:xfrm>
              <a:off x="572040" y="3314520"/>
              <a:ext cx="15775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Univers 65 Bold"/>
                </a:rPr>
                <a:t>Magnitud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Univers 65 Bold"/>
                </a:rPr>
                <a:t>del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Univers 65 Bold"/>
                </a:rPr>
                <a:t>Impacto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5" name="Rectangle 19"/>
            <p:cNvSpPr/>
            <p:nvPr/>
          </p:nvSpPr>
          <p:spPr>
            <a:xfrm>
              <a:off x="5894640" y="5625000"/>
              <a:ext cx="766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Univers 65 Bold"/>
                </a:rPr>
                <a:t>Alto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6" name="Rectangle 20"/>
            <p:cNvSpPr/>
            <p:nvPr/>
          </p:nvSpPr>
          <p:spPr>
            <a:xfrm>
              <a:off x="2666520" y="5625000"/>
              <a:ext cx="820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669900"/>
                  </a:solidFill>
                  <a:latin typeface="Univers 65 Bold"/>
                </a:rPr>
                <a:t>Bajo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7" name="Rectangle 21"/>
            <p:cNvSpPr/>
            <p:nvPr/>
          </p:nvSpPr>
          <p:spPr>
            <a:xfrm>
              <a:off x="3468960" y="5711040"/>
              <a:ext cx="2217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Univers 65 Bold"/>
                </a:rPr>
                <a:t>Probabilidad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Univers 65 Bold"/>
                </a:rPr>
                <a:t>de que Ocurra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8" name="Rectangle 22"/>
            <p:cNvSpPr/>
            <p:nvPr/>
          </p:nvSpPr>
          <p:spPr>
            <a:xfrm>
              <a:off x="5426640" y="2567880"/>
              <a:ext cx="1030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4, 5, 9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9" name="Rectangle 23"/>
            <p:cNvSpPr/>
            <p:nvPr/>
          </p:nvSpPr>
          <p:spPr>
            <a:xfrm>
              <a:off x="4220280" y="2567880"/>
              <a:ext cx="69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, 3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10" name="Rectangle 24"/>
            <p:cNvSpPr/>
            <p:nvPr/>
          </p:nvSpPr>
          <p:spPr>
            <a:xfrm>
              <a:off x="3125160" y="24966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11" name="Text Box 25"/>
            <p:cNvSpPr/>
            <p:nvPr/>
          </p:nvSpPr>
          <p:spPr>
            <a:xfrm>
              <a:off x="4403520" y="3703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12" name="Text Box 26"/>
            <p:cNvSpPr/>
            <p:nvPr/>
          </p:nvSpPr>
          <p:spPr>
            <a:xfrm>
              <a:off x="5580360" y="370332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7, 8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313" name="Rectangle 27"/>
          <p:cNvSpPr/>
          <p:nvPr/>
        </p:nvSpPr>
        <p:spPr>
          <a:xfrm>
            <a:off x="957240" y="1265400"/>
            <a:ext cx="7273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Univers 65 Bold"/>
              </a:rPr>
              <a:t>Mapa de riesgos estratégicos</a:t>
            </a:r>
            <a:endParaRPr b="1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14" name="Rectangle 28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7e4d1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15" name="Rectangle 29"/>
          <p:cNvSpPr/>
          <p:nvPr/>
        </p:nvSpPr>
        <p:spPr>
          <a:xfrm>
            <a:off x="2771640" y="3411360"/>
            <a:ext cx="1216080" cy="10162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16" name="Rectangle 30"/>
          <p:cNvSpPr/>
          <p:nvPr/>
        </p:nvSpPr>
        <p:spPr>
          <a:xfrm>
            <a:off x="2770200" y="4483080"/>
            <a:ext cx="1219320" cy="10288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17" name="Rectangle 31"/>
          <p:cNvSpPr/>
          <p:nvPr/>
        </p:nvSpPr>
        <p:spPr>
          <a:xfrm>
            <a:off x="4005360" y="4483080"/>
            <a:ext cx="1231920" cy="10159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1336680" y="0"/>
            <a:ext cx="7385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319" name="Group 3"/>
          <p:cNvGrpSpPr/>
          <p:nvPr/>
        </p:nvGrpSpPr>
        <p:grpSpPr>
          <a:xfrm>
            <a:off x="131760" y="1668600"/>
            <a:ext cx="9012240" cy="5236560"/>
            <a:chOff x="131760" y="1668600"/>
            <a:chExt cx="9012240" cy="5236560"/>
          </a:xfrm>
        </p:grpSpPr>
        <p:sp>
          <p:nvSpPr>
            <p:cNvPr id="320" name="Rectangle 4"/>
            <p:cNvSpPr/>
            <p:nvPr/>
          </p:nvSpPr>
          <p:spPr>
            <a:xfrm>
              <a:off x="703440" y="6467760"/>
              <a:ext cx="189864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1" name="Rectangle 5"/>
            <p:cNvSpPr/>
            <p:nvPr/>
          </p:nvSpPr>
          <p:spPr>
            <a:xfrm>
              <a:off x="3165480" y="6467760"/>
              <a:ext cx="281304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563400" y="1777680"/>
              <a:ext cx="1135080" cy="30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RIESGOS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2739960" y="1668600"/>
              <a:ext cx="347040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Procesos</a:t>
              </a:r>
              <a:endParaRPr b="1" lang="en-US" sz="20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6905520" y="1750320"/>
              <a:ext cx="1557360" cy="30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CONTROLES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228600" y="2177280"/>
              <a:ext cx="2209680" cy="43009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131760" y="2206440"/>
              <a:ext cx="2416320" cy="4422600"/>
            </a:xfrm>
            <a:prstGeom prst="rect">
              <a:avLst/>
            </a:prstGeom>
            <a:solidFill>
              <a:srgbClr val="f0cca8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dentificamos riesgos de: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gulació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dministración  Financiera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Fraude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ecnología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mage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ntorno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recció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2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6400800" y="2177280"/>
              <a:ext cx="2558880" cy="4592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6429240" y="2206440"/>
              <a:ext cx="2714760" cy="4464720"/>
            </a:xfrm>
            <a:prstGeom prst="rect">
              <a:avLst/>
            </a:prstGeom>
            <a:solidFill>
              <a:srgbClr val="f0cca8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ara cada actividad de los procesos, asociamos los riesgos con sus respectivos controles de: 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nformática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tribucione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rocedimiento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ocumentació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istema de información gerencial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2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lítica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7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532240" y="2177280"/>
              <a:ext cx="3767040" cy="46591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30" name="Rectangle 14"/>
            <p:cNvSpPr/>
            <p:nvPr/>
          </p:nvSpPr>
          <p:spPr>
            <a:xfrm>
              <a:off x="2719440" y="2206440"/>
              <a:ext cx="3579840" cy="4674960"/>
            </a:xfrm>
            <a:prstGeom prst="rect">
              <a:avLst/>
            </a:prstGeom>
            <a:solidFill>
              <a:srgbClr val="006699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Mercadeo e investigación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comercial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de Producción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de Distribución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DNP. 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Planeación y control del negocio 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administrativa 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financiera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de informática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Administración del talento humano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jurídica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2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331" name="Rectangle 15"/>
          <p:cNvSpPr/>
          <p:nvPr/>
        </p:nvSpPr>
        <p:spPr>
          <a:xfrm>
            <a:off x="998640" y="1260360"/>
            <a:ext cx="7115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Univers 65 Bold"/>
              </a:rPr>
              <a:t>Riesgos Estratégicos a Nivel de Proces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2" name="Rectangle 16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7e4d1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228600" y="1720800"/>
            <a:ext cx="4092480" cy="2273400"/>
          </a:xfrm>
          <a:prstGeom prst="rect">
            <a:avLst/>
          </a:prstGeom>
          <a:solidFill>
            <a:srgbClr val="f7e4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245520" y="1449360"/>
            <a:ext cx="4131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CRITICIDAD (C)  Y CUADRANTE DE CRITICIDAD (CU1)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4362840" y="1449360"/>
            <a:ext cx="48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RIESGO REMANENTE (R)  Y CUADRANTE DE CRITICIDAD (CU2)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662040" y="2182680"/>
            <a:ext cx="0" cy="143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673200" y="3619440"/>
            <a:ext cx="1668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961920" y="2254320"/>
            <a:ext cx="35424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961920" y="2635200"/>
            <a:ext cx="354240" cy="3682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1328760" y="2635200"/>
            <a:ext cx="35388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1693800" y="2635200"/>
            <a:ext cx="3556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961920" y="3016080"/>
            <a:ext cx="354240" cy="3686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1328760" y="3016080"/>
            <a:ext cx="353880" cy="3686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6" name="Rectangle 15"/>
          <p:cNvSpPr/>
          <p:nvPr/>
        </p:nvSpPr>
        <p:spPr>
          <a:xfrm>
            <a:off x="1693800" y="3016080"/>
            <a:ext cx="355680" cy="368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7" name="Rectangle 16"/>
          <p:cNvSpPr/>
          <p:nvPr/>
        </p:nvSpPr>
        <p:spPr>
          <a:xfrm>
            <a:off x="1328760" y="2254320"/>
            <a:ext cx="3538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1693800" y="2254320"/>
            <a:ext cx="3556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2647800" y="2254320"/>
            <a:ext cx="35424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2647800" y="2863800"/>
            <a:ext cx="35424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2647800" y="3473280"/>
            <a:ext cx="354240" cy="3686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2" name="Rectangle 21"/>
          <p:cNvSpPr/>
          <p:nvPr/>
        </p:nvSpPr>
        <p:spPr>
          <a:xfrm>
            <a:off x="3067200" y="2241720"/>
            <a:ext cx="1110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Zona de alta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3" name="Rectangle 22"/>
          <p:cNvSpPr/>
          <p:nvPr/>
        </p:nvSpPr>
        <p:spPr>
          <a:xfrm>
            <a:off x="3067200" y="2851200"/>
            <a:ext cx="1185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Zona de media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4" name="Rectangle 23"/>
          <p:cNvSpPr/>
          <p:nvPr/>
        </p:nvSpPr>
        <p:spPr>
          <a:xfrm>
            <a:off x="3067200" y="3460680"/>
            <a:ext cx="1110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Zona de baja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5" name="Rectangle 24"/>
          <p:cNvSpPr/>
          <p:nvPr/>
        </p:nvSpPr>
        <p:spPr>
          <a:xfrm>
            <a:off x="2192040" y="1860480"/>
            <a:ext cx="1959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UADRANTE DE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6" name="Rectangle 25"/>
          <p:cNvSpPr/>
          <p:nvPr/>
        </p:nvSpPr>
        <p:spPr>
          <a:xfrm>
            <a:off x="1013400" y="3362400"/>
            <a:ext cx="94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     2       3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7" name="Rectangle 26"/>
          <p:cNvSpPr/>
          <p:nvPr/>
        </p:nvSpPr>
        <p:spPr>
          <a:xfrm>
            <a:off x="646920" y="2371680"/>
            <a:ext cx="2667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8" name="Rectangle 27"/>
          <p:cNvSpPr/>
          <p:nvPr/>
        </p:nvSpPr>
        <p:spPr>
          <a:xfrm>
            <a:off x="647640" y="361332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MPACTO EN LA ORGANIZACION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9" name="Rectangle 28"/>
          <p:cNvSpPr/>
          <p:nvPr/>
        </p:nvSpPr>
        <p:spPr>
          <a:xfrm>
            <a:off x="428760" y="1947960"/>
            <a:ext cx="270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0" name="Rectangle 29"/>
          <p:cNvSpPr/>
          <p:nvPr/>
        </p:nvSpPr>
        <p:spPr>
          <a:xfrm>
            <a:off x="4695840" y="1720800"/>
            <a:ext cx="4017960" cy="2273400"/>
          </a:xfrm>
          <a:prstGeom prst="rect">
            <a:avLst/>
          </a:prstGeom>
          <a:solidFill>
            <a:srgbClr val="f7e4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1" name="Line 30"/>
          <p:cNvSpPr/>
          <p:nvPr/>
        </p:nvSpPr>
        <p:spPr>
          <a:xfrm>
            <a:off x="5202360" y="2182680"/>
            <a:ext cx="0" cy="143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2" name="Line 31"/>
          <p:cNvSpPr/>
          <p:nvPr/>
        </p:nvSpPr>
        <p:spPr>
          <a:xfrm>
            <a:off x="5213520" y="3619440"/>
            <a:ext cx="1668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3" name="Rectangle 32"/>
          <p:cNvSpPr/>
          <p:nvPr/>
        </p:nvSpPr>
        <p:spPr>
          <a:xfrm>
            <a:off x="5502240" y="2254320"/>
            <a:ext cx="35388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4" name="Rectangle 33"/>
          <p:cNvSpPr/>
          <p:nvPr/>
        </p:nvSpPr>
        <p:spPr>
          <a:xfrm>
            <a:off x="5502240" y="2635200"/>
            <a:ext cx="353880" cy="3682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5" name="Rectangle 34"/>
          <p:cNvSpPr/>
          <p:nvPr/>
        </p:nvSpPr>
        <p:spPr>
          <a:xfrm>
            <a:off x="5867280" y="2635200"/>
            <a:ext cx="35568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6" name="Rectangle 35"/>
          <p:cNvSpPr/>
          <p:nvPr/>
        </p:nvSpPr>
        <p:spPr>
          <a:xfrm>
            <a:off x="6234120" y="2635200"/>
            <a:ext cx="3556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7" name="Rectangle 36"/>
          <p:cNvSpPr/>
          <p:nvPr/>
        </p:nvSpPr>
        <p:spPr>
          <a:xfrm>
            <a:off x="5502240" y="3016080"/>
            <a:ext cx="353880" cy="3686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8" name="Rectangle 37"/>
          <p:cNvSpPr/>
          <p:nvPr/>
        </p:nvSpPr>
        <p:spPr>
          <a:xfrm>
            <a:off x="5867280" y="3016080"/>
            <a:ext cx="355680" cy="3686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9" name="Rectangle 38"/>
          <p:cNvSpPr/>
          <p:nvPr/>
        </p:nvSpPr>
        <p:spPr>
          <a:xfrm>
            <a:off x="6234120" y="3016080"/>
            <a:ext cx="355680" cy="368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0" name="Rectangle 39"/>
          <p:cNvSpPr/>
          <p:nvPr/>
        </p:nvSpPr>
        <p:spPr>
          <a:xfrm>
            <a:off x="5867280" y="2254320"/>
            <a:ext cx="3556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1" name="Rectangle 40"/>
          <p:cNvSpPr/>
          <p:nvPr/>
        </p:nvSpPr>
        <p:spPr>
          <a:xfrm>
            <a:off x="6234120" y="2254320"/>
            <a:ext cx="3556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2" name="Rectangle 41"/>
          <p:cNvSpPr/>
          <p:nvPr/>
        </p:nvSpPr>
        <p:spPr>
          <a:xfrm>
            <a:off x="7186680" y="2254320"/>
            <a:ext cx="3556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3" name="Rectangle 42"/>
          <p:cNvSpPr/>
          <p:nvPr/>
        </p:nvSpPr>
        <p:spPr>
          <a:xfrm>
            <a:off x="7186680" y="2863800"/>
            <a:ext cx="35568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4" name="Rectangle 43"/>
          <p:cNvSpPr/>
          <p:nvPr/>
        </p:nvSpPr>
        <p:spPr>
          <a:xfrm>
            <a:off x="7186680" y="3473280"/>
            <a:ext cx="355680" cy="3686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5" name="Rectangle 44"/>
          <p:cNvSpPr/>
          <p:nvPr/>
        </p:nvSpPr>
        <p:spPr>
          <a:xfrm>
            <a:off x="7605720" y="2241720"/>
            <a:ext cx="1112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Zona de alta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6" name="Rectangle 45"/>
          <p:cNvSpPr/>
          <p:nvPr/>
        </p:nvSpPr>
        <p:spPr>
          <a:xfrm>
            <a:off x="7605720" y="2851200"/>
            <a:ext cx="1185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Zona de media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7" name="Rectangle 46"/>
          <p:cNvSpPr/>
          <p:nvPr/>
        </p:nvSpPr>
        <p:spPr>
          <a:xfrm>
            <a:off x="7605720" y="3460680"/>
            <a:ext cx="1112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Zona de baja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8" name="Rectangle 47"/>
          <p:cNvSpPr/>
          <p:nvPr/>
        </p:nvSpPr>
        <p:spPr>
          <a:xfrm>
            <a:off x="6730560" y="1860480"/>
            <a:ext cx="1959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UADRANTE DE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9" name="Rectangle 48"/>
          <p:cNvSpPr/>
          <p:nvPr/>
        </p:nvSpPr>
        <p:spPr>
          <a:xfrm>
            <a:off x="5553720" y="3362400"/>
            <a:ext cx="94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     2       3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80" name="Rectangle 49"/>
          <p:cNvSpPr/>
          <p:nvPr/>
        </p:nvSpPr>
        <p:spPr>
          <a:xfrm>
            <a:off x="5187240" y="2371680"/>
            <a:ext cx="2667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81" name="Rectangle 50"/>
          <p:cNvSpPr/>
          <p:nvPr/>
        </p:nvSpPr>
        <p:spPr>
          <a:xfrm>
            <a:off x="5187960" y="361332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ITUACION ACTUAL- CONTROL INTERNO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82" name="Rectangle 51"/>
          <p:cNvSpPr/>
          <p:nvPr/>
        </p:nvSpPr>
        <p:spPr>
          <a:xfrm>
            <a:off x="4968720" y="1947960"/>
            <a:ext cx="2638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383" name="Group 52"/>
          <p:cNvGrpSpPr/>
          <p:nvPr/>
        </p:nvGrpSpPr>
        <p:grpSpPr>
          <a:xfrm>
            <a:off x="231840" y="4222800"/>
            <a:ext cx="8378280" cy="2110320"/>
            <a:chOff x="231840" y="4222800"/>
            <a:chExt cx="8378280" cy="2110320"/>
          </a:xfrm>
        </p:grpSpPr>
        <p:sp>
          <p:nvSpPr>
            <p:cNvPr id="384" name="Rectangle 53"/>
            <p:cNvSpPr/>
            <p:nvPr/>
          </p:nvSpPr>
          <p:spPr>
            <a:xfrm>
              <a:off x="231840" y="4222800"/>
              <a:ext cx="27064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ROBABILIDAD DE OCURRENCIA  (P.O)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85" name="Rectangle 54"/>
            <p:cNvSpPr/>
            <p:nvPr/>
          </p:nvSpPr>
          <p:spPr>
            <a:xfrm>
              <a:off x="5807520" y="4222800"/>
              <a:ext cx="24552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ITUACION ACTUAL (S.A.)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EL CONTROL INTERN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86" name="Rectangle 55"/>
            <p:cNvSpPr/>
            <p:nvPr/>
          </p:nvSpPr>
          <p:spPr>
            <a:xfrm>
              <a:off x="235800" y="4832280"/>
              <a:ext cx="2769480" cy="15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 poco probable que ocurr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 medianamente probable  que ocurr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 altamente probable que ocurr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87" name="Rectangle 56"/>
            <p:cNvSpPr/>
            <p:nvPr/>
          </p:nvSpPr>
          <p:spPr>
            <a:xfrm>
              <a:off x="3286800" y="4832280"/>
              <a:ext cx="234756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ería de bajo impact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ería de mediano impact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ería de alto impact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88" name="Rectangle 57"/>
            <p:cNvSpPr/>
            <p:nvPr/>
          </p:nvSpPr>
          <p:spPr>
            <a:xfrm>
              <a:off x="5734080" y="4844880"/>
              <a:ext cx="2876040" cy="12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ubre en gran parte el riesg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ubre medianamente el riesg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No existe ningún tipo de medid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89" name="Rectangle 58"/>
            <p:cNvSpPr/>
            <p:nvPr/>
          </p:nvSpPr>
          <p:spPr>
            <a:xfrm>
              <a:off x="3077280" y="4222800"/>
              <a:ext cx="277344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MPACTO  EN LA ORGANIZACIÓN   (I)                        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390" name="Rectangle 59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7e4d1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76280" y="2039760"/>
            <a:ext cx="170496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robabilidad 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de 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Ocurrencia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313000" y="1598760"/>
            <a:ext cx="591336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129120" y="2401920"/>
            <a:ext cx="4608360" cy="3492360"/>
          </a:xfrm>
          <a:prstGeom prst="rect">
            <a:avLst/>
          </a:prstGeom>
          <a:solidFill>
            <a:srgbClr val="f7e4d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4543560" y="2400480"/>
            <a:ext cx="0" cy="3500280"/>
          </a:xfrm>
          <a:prstGeom prst="line">
            <a:avLst/>
          </a:prstGeom>
          <a:ln w="25560">
            <a:solidFill>
              <a:srgbClr val="0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5" name="Line 6"/>
          <p:cNvSpPr/>
          <p:nvPr/>
        </p:nvSpPr>
        <p:spPr>
          <a:xfrm>
            <a:off x="6219720" y="2400480"/>
            <a:ext cx="0" cy="3500280"/>
          </a:xfrm>
          <a:prstGeom prst="line">
            <a:avLst/>
          </a:prstGeom>
          <a:ln w="25560">
            <a:solidFill>
              <a:srgbClr val="0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6" name="Line 7"/>
          <p:cNvSpPr/>
          <p:nvPr/>
        </p:nvSpPr>
        <p:spPr>
          <a:xfrm>
            <a:off x="3173400" y="3462480"/>
            <a:ext cx="4568760" cy="1440"/>
          </a:xfrm>
          <a:prstGeom prst="line">
            <a:avLst/>
          </a:prstGeom>
          <a:ln w="25560">
            <a:solidFill>
              <a:srgbClr val="0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3127320" y="4821120"/>
            <a:ext cx="4616640" cy="12960"/>
          </a:xfrm>
          <a:prstGeom prst="line">
            <a:avLst/>
          </a:prstGeom>
          <a:ln w="25560">
            <a:solidFill>
              <a:srgbClr val="0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3095640" y="2095560"/>
            <a:ext cx="0" cy="3881520"/>
          </a:xfrm>
          <a:prstGeom prst="line">
            <a:avLst/>
          </a:prstGeom>
          <a:ln w="50760">
            <a:solidFill>
              <a:srgbClr val="cc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9" name="Line 10"/>
          <p:cNvSpPr/>
          <p:nvPr/>
        </p:nvSpPr>
        <p:spPr>
          <a:xfrm>
            <a:off x="3095640" y="5964120"/>
            <a:ext cx="4997520" cy="1296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1981080" y="2744640"/>
            <a:ext cx="11574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Muy Probabl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1" name="Rectangle 12"/>
          <p:cNvSpPr/>
          <p:nvPr/>
        </p:nvSpPr>
        <p:spPr>
          <a:xfrm>
            <a:off x="1951200" y="3863880"/>
            <a:ext cx="11253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Probabl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2" name="Rectangle 13"/>
          <p:cNvSpPr/>
          <p:nvPr/>
        </p:nvSpPr>
        <p:spPr>
          <a:xfrm>
            <a:off x="1951200" y="5033880"/>
            <a:ext cx="11253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600" spc="-1" strike="noStrike">
                <a:solidFill>
                  <a:srgbClr val="669900"/>
                </a:solidFill>
                <a:latin typeface="Arial"/>
              </a:rPr>
              <a:t>Poco Probabl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3125880" y="6005520"/>
            <a:ext cx="15444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600" spc="-1" strike="noStrike">
                <a:solidFill>
                  <a:srgbClr val="669900"/>
                </a:solidFill>
                <a:latin typeface="Arial"/>
              </a:rPr>
              <a:t>Insignificant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4" name="Rectangle 15"/>
          <p:cNvSpPr/>
          <p:nvPr/>
        </p:nvSpPr>
        <p:spPr>
          <a:xfrm>
            <a:off x="4890960" y="6005520"/>
            <a:ext cx="11779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Moderad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5" name="Rectangle 16"/>
          <p:cNvSpPr/>
          <p:nvPr/>
        </p:nvSpPr>
        <p:spPr>
          <a:xfrm>
            <a:off x="6294600" y="6005520"/>
            <a:ext cx="13255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Significant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6" name="Rectangle 17"/>
          <p:cNvSpPr/>
          <p:nvPr/>
        </p:nvSpPr>
        <p:spPr>
          <a:xfrm>
            <a:off x="3384720" y="6438960"/>
            <a:ext cx="40114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Magnitud del Impacto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7" name="Rectangle 18"/>
          <p:cNvSpPr/>
          <p:nvPr/>
        </p:nvSpPr>
        <p:spPr>
          <a:xfrm>
            <a:off x="777960" y="1271520"/>
            <a:ext cx="7530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Univers 65 Bold"/>
              </a:rPr>
              <a:t>Mapa de riesgos 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Univers 65 Bold"/>
              </a:rPr>
              <a:t>Proceso x.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8" name="Rectangle 19"/>
          <p:cNvSpPr/>
          <p:nvPr/>
        </p:nvSpPr>
        <p:spPr>
          <a:xfrm>
            <a:off x="3384720" y="2622600"/>
            <a:ext cx="26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15"/>
                </a:solidFill>
                <a:latin typeface="Arial Rounded MT Bold"/>
              </a:rPr>
              <a:t>C.1.    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9" name="Rectangle 20"/>
          <p:cNvSpPr/>
          <p:nvPr/>
        </p:nvSpPr>
        <p:spPr>
          <a:xfrm>
            <a:off x="6585120" y="3460680"/>
            <a:ext cx="93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15"/>
                </a:solidFill>
                <a:latin typeface="Arial Rounded MT Bold"/>
              </a:rPr>
              <a:t>C.2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6661080" y="4908600"/>
            <a:ext cx="77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15"/>
                </a:solidFill>
                <a:latin typeface="Arial Rounded MT Bold"/>
              </a:rPr>
              <a:t>C.3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11" name="Rectangle 22"/>
          <p:cNvSpPr/>
          <p:nvPr/>
        </p:nvSpPr>
        <p:spPr>
          <a:xfrm>
            <a:off x="6585120" y="2622600"/>
            <a:ext cx="93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15"/>
                </a:solidFill>
                <a:latin typeface="Arial Rounded MT Bold"/>
              </a:rPr>
              <a:t>C.4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12" name="Rectangle 23"/>
          <p:cNvSpPr/>
          <p:nvPr/>
        </p:nvSpPr>
        <p:spPr>
          <a:xfrm>
            <a:off x="3384720" y="5060880"/>
            <a:ext cx="930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15"/>
                </a:solidFill>
                <a:latin typeface="Arial Rounded MT Bold"/>
              </a:rPr>
              <a:t>C.5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15"/>
                </a:solidFill>
                <a:latin typeface="Arial Rounded MT Bold"/>
              </a:rPr>
              <a:t>C.6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7e4d1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44320" y="120780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Univers 65 Bold"/>
              </a:rPr>
              <a:t>La medición, monitoreo y el aprendizaje dan soporte al mejoramiento continuo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2035080" y="3021120"/>
            <a:ext cx="1027080" cy="3333600"/>
            <a:chOff x="2035080" y="3021120"/>
            <a:chExt cx="1027080" cy="3333600"/>
          </a:xfrm>
        </p:grpSpPr>
        <p:sp>
          <p:nvSpPr>
            <p:cNvPr id="416" name="Line 4"/>
            <p:cNvSpPr/>
            <p:nvPr/>
          </p:nvSpPr>
          <p:spPr>
            <a:xfrm>
              <a:off x="3062160" y="302112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17" name="Line 5"/>
            <p:cNvSpPr/>
            <p:nvPr/>
          </p:nvSpPr>
          <p:spPr>
            <a:xfrm>
              <a:off x="2035080" y="302112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18" name="Text Box 6"/>
          <p:cNvSpPr/>
          <p:nvPr/>
        </p:nvSpPr>
        <p:spPr>
          <a:xfrm>
            <a:off x="909720" y="3505320"/>
            <a:ext cx="31068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911160" y="409716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925560" y="4689360"/>
            <a:ext cx="310824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936720" y="3046320"/>
            <a:ext cx="3105000" cy="3873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22" name="Rectangle 10"/>
          <p:cNvSpPr/>
          <p:nvPr/>
        </p:nvSpPr>
        <p:spPr>
          <a:xfrm>
            <a:off x="4194000" y="5533920"/>
            <a:ext cx="181080" cy="17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23" name="Group 11"/>
          <p:cNvGrpSpPr/>
          <p:nvPr/>
        </p:nvGrpSpPr>
        <p:grpSpPr>
          <a:xfrm>
            <a:off x="2035080" y="5335560"/>
            <a:ext cx="1027080" cy="244440"/>
            <a:chOff x="2035080" y="5335560"/>
            <a:chExt cx="1027080" cy="244440"/>
          </a:xfrm>
        </p:grpSpPr>
        <p:sp>
          <p:nvSpPr>
            <p:cNvPr id="424" name="Line 12"/>
            <p:cNvSpPr/>
            <p:nvPr/>
          </p:nvSpPr>
          <p:spPr>
            <a:xfrm>
              <a:off x="3062160" y="533556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25" name="Line 13"/>
            <p:cNvSpPr/>
            <p:nvPr/>
          </p:nvSpPr>
          <p:spPr>
            <a:xfrm>
              <a:off x="2035080" y="533556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26" name="Text Box 14"/>
          <p:cNvSpPr/>
          <p:nvPr/>
        </p:nvSpPr>
        <p:spPr>
          <a:xfrm>
            <a:off x="911160" y="587520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915840" y="5281560"/>
            <a:ext cx="310068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1211400" y="2297160"/>
            <a:ext cx="253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triz de madurez del riesg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090440" y="5275440"/>
            <a:ext cx="28036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Medición, monitoreo y aprendizaj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30" name="Group 18"/>
          <p:cNvGrpSpPr/>
          <p:nvPr/>
        </p:nvGrpSpPr>
        <p:grpSpPr>
          <a:xfrm>
            <a:off x="736560" y="3083040"/>
            <a:ext cx="3298680" cy="318600"/>
            <a:chOff x="736560" y="3083040"/>
            <a:chExt cx="3298680" cy="318600"/>
          </a:xfrm>
        </p:grpSpPr>
        <p:sp>
          <p:nvSpPr>
            <p:cNvPr id="431" name="Text Box 19"/>
            <p:cNvSpPr/>
            <p:nvPr/>
          </p:nvSpPr>
          <p:spPr>
            <a:xfrm>
              <a:off x="969480" y="3083040"/>
              <a:ext cx="81792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Reactiv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32" name="Text Box 20"/>
            <p:cNvSpPr/>
            <p:nvPr/>
          </p:nvSpPr>
          <p:spPr>
            <a:xfrm>
              <a:off x="2022120" y="3084480"/>
              <a:ext cx="715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Táct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33" name="Text Box 21"/>
            <p:cNvSpPr/>
            <p:nvPr/>
          </p:nvSpPr>
          <p:spPr>
            <a:xfrm>
              <a:off x="3022560" y="3083040"/>
              <a:ext cx="1012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Estratég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34" name="Text Box 22"/>
            <p:cNvSpPr/>
            <p:nvPr/>
          </p:nvSpPr>
          <p:spPr>
            <a:xfrm>
              <a:off x="736560" y="3163680"/>
              <a:ext cx="96696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35" name="Text Box 23"/>
            <p:cNvSpPr/>
            <p:nvPr/>
          </p:nvSpPr>
          <p:spPr>
            <a:xfrm>
              <a:off x="1762920" y="3160800"/>
              <a:ext cx="9554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36" name="Text Box 24"/>
            <p:cNvSpPr/>
            <p:nvPr/>
          </p:nvSpPr>
          <p:spPr>
            <a:xfrm>
              <a:off x="2774160" y="3160800"/>
              <a:ext cx="10292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37" name="Text Box 25"/>
          <p:cNvSpPr/>
          <p:nvPr/>
        </p:nvSpPr>
        <p:spPr>
          <a:xfrm>
            <a:off x="4670280" y="181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834080" y="2206800"/>
            <a:ext cx="3979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Las prácticas actuales incluyen</a:t>
            </a:r>
            <a:r>
              <a:rPr b="1" lang="en-US" sz="2200" spc="-1" strike="noStrike">
                <a:solidFill>
                  <a:srgbClr val="0000ff"/>
                </a:solidFill>
                <a:latin typeface="Univers 65 Bold"/>
              </a:rPr>
              <a:t>: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Indicadores de riesgos aprobados por el comité de riesgos/junta directiva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Indicadores de riesgos monitoreados con </a:t>
            </a:r>
            <a:r>
              <a:rPr b="1" lang="en-US" sz="2200" spc="-1" strike="noStrike">
                <a:solidFill>
                  <a:srgbClr val="0000ff"/>
                </a:solidFill>
                <a:latin typeface="Univers 65 Bold"/>
              </a:rPr>
              <a:t>“triggers” </a:t>
            </a:r>
            <a:r>
              <a:rPr b="1" lang="en-US" sz="2000" spc="-1" strike="noStrike">
                <a:solidFill>
                  <a:srgbClr val="0000ff"/>
                </a:solidFill>
                <a:latin typeface="Univers 65 Bold"/>
              </a:rPr>
              <a:t>(Disparadores)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Frecuencia definida para los reportes en todos los niveles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39" name="Rectangle 27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RM 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15520" y="1179360"/>
            <a:ext cx="8288280" cy="114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Univers 65 Bold"/>
              </a:rPr>
              <a:t>La optimización del riesgo ayuda a balancear el riesgo y el retorno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41" name="Group 3"/>
          <p:cNvGrpSpPr/>
          <p:nvPr/>
        </p:nvGrpSpPr>
        <p:grpSpPr>
          <a:xfrm>
            <a:off x="1935000" y="3017880"/>
            <a:ext cx="1027440" cy="3333600"/>
            <a:chOff x="1935000" y="3017880"/>
            <a:chExt cx="1027440" cy="3333600"/>
          </a:xfrm>
        </p:grpSpPr>
        <p:sp>
          <p:nvSpPr>
            <p:cNvPr id="442" name="Line 4"/>
            <p:cNvSpPr/>
            <p:nvPr/>
          </p:nvSpPr>
          <p:spPr>
            <a:xfrm>
              <a:off x="2962440" y="301788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43" name="Line 5"/>
            <p:cNvSpPr/>
            <p:nvPr/>
          </p:nvSpPr>
          <p:spPr>
            <a:xfrm>
              <a:off x="1935000" y="301788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44" name="Text Box 6"/>
          <p:cNvSpPr/>
          <p:nvPr/>
        </p:nvSpPr>
        <p:spPr>
          <a:xfrm>
            <a:off x="809640" y="3502080"/>
            <a:ext cx="31068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811080" y="409428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825480" y="4686480"/>
            <a:ext cx="310824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836640" y="3043080"/>
            <a:ext cx="3105000" cy="3873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4094280" y="5530680"/>
            <a:ext cx="180720" cy="17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49" name="Group 11"/>
          <p:cNvGrpSpPr/>
          <p:nvPr/>
        </p:nvGrpSpPr>
        <p:grpSpPr>
          <a:xfrm>
            <a:off x="1935000" y="5332320"/>
            <a:ext cx="1027440" cy="244440"/>
            <a:chOff x="1935000" y="5332320"/>
            <a:chExt cx="1027440" cy="244440"/>
          </a:xfrm>
        </p:grpSpPr>
        <p:sp>
          <p:nvSpPr>
            <p:cNvPr id="450" name="Line 12"/>
            <p:cNvSpPr/>
            <p:nvPr/>
          </p:nvSpPr>
          <p:spPr>
            <a:xfrm>
              <a:off x="2962440" y="533232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51" name="Line 13"/>
            <p:cNvSpPr/>
            <p:nvPr/>
          </p:nvSpPr>
          <p:spPr>
            <a:xfrm>
              <a:off x="1935000" y="533232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52" name="Text Box 14"/>
          <p:cNvSpPr/>
          <p:nvPr/>
        </p:nvSpPr>
        <p:spPr>
          <a:xfrm>
            <a:off x="811080" y="587232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816120" y="5278320"/>
            <a:ext cx="310032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1111320" y="2293920"/>
            <a:ext cx="253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triz de madurez del riesg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55" name="Text Box 17"/>
          <p:cNvSpPr/>
          <p:nvPr/>
        </p:nvSpPr>
        <p:spPr>
          <a:xfrm>
            <a:off x="344520" y="5769000"/>
            <a:ext cx="424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timiza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56" name="Group 18"/>
          <p:cNvGrpSpPr/>
          <p:nvPr/>
        </p:nvGrpSpPr>
        <p:grpSpPr>
          <a:xfrm>
            <a:off x="582480" y="3083040"/>
            <a:ext cx="3383280" cy="318600"/>
            <a:chOff x="582480" y="3083040"/>
            <a:chExt cx="3383280" cy="318600"/>
          </a:xfrm>
        </p:grpSpPr>
        <p:sp>
          <p:nvSpPr>
            <p:cNvPr id="457" name="Text Box 19"/>
            <p:cNvSpPr/>
            <p:nvPr/>
          </p:nvSpPr>
          <p:spPr>
            <a:xfrm>
              <a:off x="815400" y="3083040"/>
              <a:ext cx="81792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Reactiv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58" name="Text Box 20"/>
            <p:cNvSpPr/>
            <p:nvPr/>
          </p:nvSpPr>
          <p:spPr>
            <a:xfrm>
              <a:off x="1868040" y="3084480"/>
              <a:ext cx="715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Táct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59" name="Text Box 21"/>
            <p:cNvSpPr/>
            <p:nvPr/>
          </p:nvSpPr>
          <p:spPr>
            <a:xfrm>
              <a:off x="2867760" y="3083040"/>
              <a:ext cx="109800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Estaratég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60" name="Text Box 22"/>
            <p:cNvSpPr/>
            <p:nvPr/>
          </p:nvSpPr>
          <p:spPr>
            <a:xfrm>
              <a:off x="582480" y="3163680"/>
              <a:ext cx="96660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61" name="Text Box 23"/>
            <p:cNvSpPr/>
            <p:nvPr/>
          </p:nvSpPr>
          <p:spPr>
            <a:xfrm>
              <a:off x="1608840" y="3160800"/>
              <a:ext cx="9554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62" name="Text Box 24"/>
            <p:cNvSpPr/>
            <p:nvPr/>
          </p:nvSpPr>
          <p:spPr>
            <a:xfrm>
              <a:off x="2619720" y="3160800"/>
              <a:ext cx="10292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63" name="Text Box 25"/>
          <p:cNvSpPr/>
          <p:nvPr/>
        </p:nvSpPr>
        <p:spPr>
          <a:xfrm>
            <a:off x="4518000" y="17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64" name="Text Box 26"/>
          <p:cNvSpPr/>
          <p:nvPr/>
        </p:nvSpPr>
        <p:spPr>
          <a:xfrm>
            <a:off x="4611600" y="2274840"/>
            <a:ext cx="43372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Las prácticas actuales incluyen: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Análisis costo-beneficio relacionado con las decisiones de consideración de riesgos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Colocación de capital basado en los riesgos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Relación entre los riesgos existentes y entendidos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65" name="Rectangle 27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AutoShape 35"/>
          <p:cNvSpPr/>
          <p:nvPr/>
        </p:nvSpPr>
        <p:spPr>
          <a:xfrm rot="5386200">
            <a:off x="1371960" y="4676040"/>
            <a:ext cx="3110040" cy="723960"/>
          </a:xfrm>
          <a:custGeom>
            <a:avLst/>
            <a:gdLst>
              <a:gd name="textAreaLeft" fmla="*/ 552240 w 3110040"/>
              <a:gd name="textAreaRight" fmla="*/ 2246760 w 3110040"/>
              <a:gd name="textAreaTop" fmla="*/ 96840 h 723960"/>
              <a:gd name="textAreaBottom" fmla="*/ 6271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74" hR="21600" stAng="10800000" swAng="-5400000"/>
                <a:lnTo>
                  <a:pt x="11767" y="21600"/>
                </a:lnTo>
                <a:arcTo wR="7674" hR="21600" stAng="5400000" swAng="-2194886"/>
                <a:lnTo>
                  <a:pt x="20848" y="9326"/>
                </a:lnTo>
                <a:lnTo>
                  <a:pt x="17394" y="0"/>
                </a:lnTo>
                <a:lnTo>
                  <a:pt x="12435" y="9326"/>
                </a:lnTo>
                <a:lnTo>
                  <a:pt x="14595" y="9326"/>
                </a:lnTo>
                <a:arcTo wR="7674" hR="21600" stAng="3205114" swAng="1858018"/>
                <a:lnTo>
                  <a:pt x="9720" y="20818"/>
                </a:lnTo>
                <a:arcTo wR="7674" hR="21600" stAng="5736869" swAng="5063131"/>
                <a:close/>
              </a:path>
              <a:path fill="darkenLess" w="21600" h="21600">
                <a:moveTo>
                  <a:pt x="0" y="0"/>
                </a:moveTo>
                <a:arcTo wR="7674" hR="21600" stAng="10800000" swAng="-5400000"/>
                <a:lnTo>
                  <a:pt x="11767" y="21600"/>
                </a:lnTo>
                <a:arcTo wR="7674" hR="21600" stAng="5400000" swAng="336869"/>
                <a:lnTo>
                  <a:pt x="9720" y="20818"/>
                </a:lnTo>
                <a:arcTo wR="7674" hR="21600" stAng="5736869" swAng="5063131"/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67" name="Group 37"/>
          <p:cNvGrpSpPr/>
          <p:nvPr/>
        </p:nvGrpSpPr>
        <p:grpSpPr>
          <a:xfrm>
            <a:off x="4838760" y="2379600"/>
            <a:ext cx="1587600" cy="2692440"/>
            <a:chOff x="4838760" y="2379600"/>
            <a:chExt cx="1587600" cy="2692440"/>
          </a:xfrm>
        </p:grpSpPr>
        <p:sp>
          <p:nvSpPr>
            <p:cNvPr id="468" name="Line 4"/>
            <p:cNvSpPr/>
            <p:nvPr/>
          </p:nvSpPr>
          <p:spPr>
            <a:xfrm>
              <a:off x="6426360" y="2379600"/>
              <a:ext cx="0" cy="2692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69" name="Line 5"/>
            <p:cNvSpPr/>
            <p:nvPr/>
          </p:nvSpPr>
          <p:spPr>
            <a:xfrm>
              <a:off x="4838760" y="2379600"/>
              <a:ext cx="0" cy="2692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3282840" y="3065400"/>
            <a:ext cx="480384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3286080" y="3824280"/>
            <a:ext cx="48006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2" name="Text Box 22"/>
          <p:cNvSpPr/>
          <p:nvPr/>
        </p:nvSpPr>
        <p:spPr>
          <a:xfrm>
            <a:off x="3287880" y="4599000"/>
            <a:ext cx="480672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3" name="Rectangle 28"/>
          <p:cNvSpPr/>
          <p:nvPr/>
        </p:nvSpPr>
        <p:spPr>
          <a:xfrm>
            <a:off x="3286080" y="2306520"/>
            <a:ext cx="4800600" cy="27655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4" name="Oval 43"/>
          <p:cNvSpPr/>
          <p:nvPr/>
        </p:nvSpPr>
        <p:spPr>
          <a:xfrm>
            <a:off x="3854520" y="3139920"/>
            <a:ext cx="330120" cy="320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5" name="Oval 44"/>
          <p:cNvSpPr/>
          <p:nvPr/>
        </p:nvSpPr>
        <p:spPr>
          <a:xfrm>
            <a:off x="3854520" y="4664160"/>
            <a:ext cx="330120" cy="320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6" name="AutoShape 42"/>
          <p:cNvSpPr/>
          <p:nvPr/>
        </p:nvSpPr>
        <p:spPr>
          <a:xfrm rot="16186200">
            <a:off x="6721200" y="4524480"/>
            <a:ext cx="3109680" cy="690480"/>
          </a:xfrm>
          <a:custGeom>
            <a:avLst/>
            <a:gdLst>
              <a:gd name="textAreaLeft" fmla="*/ 543960 w 3109680"/>
              <a:gd name="textAreaRight" fmla="*/ 2254680 w 3109680"/>
              <a:gd name="textAreaTop" fmla="*/ 92520 h 690480"/>
              <a:gd name="textAreaBottom" fmla="*/ 597960 h 69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055623"/>
                <a:lnTo>
                  <a:pt x="20764" y="9872"/>
                </a:lnTo>
                <a:lnTo>
                  <a:pt x="17280" y="0"/>
                </a:lnTo>
                <a:lnTo>
                  <a:pt x="12124" y="9872"/>
                </a:lnTo>
                <a:lnTo>
                  <a:pt x="14284" y="9872"/>
                </a:lnTo>
                <a:arcTo wR="7560" hR="21600" stAng="3344377" swAng="1698188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7" name="Rectangle 46"/>
          <p:cNvSpPr/>
          <p:nvPr/>
        </p:nvSpPr>
        <p:spPr>
          <a:xfrm>
            <a:off x="7823160" y="5668920"/>
            <a:ext cx="279360" cy="81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78" name="Group 38"/>
          <p:cNvGrpSpPr/>
          <p:nvPr/>
        </p:nvGrpSpPr>
        <p:grpSpPr>
          <a:xfrm>
            <a:off x="4838760" y="5415120"/>
            <a:ext cx="1587600" cy="1168200"/>
            <a:chOff x="4838760" y="5415120"/>
            <a:chExt cx="1587600" cy="1168200"/>
          </a:xfrm>
        </p:grpSpPr>
        <p:sp>
          <p:nvSpPr>
            <p:cNvPr id="479" name="Line 39"/>
            <p:cNvSpPr/>
            <p:nvPr/>
          </p:nvSpPr>
          <p:spPr>
            <a:xfrm>
              <a:off x="6426360" y="5415120"/>
              <a:ext cx="0" cy="11682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80" name="Line 40"/>
            <p:cNvSpPr/>
            <p:nvPr/>
          </p:nvSpPr>
          <p:spPr>
            <a:xfrm>
              <a:off x="4838760" y="5415120"/>
              <a:ext cx="0" cy="11682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81" name="Text Box 21"/>
          <p:cNvSpPr/>
          <p:nvPr/>
        </p:nvSpPr>
        <p:spPr>
          <a:xfrm>
            <a:off x="3286080" y="6108840"/>
            <a:ext cx="48006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2" name="Text Box 23"/>
          <p:cNvSpPr/>
          <p:nvPr/>
        </p:nvSpPr>
        <p:spPr>
          <a:xfrm>
            <a:off x="3290760" y="5418000"/>
            <a:ext cx="479592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3" name="Rectangle 36"/>
          <p:cNvSpPr/>
          <p:nvPr/>
        </p:nvSpPr>
        <p:spPr>
          <a:xfrm>
            <a:off x="3286080" y="5415120"/>
            <a:ext cx="4800600" cy="11682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1018800"/>
            <a:ext cx="914400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Univers 65 Bold"/>
              </a:rPr>
              <a:t>Se debe definir el objetivo y determinar un plan de acción</a:t>
            </a:r>
            <a:endParaRPr b="0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3700440" y="1955880"/>
            <a:ext cx="39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triz de la madurez del riesg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6" name="Text Box 18"/>
          <p:cNvSpPr/>
          <p:nvPr/>
        </p:nvSpPr>
        <p:spPr>
          <a:xfrm>
            <a:off x="1565280" y="3135240"/>
            <a:ext cx="141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strategia de riesg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7" name="Text Box 24"/>
          <p:cNvSpPr/>
          <p:nvPr/>
        </p:nvSpPr>
        <p:spPr>
          <a:xfrm>
            <a:off x="1558800" y="3898800"/>
            <a:ext cx="142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structura de riesg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8" name="Text Box 25"/>
          <p:cNvSpPr/>
          <p:nvPr/>
        </p:nvSpPr>
        <p:spPr>
          <a:xfrm>
            <a:off x="1023840" y="4589640"/>
            <a:ext cx="24955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edición, monitoreo y aprendizaje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9" name="Text Box 26"/>
          <p:cNvSpPr/>
          <p:nvPr/>
        </p:nvSpPr>
        <p:spPr>
          <a:xfrm>
            <a:off x="1581120" y="5484960"/>
            <a:ext cx="13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li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90" name="Text Box 27"/>
          <p:cNvSpPr/>
          <p:nvPr/>
        </p:nvSpPr>
        <p:spPr>
          <a:xfrm>
            <a:off x="1611360" y="625968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ptimiza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91" name="Group 58"/>
          <p:cNvGrpSpPr/>
          <p:nvPr/>
        </p:nvGrpSpPr>
        <p:grpSpPr>
          <a:xfrm>
            <a:off x="977760" y="1830240"/>
            <a:ext cx="1511280" cy="1107720"/>
            <a:chOff x="977760" y="1830240"/>
            <a:chExt cx="1511280" cy="1107720"/>
          </a:xfrm>
        </p:grpSpPr>
        <p:sp>
          <p:nvSpPr>
            <p:cNvPr id="492" name="Rectangle 41"/>
            <p:cNvSpPr/>
            <p:nvPr/>
          </p:nvSpPr>
          <p:spPr>
            <a:xfrm>
              <a:off x="977760" y="1856520"/>
              <a:ext cx="1511280" cy="1081440"/>
            </a:xfrm>
            <a:prstGeom prst="rect">
              <a:avLst/>
            </a:prstGeom>
            <a:solidFill>
              <a:srgbClr val="c1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93" name="Text Box 30"/>
            <p:cNvSpPr/>
            <p:nvPr/>
          </p:nvSpPr>
          <p:spPr>
            <a:xfrm>
              <a:off x="1002240" y="1830240"/>
              <a:ext cx="143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or E</a:t>
              </a:r>
              <a:r>
                <a:rPr b="1" lang="es-ES_tradnl" sz="1600" spc="-1" strike="noStrike">
                  <a:solidFill>
                    <a:srgbClr val="0000ff"/>
                  </a:solidFill>
                  <a:latin typeface="Arial"/>
                </a:rPr>
                <a:t>je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mpl</a:t>
              </a:r>
              <a:r>
                <a:rPr b="1" lang="es-ES_tradnl" sz="16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: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94" name="Oval 31"/>
            <p:cNvSpPr/>
            <p:nvPr/>
          </p:nvSpPr>
          <p:spPr>
            <a:xfrm>
              <a:off x="1163520" y="2157120"/>
              <a:ext cx="311760" cy="293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95" name="Oval 32"/>
            <p:cNvSpPr/>
            <p:nvPr/>
          </p:nvSpPr>
          <p:spPr>
            <a:xfrm>
              <a:off x="1163520" y="2517840"/>
              <a:ext cx="311760" cy="2934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96" name="Text Box 33"/>
            <p:cNvSpPr/>
            <p:nvPr/>
          </p:nvSpPr>
          <p:spPr>
            <a:xfrm>
              <a:off x="1454760" y="2155680"/>
              <a:ext cx="182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97" name="Text Box 34"/>
            <p:cNvSpPr/>
            <p:nvPr/>
          </p:nvSpPr>
          <p:spPr>
            <a:xfrm>
              <a:off x="1454760" y="2516400"/>
              <a:ext cx="182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98" name="Oval 45"/>
          <p:cNvSpPr/>
          <p:nvPr/>
        </p:nvSpPr>
        <p:spPr>
          <a:xfrm>
            <a:off x="3854520" y="6188040"/>
            <a:ext cx="330120" cy="320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99" name="Oval 52"/>
          <p:cNvSpPr/>
          <p:nvPr/>
        </p:nvSpPr>
        <p:spPr>
          <a:xfrm>
            <a:off x="5378400" y="3902040"/>
            <a:ext cx="330120" cy="320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0" name="Oval 47"/>
          <p:cNvSpPr/>
          <p:nvPr/>
        </p:nvSpPr>
        <p:spPr>
          <a:xfrm>
            <a:off x="5492880" y="3139920"/>
            <a:ext cx="330120" cy="320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1" name="Oval 48"/>
          <p:cNvSpPr/>
          <p:nvPr/>
        </p:nvSpPr>
        <p:spPr>
          <a:xfrm>
            <a:off x="5645160" y="3902040"/>
            <a:ext cx="330120" cy="320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2" name="Oval 49"/>
          <p:cNvSpPr/>
          <p:nvPr/>
        </p:nvSpPr>
        <p:spPr>
          <a:xfrm>
            <a:off x="5492880" y="4676760"/>
            <a:ext cx="330120" cy="320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3" name="Oval 50"/>
          <p:cNvSpPr/>
          <p:nvPr/>
        </p:nvSpPr>
        <p:spPr>
          <a:xfrm>
            <a:off x="5530680" y="6188040"/>
            <a:ext cx="330480" cy="320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4" name="Oval 51"/>
          <p:cNvSpPr/>
          <p:nvPr/>
        </p:nvSpPr>
        <p:spPr>
          <a:xfrm>
            <a:off x="5518080" y="5502240"/>
            <a:ext cx="330120" cy="320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5" name="Oval 53"/>
          <p:cNvSpPr/>
          <p:nvPr/>
        </p:nvSpPr>
        <p:spPr>
          <a:xfrm>
            <a:off x="7130880" y="5489640"/>
            <a:ext cx="330480" cy="320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6" name="Line 54"/>
          <p:cNvSpPr/>
          <p:nvPr/>
        </p:nvSpPr>
        <p:spPr>
          <a:xfrm>
            <a:off x="4305240" y="3319560"/>
            <a:ext cx="1104840" cy="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7" name="Line 55"/>
          <p:cNvSpPr/>
          <p:nvPr/>
        </p:nvSpPr>
        <p:spPr>
          <a:xfrm>
            <a:off x="4305240" y="6354720"/>
            <a:ext cx="1104840" cy="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8" name="Line 56"/>
          <p:cNvSpPr/>
          <p:nvPr/>
        </p:nvSpPr>
        <p:spPr>
          <a:xfrm>
            <a:off x="4305240" y="4843440"/>
            <a:ext cx="1104840" cy="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9" name="Line 57"/>
          <p:cNvSpPr/>
          <p:nvPr/>
        </p:nvSpPr>
        <p:spPr>
          <a:xfrm>
            <a:off x="5969160" y="5656320"/>
            <a:ext cx="1104840" cy="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510" name="Group 65"/>
          <p:cNvGrpSpPr/>
          <p:nvPr/>
        </p:nvGrpSpPr>
        <p:grpSpPr>
          <a:xfrm>
            <a:off x="3319560" y="2343240"/>
            <a:ext cx="4746600" cy="757080"/>
            <a:chOff x="3319560" y="2343240"/>
            <a:chExt cx="4746600" cy="757080"/>
          </a:xfrm>
        </p:grpSpPr>
        <p:sp>
          <p:nvSpPr>
            <p:cNvPr id="511" name="Text Box 59"/>
            <p:cNvSpPr/>
            <p:nvPr/>
          </p:nvSpPr>
          <p:spPr>
            <a:xfrm>
              <a:off x="3683160" y="2344680"/>
              <a:ext cx="81792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Reactiv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12" name="Text Box 60"/>
            <p:cNvSpPr/>
            <p:nvPr/>
          </p:nvSpPr>
          <p:spPr>
            <a:xfrm>
              <a:off x="5309280" y="2351160"/>
              <a:ext cx="715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Táct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13" name="Text Box 61"/>
            <p:cNvSpPr/>
            <p:nvPr/>
          </p:nvSpPr>
          <p:spPr>
            <a:xfrm>
              <a:off x="6856560" y="2343240"/>
              <a:ext cx="1012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Estratég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14" name="Text Box 62"/>
            <p:cNvSpPr/>
            <p:nvPr/>
          </p:nvSpPr>
          <p:spPr>
            <a:xfrm>
              <a:off x="3319560" y="2724120"/>
              <a:ext cx="14954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Arial Narrow"/>
                </a:rPr>
                <a:t>“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 Narrow"/>
                </a:rPr>
                <a:t>Reactivo al riesgo</a:t>
              </a:r>
              <a:r>
                <a:rPr b="1" i="1" lang="en-US" sz="1200" spc="-1" strike="noStrike">
                  <a:solidFill>
                    <a:srgbClr val="ff0000"/>
                  </a:solidFill>
                  <a:latin typeface="Arial Narrow"/>
                </a:rPr>
                <a:t>”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15" name="Text Box 63"/>
            <p:cNvSpPr/>
            <p:nvPr/>
          </p:nvSpPr>
          <p:spPr>
            <a:xfrm>
              <a:off x="4907160" y="2714760"/>
              <a:ext cx="14792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0000"/>
                  </a:solidFill>
                  <a:latin typeface="Arial Narrow"/>
                </a:rPr>
                <a:t>“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 Narrow"/>
                </a:rPr>
                <a:t>Preparado para el riesgo</a:t>
              </a:r>
              <a:r>
                <a:rPr b="1" i="1" lang="en-US" sz="1200" spc="-1" strike="noStrike">
                  <a:solidFill>
                    <a:srgbClr val="ff0000"/>
                  </a:solidFill>
                  <a:latin typeface="Arial Narrow"/>
                </a:rPr>
                <a:t>”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16" name="Text Box 64"/>
            <p:cNvSpPr/>
            <p:nvPr/>
          </p:nvSpPr>
          <p:spPr>
            <a:xfrm>
              <a:off x="6472440" y="2709720"/>
              <a:ext cx="15937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Arial Narrow"/>
                </a:rPr>
                <a:t>“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 Narrow"/>
                </a:rPr>
                <a:t>Anticipa el </a:t>
              </a:r>
              <a:r>
                <a:rPr b="1" i="1" lang="en-US" sz="1200" spc="-1" strike="noStrike">
                  <a:solidFill>
                    <a:srgbClr val="ff0000"/>
                  </a:solidFill>
                  <a:latin typeface="Arial Narrow"/>
                </a:rPr>
                <a:t>Ri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 Narrow"/>
                </a:rPr>
                <a:t>esgo</a:t>
              </a:r>
              <a:r>
                <a:rPr b="1" i="1" lang="en-US" sz="1200" spc="-1" strike="noStrike">
                  <a:solidFill>
                    <a:srgbClr val="ff0000"/>
                  </a:solidFill>
                  <a:latin typeface="Arial Narrow"/>
                </a:rPr>
                <a:t>”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517" name="Rectangle 67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7975440" y="6378480"/>
            <a:ext cx="116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519" name="Group 3"/>
          <p:cNvGrpSpPr/>
          <p:nvPr/>
        </p:nvGrpSpPr>
        <p:grpSpPr>
          <a:xfrm>
            <a:off x="314280" y="544680"/>
            <a:ext cx="8659440" cy="5892120"/>
            <a:chOff x="314280" y="544680"/>
            <a:chExt cx="8659440" cy="5892120"/>
          </a:xfrm>
        </p:grpSpPr>
        <p:pic>
          <p:nvPicPr>
            <p:cNvPr id="520" name="Picture 4" descr="BALANZA"/>
            <p:cNvPicPr/>
            <p:nvPr/>
          </p:nvPicPr>
          <p:blipFill>
            <a:blip r:embed="rId1"/>
            <a:stretch/>
          </p:blipFill>
          <p:spPr>
            <a:xfrm>
              <a:off x="357120" y="890280"/>
              <a:ext cx="861660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"/>
            <p:cNvSpPr/>
            <p:nvPr/>
          </p:nvSpPr>
          <p:spPr>
            <a:xfrm>
              <a:off x="7372440" y="1230840"/>
              <a:ext cx="1513440" cy="44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ités de Riesgo a Nivel de la Junta Directiva y Alta Gerencia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ción y evaluación del riesgo en toda la organización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nguaje y enfoque comunes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valuación adecuada del riesgo en todos los procesos del negoci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tamiento y Optimización del riesg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7223040" y="547920"/>
              <a:ext cx="1734120" cy="645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3810240" y="1227600"/>
              <a:ext cx="1678320" cy="39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reconoce necesidad de administrar el riesgo en toda la empresa y se comienza un proceso de sensibilización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xiste una identificación de riesgos en todos los procesos, pero no es sistémica y frecuente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ase de datos con datos históricos, pero sin integración para la toma de decisiones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314280" y="544680"/>
              <a:ext cx="1735920" cy="589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616000" y="1225800"/>
              <a:ext cx="1572840" cy="32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Junta Directiva y alta gerencia respaldan con la definición de una política de riesgos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iste un  Comité de Riesgo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responsabilidad en la administración de riesgos depende de cada proceso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063160" y="1200240"/>
              <a:ext cx="1746720" cy="49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Junta Directiva y la Gerencia patrocinan la administración de riesgo, pero no tienen mecanismos para ejecutarlas con éxito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lta de enfoque y lenguaje común para administrar los riesgo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Univers 65 Bold"/>
                </a:rPr>
                <a:t>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s riesgos son manejados cada áreas de manera intuitiva y desintegrada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administración de riesgos es responsabilidad del área de auditoría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314280" y="547920"/>
              <a:ext cx="1733760" cy="645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2048040" y="547920"/>
              <a:ext cx="1734120" cy="645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3767400" y="547920"/>
              <a:ext cx="1734120" cy="64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30" name="Rectangle 14"/>
            <p:cNvSpPr/>
            <p:nvPr/>
          </p:nvSpPr>
          <p:spPr>
            <a:xfrm>
              <a:off x="5486400" y="547920"/>
              <a:ext cx="1734120" cy="645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5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31" name="Rectangle 15"/>
            <p:cNvSpPr/>
            <p:nvPr/>
          </p:nvSpPr>
          <p:spPr>
            <a:xfrm>
              <a:off x="2050200" y="544680"/>
              <a:ext cx="1721160" cy="589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32" name="Rectangle 16"/>
            <p:cNvSpPr/>
            <p:nvPr/>
          </p:nvSpPr>
          <p:spPr>
            <a:xfrm>
              <a:off x="3771360" y="544680"/>
              <a:ext cx="1721160" cy="589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33" name="Rectangle 17"/>
            <p:cNvSpPr/>
            <p:nvPr/>
          </p:nvSpPr>
          <p:spPr>
            <a:xfrm>
              <a:off x="5492520" y="544680"/>
              <a:ext cx="1735920" cy="589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34" name="Rectangle 18"/>
            <p:cNvSpPr/>
            <p:nvPr/>
          </p:nvSpPr>
          <p:spPr>
            <a:xfrm>
              <a:off x="7228440" y="544680"/>
              <a:ext cx="1735920" cy="589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35" name="Rectangle 19"/>
            <p:cNvSpPr/>
            <p:nvPr/>
          </p:nvSpPr>
          <p:spPr>
            <a:xfrm>
              <a:off x="396360" y="1200240"/>
              <a:ext cx="166284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i Junta Directiva ni gerencia enfatizan administración del riesg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existen metodologías homologadas para la administración de riesgos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existen mecanismos de reportes formales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536" name="Text Box 20"/>
          <p:cNvSpPr/>
          <p:nvPr/>
        </p:nvSpPr>
        <p:spPr>
          <a:xfrm>
            <a:off x="260280" y="84240"/>
            <a:ext cx="88837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900" spc="-1" strike="noStrike">
                <a:solidFill>
                  <a:srgbClr val="ffffff"/>
                </a:solidFill>
                <a:latin typeface="Arial"/>
              </a:rPr>
              <a:t>Cuadro base para el análisis</a:t>
            </a:r>
            <a:endParaRPr b="1" lang="en-US" sz="29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37" name="Rectangle 21"/>
          <p:cNvSpPr/>
          <p:nvPr/>
        </p:nvSpPr>
        <p:spPr>
          <a:xfrm>
            <a:off x="4195800" y="6486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A0E8-05E1-4B4A-B218-9CF520C7FE1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hacemos el análisis de riesgo en los procesos?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0" y="117648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Conocimiento del proceso </a:t>
            </a: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- Pruebas de recorrido -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777960" y="2206800"/>
            <a:ext cx="7735680" cy="59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777960" y="2930400"/>
            <a:ext cx="7735680" cy="59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777960" y="3591000"/>
            <a:ext cx="7735680" cy="1985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777960" y="5695920"/>
            <a:ext cx="7735680" cy="614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777960" y="2206800"/>
            <a:ext cx="767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Univers 65 Bold"/>
              </a:rPr>
              <a:t>Objetivos del proceso:  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852480" y="2930400"/>
            <a:ext cx="762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Univers 65 Bold"/>
              </a:rPr>
              <a:t>Factores de producción: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777960" y="3552840"/>
            <a:ext cx="77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Univers 65 Bold"/>
              </a:rPr>
              <a:t>Actividades :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927000" y="4006800"/>
            <a:ext cx="1170000" cy="520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2311560" y="4006800"/>
            <a:ext cx="1261800" cy="317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9" name="Rectangle 13"/>
          <p:cNvSpPr/>
          <p:nvPr/>
        </p:nvSpPr>
        <p:spPr>
          <a:xfrm>
            <a:off x="3797280" y="4006800"/>
            <a:ext cx="1249560" cy="317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5230800" y="4006800"/>
            <a:ext cx="1328760" cy="317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1" name="Line 15"/>
          <p:cNvSpPr/>
          <p:nvPr/>
        </p:nvSpPr>
        <p:spPr>
          <a:xfrm>
            <a:off x="2092320" y="4203720"/>
            <a:ext cx="235080" cy="14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2" name="Line 16"/>
          <p:cNvSpPr/>
          <p:nvPr/>
        </p:nvSpPr>
        <p:spPr>
          <a:xfrm>
            <a:off x="3552840" y="4160880"/>
            <a:ext cx="235080" cy="14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3" name="Line 17"/>
          <p:cNvSpPr/>
          <p:nvPr/>
        </p:nvSpPr>
        <p:spPr>
          <a:xfrm>
            <a:off x="4976640" y="4172040"/>
            <a:ext cx="233640" cy="14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4" name="Rectangle 18"/>
          <p:cNvSpPr/>
          <p:nvPr/>
        </p:nvSpPr>
        <p:spPr>
          <a:xfrm>
            <a:off x="6861240" y="4006800"/>
            <a:ext cx="1328760" cy="317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5" name="Line 19"/>
          <p:cNvSpPr/>
          <p:nvPr/>
        </p:nvSpPr>
        <p:spPr>
          <a:xfrm>
            <a:off x="6600960" y="4160880"/>
            <a:ext cx="236520" cy="14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6" name="Rectangle 20"/>
          <p:cNvSpPr/>
          <p:nvPr/>
        </p:nvSpPr>
        <p:spPr>
          <a:xfrm>
            <a:off x="6891480" y="4829040"/>
            <a:ext cx="1328760" cy="317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7" name="Text Box 21"/>
          <p:cNvSpPr/>
          <p:nvPr/>
        </p:nvSpPr>
        <p:spPr>
          <a:xfrm>
            <a:off x="852480" y="5692680"/>
            <a:ext cx="75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Univers 65 Bold"/>
              </a:rPr>
              <a:t>Resultados: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8" name="Line 22"/>
          <p:cNvSpPr/>
          <p:nvPr/>
        </p:nvSpPr>
        <p:spPr>
          <a:xfrm>
            <a:off x="7541280" y="4332240"/>
            <a:ext cx="3600" cy="4716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281160" y="1298520"/>
            <a:ext cx="85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Univers 65 Bold"/>
              </a:rPr>
              <a:t>Sistema de Administración Integral de Riesgos </a:t>
            </a:r>
            <a:endParaRPr b="1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31920" y="2273400"/>
            <a:ext cx="171108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de crédit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027160" y="2281320"/>
            <a:ext cx="171144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de mercad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735360" y="2273400"/>
            <a:ext cx="171288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de liquidez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443560" y="2279520"/>
            <a:ext cx="1711440" cy="113040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legal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161120" y="2271600"/>
            <a:ext cx="171144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s de insuficiencia de reservas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39840" y="3413160"/>
            <a:ext cx="171108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operacional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2035080" y="3406680"/>
            <a:ext cx="171144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estratégic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3728880" y="3413160"/>
            <a:ext cx="171324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reputacional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5437080" y="3405240"/>
            <a:ext cx="1754280" cy="113040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de contrapart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7175520" y="3414600"/>
            <a:ext cx="1711440" cy="111780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s .... 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hacemos el análisis de riesgo en los procesos?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0" y="117648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Conocimiento del proceso </a:t>
            </a: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- Pruebas de recorrido -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4651200" y="3103560"/>
            <a:ext cx="4023000" cy="687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300" spc="-1" strike="noStrike">
                <a:solidFill>
                  <a:srgbClr val="0000ff"/>
                </a:solidFill>
                <a:latin typeface="Univers 65 Bold"/>
              </a:rPr>
              <a:t>	</a:t>
            </a:r>
            <a:r>
              <a:rPr b="1" i="1" lang="es-ES_tradnl" sz="1300" spc="-1" strike="noStrike">
                <a:solidFill>
                  <a:srgbClr val="0000ff"/>
                </a:solidFill>
                <a:latin typeface="Univers 65 Bold"/>
              </a:rPr>
              <a:t>Indicadores claves del rendimiento</a:t>
            </a:r>
            <a:r>
              <a:rPr b="1" lang="es-ES_tradnl" sz="1300" spc="-1" strike="noStrike">
                <a:solidFill>
                  <a:srgbClr val="0000ff"/>
                </a:solidFill>
                <a:latin typeface="Univers 65 Bold"/>
              </a:rPr>
              <a:t>: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 marL="289080" indent="-289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 marL="289080" indent="-289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300" spc="-1" strike="noStrike">
                <a:solidFill>
                  <a:srgbClr val="0000ff"/>
                </a:solidFill>
                <a:latin typeface="Univers 65 Bold"/>
              </a:rPr>
              <a:t>	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609480" y="2427120"/>
            <a:ext cx="7979040" cy="520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Univers 65 Bold"/>
              </a:rPr>
              <a:t>Sistemas:  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693720" y="3125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622440" y="3084480"/>
            <a:ext cx="3327120" cy="687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Univers 65 Bold"/>
              </a:rPr>
              <a:t>Factores Críticos de Éxito</a:t>
            </a:r>
            <a:r>
              <a:rPr b="1" lang="es-ES_tradnl" sz="1300" spc="-1" strike="noStrike">
                <a:solidFill>
                  <a:srgbClr val="000000"/>
                </a:solidFill>
                <a:latin typeface="Univers 65 Bold"/>
              </a:rPr>
              <a:t>: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Univers 65 Bold"/>
              </a:rPr>
              <a:t>  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4670280" y="4037040"/>
            <a:ext cx="4023000" cy="687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300" spc="-1" strike="noStrike">
                <a:solidFill>
                  <a:srgbClr val="0000ff"/>
                </a:solidFill>
                <a:latin typeface="Univers 65 Bold"/>
              </a:rPr>
              <a:t>	</a:t>
            </a:r>
            <a:r>
              <a:rPr b="1" i="1" lang="es-ES_tradnl" sz="1300" spc="-1" strike="noStrike">
                <a:solidFill>
                  <a:srgbClr val="0000ff"/>
                </a:solidFill>
                <a:latin typeface="Univers 65 Bold"/>
              </a:rPr>
              <a:t>Controles relacionados con los riesgos</a:t>
            </a:r>
            <a:r>
              <a:rPr b="1" lang="es-ES_tradnl" sz="1300" spc="-1" strike="noStrike">
                <a:solidFill>
                  <a:srgbClr val="0000ff"/>
                </a:solidFill>
                <a:latin typeface="Univers 65 Bold"/>
              </a:rPr>
              <a:t>: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 marL="289080" indent="-289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300" spc="-1" strike="noStrike">
                <a:solidFill>
                  <a:srgbClr val="0000ff"/>
                </a:solidFill>
                <a:latin typeface="Univers 65 Bold"/>
              </a:rPr>
              <a:t> 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 marL="289080" indent="-289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300" spc="-1" strike="noStrike">
                <a:solidFill>
                  <a:srgbClr val="0000ff"/>
                </a:solidFill>
                <a:latin typeface="Univers 65 Bold"/>
              </a:rPr>
              <a:t>	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641520" y="4017960"/>
            <a:ext cx="3327120" cy="687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Univers 65 Bold"/>
              </a:rPr>
              <a:t>Riesgos de negocios que amenazan los objetivos</a:t>
            </a:r>
            <a:r>
              <a:rPr b="1" lang="es-ES_tradnl" sz="1300" spc="-1" strike="noStrike">
                <a:solidFill>
                  <a:srgbClr val="000000"/>
                </a:solidFill>
                <a:latin typeface="Univers 65 Bold"/>
              </a:rPr>
              <a:t>: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639720" y="4987800"/>
            <a:ext cx="8026560" cy="1083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Univers 65 Bold"/>
              </a:rPr>
              <a:t>Oportunidades para mejorar el rendimiento: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8" name="Line 11"/>
          <p:cNvSpPr/>
          <p:nvPr/>
        </p:nvSpPr>
        <p:spPr>
          <a:xfrm>
            <a:off x="4010040" y="3444840"/>
            <a:ext cx="6062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9" name="Line 12"/>
          <p:cNvSpPr/>
          <p:nvPr/>
        </p:nvSpPr>
        <p:spPr>
          <a:xfrm>
            <a:off x="3967200" y="4384800"/>
            <a:ext cx="6778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hacemos el análisis de riesgo en los procesos?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0" y="97632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Construcción de matrices de riesg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572" name="Group 4"/>
          <p:cNvGrpSpPr/>
          <p:nvPr/>
        </p:nvGrpSpPr>
        <p:grpSpPr>
          <a:xfrm>
            <a:off x="401760" y="1801800"/>
            <a:ext cx="8346600" cy="4889520"/>
            <a:chOff x="401760" y="1801800"/>
            <a:chExt cx="8346600" cy="4889520"/>
          </a:xfrm>
        </p:grpSpPr>
        <p:sp>
          <p:nvSpPr>
            <p:cNvPr id="573" name="Rectangle 5"/>
            <p:cNvSpPr/>
            <p:nvPr/>
          </p:nvSpPr>
          <p:spPr>
            <a:xfrm>
              <a:off x="403560" y="1801800"/>
              <a:ext cx="8344800" cy="4889520"/>
            </a:xfrm>
            <a:prstGeom prst="rect">
              <a:avLst/>
            </a:prstGeom>
            <a:solidFill>
              <a:srgbClr val="f7e4d1"/>
            </a:solidFill>
            <a:ln w="28440">
              <a:solidFill>
                <a:srgbClr val="114ffb"/>
              </a:solidFill>
              <a:miter/>
            </a:ln>
            <a:effectLst>
              <a:outerShdw dist="91658" dir="3382340" blurRad="0" rotWithShape="0">
                <a:srgbClr val="ff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4" name="Rectangle 6"/>
            <p:cNvSpPr/>
            <p:nvPr/>
          </p:nvSpPr>
          <p:spPr>
            <a:xfrm>
              <a:off x="403560" y="1801800"/>
              <a:ext cx="8344800" cy="42228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5" name="Line 7"/>
            <p:cNvSpPr/>
            <p:nvPr/>
          </p:nvSpPr>
          <p:spPr>
            <a:xfrm>
              <a:off x="216972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6" name="Line 8"/>
            <p:cNvSpPr/>
            <p:nvPr/>
          </p:nvSpPr>
          <p:spPr>
            <a:xfrm>
              <a:off x="389772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7" name="Line 9"/>
            <p:cNvSpPr/>
            <p:nvPr/>
          </p:nvSpPr>
          <p:spPr>
            <a:xfrm>
              <a:off x="746568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8" name="Line 10"/>
            <p:cNvSpPr/>
            <p:nvPr/>
          </p:nvSpPr>
          <p:spPr>
            <a:xfrm>
              <a:off x="789012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9" name="Line 11"/>
            <p:cNvSpPr/>
            <p:nvPr/>
          </p:nvSpPr>
          <p:spPr>
            <a:xfrm>
              <a:off x="831708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0" name="Line 12"/>
            <p:cNvSpPr/>
            <p:nvPr/>
          </p:nvSpPr>
          <p:spPr>
            <a:xfrm>
              <a:off x="874224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1" name="Line 13"/>
            <p:cNvSpPr/>
            <p:nvPr/>
          </p:nvSpPr>
          <p:spPr>
            <a:xfrm>
              <a:off x="703872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2" name="Line 14"/>
            <p:cNvSpPr/>
            <p:nvPr/>
          </p:nvSpPr>
          <p:spPr>
            <a:xfrm>
              <a:off x="661536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3" name="Line 15"/>
            <p:cNvSpPr/>
            <p:nvPr/>
          </p:nvSpPr>
          <p:spPr>
            <a:xfrm>
              <a:off x="618912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4" name="Line 16"/>
            <p:cNvSpPr/>
            <p:nvPr/>
          </p:nvSpPr>
          <p:spPr>
            <a:xfrm>
              <a:off x="567936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5" name="Text Box 17"/>
            <p:cNvSpPr/>
            <p:nvPr/>
          </p:nvSpPr>
          <p:spPr>
            <a:xfrm>
              <a:off x="401760" y="1862280"/>
              <a:ext cx="17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Riesg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6" name="Text Box 18"/>
            <p:cNvSpPr/>
            <p:nvPr/>
          </p:nvSpPr>
          <p:spPr>
            <a:xfrm>
              <a:off x="3972600" y="1877760"/>
              <a:ext cx="161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ontrol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7" name="Text Box 19"/>
            <p:cNvSpPr/>
            <p:nvPr/>
          </p:nvSpPr>
          <p:spPr>
            <a:xfrm>
              <a:off x="5750640" y="18201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P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8" name="Text Box 20"/>
            <p:cNvSpPr/>
            <p:nvPr/>
          </p:nvSpPr>
          <p:spPr>
            <a:xfrm>
              <a:off x="6221880" y="183888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9" name="Text Box 21"/>
            <p:cNvSpPr/>
            <p:nvPr/>
          </p:nvSpPr>
          <p:spPr>
            <a:xfrm>
              <a:off x="6647040" y="1838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0" name="Text Box 22"/>
            <p:cNvSpPr/>
            <p:nvPr/>
          </p:nvSpPr>
          <p:spPr>
            <a:xfrm>
              <a:off x="7073280" y="183888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U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1" name="Text Box 23"/>
            <p:cNvSpPr/>
            <p:nvPr/>
          </p:nvSpPr>
          <p:spPr>
            <a:xfrm>
              <a:off x="7498440" y="183888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SA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2" name="Text Box 24"/>
            <p:cNvSpPr/>
            <p:nvPr/>
          </p:nvSpPr>
          <p:spPr>
            <a:xfrm>
              <a:off x="7923600" y="1838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3" name="Text Box 25"/>
            <p:cNvSpPr/>
            <p:nvPr/>
          </p:nvSpPr>
          <p:spPr>
            <a:xfrm>
              <a:off x="8349840" y="183888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U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4" name="Text Box 26"/>
            <p:cNvSpPr/>
            <p:nvPr/>
          </p:nvSpPr>
          <p:spPr>
            <a:xfrm>
              <a:off x="507600" y="2264400"/>
              <a:ext cx="165528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No se generan notas por: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 Cotizaciones por afiliado o centro de trabaj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 Cálculo de Cotizaciones por tas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 Sumatoria de cotizaciones vs. totales de autoliquidación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5" name="Text Box 27"/>
            <p:cNvSpPr/>
            <p:nvPr/>
          </p:nvSpPr>
          <p:spPr>
            <a:xfrm>
              <a:off x="2219400" y="1877760"/>
              <a:ext cx="161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Implicacion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6" name="Text Box 28"/>
            <p:cNvSpPr/>
            <p:nvPr/>
          </p:nvSpPr>
          <p:spPr>
            <a:xfrm>
              <a:off x="2161440" y="2273760"/>
              <a:ext cx="1699560" cy="16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 Disminución del ingres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 Implicación legal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7" name="Text Box 29"/>
            <p:cNvSpPr/>
            <p:nvPr/>
          </p:nvSpPr>
          <p:spPr>
            <a:xfrm>
              <a:off x="3965760" y="2267640"/>
              <a:ext cx="1550520" cy="12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 Operaciones 200X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8" name="Text Box 30"/>
            <p:cNvSpPr/>
            <p:nvPr/>
          </p:nvSpPr>
          <p:spPr>
            <a:xfrm>
              <a:off x="5793480" y="2362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9" name="Text Box 31"/>
            <p:cNvSpPr/>
            <p:nvPr/>
          </p:nvSpPr>
          <p:spPr>
            <a:xfrm>
              <a:off x="6251760" y="2362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00" name="Text Box 32"/>
            <p:cNvSpPr/>
            <p:nvPr/>
          </p:nvSpPr>
          <p:spPr>
            <a:xfrm>
              <a:off x="7090920" y="23623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01" name="Text Box 33"/>
            <p:cNvSpPr/>
            <p:nvPr/>
          </p:nvSpPr>
          <p:spPr>
            <a:xfrm>
              <a:off x="7526520" y="2362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02" name="Text Box 34"/>
            <p:cNvSpPr/>
            <p:nvPr/>
          </p:nvSpPr>
          <p:spPr>
            <a:xfrm>
              <a:off x="6671520" y="2362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03" name="Text Box 35"/>
            <p:cNvSpPr/>
            <p:nvPr/>
          </p:nvSpPr>
          <p:spPr>
            <a:xfrm>
              <a:off x="8406000" y="23623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04" name="Text Box 36"/>
            <p:cNvSpPr/>
            <p:nvPr/>
          </p:nvSpPr>
          <p:spPr>
            <a:xfrm>
              <a:off x="7941600" y="2362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hacemos el análisis de riesgo en los procesos?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0" y="97632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Construcción de matrices de riesg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318960" y="1817640"/>
            <a:ext cx="8567640" cy="4854600"/>
            <a:chOff x="318960" y="1817640"/>
            <a:chExt cx="8567640" cy="4854600"/>
          </a:xfrm>
        </p:grpSpPr>
        <p:sp>
          <p:nvSpPr>
            <p:cNvPr id="608" name="Rectangle 5"/>
            <p:cNvSpPr/>
            <p:nvPr/>
          </p:nvSpPr>
          <p:spPr>
            <a:xfrm>
              <a:off x="320760" y="1817640"/>
              <a:ext cx="8484840" cy="4854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114ffb"/>
              </a:solidFill>
              <a:miter/>
            </a:ln>
            <a:effectLst>
              <a:outerShdw dist="91658" dir="3382340" blurRad="0" rotWithShape="0">
                <a:srgbClr val="ff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320760" y="1817640"/>
              <a:ext cx="8484840" cy="4194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0" name="Line 7"/>
            <p:cNvSpPr/>
            <p:nvPr/>
          </p:nvSpPr>
          <p:spPr>
            <a:xfrm>
              <a:off x="211680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1" name="Line 8"/>
            <p:cNvSpPr/>
            <p:nvPr/>
          </p:nvSpPr>
          <p:spPr>
            <a:xfrm>
              <a:off x="387360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2" name="Line 9"/>
            <p:cNvSpPr/>
            <p:nvPr/>
          </p:nvSpPr>
          <p:spPr>
            <a:xfrm>
              <a:off x="75013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3" name="Line 10"/>
            <p:cNvSpPr/>
            <p:nvPr/>
          </p:nvSpPr>
          <p:spPr>
            <a:xfrm>
              <a:off x="793296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4" name="Line 11"/>
            <p:cNvSpPr/>
            <p:nvPr/>
          </p:nvSpPr>
          <p:spPr>
            <a:xfrm>
              <a:off x="83671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5" name="Line 12"/>
            <p:cNvSpPr/>
            <p:nvPr/>
          </p:nvSpPr>
          <p:spPr>
            <a:xfrm>
              <a:off x="87991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6" name="Line 13"/>
            <p:cNvSpPr/>
            <p:nvPr/>
          </p:nvSpPr>
          <p:spPr>
            <a:xfrm>
              <a:off x="706716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7" name="Line 14"/>
            <p:cNvSpPr/>
            <p:nvPr/>
          </p:nvSpPr>
          <p:spPr>
            <a:xfrm>
              <a:off x="663696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8" name="Line 15"/>
            <p:cNvSpPr/>
            <p:nvPr/>
          </p:nvSpPr>
          <p:spPr>
            <a:xfrm>
              <a:off x="620316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9" name="Line 16"/>
            <p:cNvSpPr/>
            <p:nvPr/>
          </p:nvSpPr>
          <p:spPr>
            <a:xfrm>
              <a:off x="56851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0" name="Text Box 17"/>
            <p:cNvSpPr/>
            <p:nvPr/>
          </p:nvSpPr>
          <p:spPr>
            <a:xfrm>
              <a:off x="318960" y="1877760"/>
              <a:ext cx="179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Riesg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1" name="Text Box 18"/>
            <p:cNvSpPr/>
            <p:nvPr/>
          </p:nvSpPr>
          <p:spPr>
            <a:xfrm>
              <a:off x="3949920" y="1892880"/>
              <a:ext cx="163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Control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2" name="Text Box 19"/>
            <p:cNvSpPr/>
            <p:nvPr/>
          </p:nvSpPr>
          <p:spPr>
            <a:xfrm>
              <a:off x="5772600" y="18360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P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3" name="Text Box 20"/>
            <p:cNvSpPr/>
            <p:nvPr/>
          </p:nvSpPr>
          <p:spPr>
            <a:xfrm>
              <a:off x="6246360" y="185436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I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4" name="Text Box 21"/>
            <p:cNvSpPr/>
            <p:nvPr/>
          </p:nvSpPr>
          <p:spPr>
            <a:xfrm>
              <a:off x="6680880" y="1854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5" name="Text Box 22"/>
            <p:cNvSpPr/>
            <p:nvPr/>
          </p:nvSpPr>
          <p:spPr>
            <a:xfrm>
              <a:off x="7120440" y="18543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CU1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6" name="Text Box 23"/>
            <p:cNvSpPr/>
            <p:nvPr/>
          </p:nvSpPr>
          <p:spPr>
            <a:xfrm>
              <a:off x="7550280" y="185436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SA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7" name="Text Box 24"/>
            <p:cNvSpPr/>
            <p:nvPr/>
          </p:nvSpPr>
          <p:spPr>
            <a:xfrm>
              <a:off x="7978680" y="1854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R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8" name="Text Box 25"/>
            <p:cNvSpPr/>
            <p:nvPr/>
          </p:nvSpPr>
          <p:spPr>
            <a:xfrm>
              <a:off x="8417880" y="18543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CU2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9" name="Text Box 26"/>
            <p:cNvSpPr/>
            <p:nvPr/>
          </p:nvSpPr>
          <p:spPr>
            <a:xfrm>
              <a:off x="426600" y="2277000"/>
              <a:ext cx="1683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La JD ha decidido trasladar las oficinas administrativas fuera de San Salvador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0" name="Text Box 27"/>
            <p:cNvSpPr/>
            <p:nvPr/>
          </p:nvSpPr>
          <p:spPr>
            <a:xfrm>
              <a:off x="2167200" y="1892880"/>
              <a:ext cx="163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Implicacion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1" name="Text Box 28"/>
            <p:cNvSpPr/>
            <p:nvPr/>
          </p:nvSpPr>
          <p:spPr>
            <a:xfrm>
              <a:off x="2108160" y="2286360"/>
              <a:ext cx="1728000" cy="29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Nuevos costos (Transporte)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1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Posibilidad de deterioro del Capital Humano (Renuncia de personal ya capacitado y con experiencia)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1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???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2" name="Text Box 29"/>
            <p:cNvSpPr/>
            <p:nvPr/>
          </p:nvSpPr>
          <p:spPr>
            <a:xfrm>
              <a:off x="3943080" y="2279880"/>
              <a:ext cx="1576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No definidos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3" name="Text Box 30"/>
            <p:cNvSpPr/>
            <p:nvPr/>
          </p:nvSpPr>
          <p:spPr>
            <a:xfrm>
              <a:off x="580500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4" name="Text Box 31"/>
            <p:cNvSpPr/>
            <p:nvPr/>
          </p:nvSpPr>
          <p:spPr>
            <a:xfrm>
              <a:off x="627084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5" name="Text Box 32"/>
            <p:cNvSpPr/>
            <p:nvPr/>
          </p:nvSpPr>
          <p:spPr>
            <a:xfrm>
              <a:off x="7121880" y="2373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6" name="Text Box 33"/>
            <p:cNvSpPr/>
            <p:nvPr/>
          </p:nvSpPr>
          <p:spPr>
            <a:xfrm>
              <a:off x="756720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7" name="Text Box 34"/>
            <p:cNvSpPr/>
            <p:nvPr/>
          </p:nvSpPr>
          <p:spPr>
            <a:xfrm>
              <a:off x="669636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8" name="Text Box 35"/>
            <p:cNvSpPr/>
            <p:nvPr/>
          </p:nvSpPr>
          <p:spPr>
            <a:xfrm>
              <a:off x="8460360" y="2373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9" name="Text Box 36"/>
            <p:cNvSpPr/>
            <p:nvPr/>
          </p:nvSpPr>
          <p:spPr>
            <a:xfrm>
              <a:off x="7989120" y="23731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hacemos el análisis de riesgo en los procesos?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0" y="97632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Construcción de matrices de riesg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642" name="Group 4"/>
          <p:cNvGrpSpPr/>
          <p:nvPr/>
        </p:nvGrpSpPr>
        <p:grpSpPr>
          <a:xfrm>
            <a:off x="290520" y="1817640"/>
            <a:ext cx="8562600" cy="4854600"/>
            <a:chOff x="290520" y="1817640"/>
            <a:chExt cx="8562600" cy="4854600"/>
          </a:xfrm>
        </p:grpSpPr>
        <p:sp>
          <p:nvSpPr>
            <p:cNvPr id="643" name="Rectangle 5"/>
            <p:cNvSpPr/>
            <p:nvPr/>
          </p:nvSpPr>
          <p:spPr>
            <a:xfrm>
              <a:off x="292320" y="1817640"/>
              <a:ext cx="8501400" cy="485460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114ffb"/>
              </a:solidFill>
              <a:miter/>
            </a:ln>
            <a:effectLst>
              <a:outerShdw dist="91658" dir="3382340" blurRad="0" rotWithShape="0">
                <a:srgbClr val="ff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44" name="Rectangle 6"/>
            <p:cNvSpPr/>
            <p:nvPr/>
          </p:nvSpPr>
          <p:spPr>
            <a:xfrm>
              <a:off x="292320" y="1817640"/>
              <a:ext cx="8501400" cy="4194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45" name="Line 7"/>
            <p:cNvSpPr/>
            <p:nvPr/>
          </p:nvSpPr>
          <p:spPr>
            <a:xfrm>
              <a:off x="209124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46" name="Line 8"/>
            <p:cNvSpPr/>
            <p:nvPr/>
          </p:nvSpPr>
          <p:spPr>
            <a:xfrm>
              <a:off x="385128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47" name="Line 9"/>
            <p:cNvSpPr/>
            <p:nvPr/>
          </p:nvSpPr>
          <p:spPr>
            <a:xfrm>
              <a:off x="748548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48" name="Line 10"/>
            <p:cNvSpPr/>
            <p:nvPr/>
          </p:nvSpPr>
          <p:spPr>
            <a:xfrm>
              <a:off x="791784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49" name="Line 11"/>
            <p:cNvSpPr/>
            <p:nvPr/>
          </p:nvSpPr>
          <p:spPr>
            <a:xfrm>
              <a:off x="83527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0" name="Line 12"/>
            <p:cNvSpPr/>
            <p:nvPr/>
          </p:nvSpPr>
          <p:spPr>
            <a:xfrm>
              <a:off x="878544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1" name="Line 13"/>
            <p:cNvSpPr/>
            <p:nvPr/>
          </p:nvSpPr>
          <p:spPr>
            <a:xfrm>
              <a:off x="705060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2" name="Line 14"/>
            <p:cNvSpPr/>
            <p:nvPr/>
          </p:nvSpPr>
          <p:spPr>
            <a:xfrm>
              <a:off x="66193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3" name="Line 15"/>
            <p:cNvSpPr/>
            <p:nvPr/>
          </p:nvSpPr>
          <p:spPr>
            <a:xfrm>
              <a:off x="618516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4" name="Line 16"/>
            <p:cNvSpPr/>
            <p:nvPr/>
          </p:nvSpPr>
          <p:spPr>
            <a:xfrm>
              <a:off x="566604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5" name="Text Box 17"/>
            <p:cNvSpPr/>
            <p:nvPr/>
          </p:nvSpPr>
          <p:spPr>
            <a:xfrm>
              <a:off x="290520" y="1877760"/>
              <a:ext cx="180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Riesg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6" name="Text Box 18"/>
            <p:cNvSpPr/>
            <p:nvPr/>
          </p:nvSpPr>
          <p:spPr>
            <a:xfrm>
              <a:off x="3927600" y="1892880"/>
              <a:ext cx="164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ontrol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7" name="Text Box 19"/>
            <p:cNvSpPr/>
            <p:nvPr/>
          </p:nvSpPr>
          <p:spPr>
            <a:xfrm>
              <a:off x="5738400" y="18360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P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8" name="Text Box 20"/>
            <p:cNvSpPr/>
            <p:nvPr/>
          </p:nvSpPr>
          <p:spPr>
            <a:xfrm>
              <a:off x="6218280" y="185436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9" name="Text Box 21"/>
            <p:cNvSpPr/>
            <p:nvPr/>
          </p:nvSpPr>
          <p:spPr>
            <a:xfrm>
              <a:off x="6652080" y="1854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0" name="Text Box 22"/>
            <p:cNvSpPr/>
            <p:nvPr/>
          </p:nvSpPr>
          <p:spPr>
            <a:xfrm>
              <a:off x="7085520" y="18543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U1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1" name="Text Box 23"/>
            <p:cNvSpPr/>
            <p:nvPr/>
          </p:nvSpPr>
          <p:spPr>
            <a:xfrm>
              <a:off x="7518960" y="185436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SA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2" name="Text Box 24"/>
            <p:cNvSpPr/>
            <p:nvPr/>
          </p:nvSpPr>
          <p:spPr>
            <a:xfrm>
              <a:off x="7952040" y="1854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8384400" y="18543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U2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4" name="Text Box 26"/>
            <p:cNvSpPr/>
            <p:nvPr/>
          </p:nvSpPr>
          <p:spPr>
            <a:xfrm>
              <a:off x="398520" y="2277000"/>
              <a:ext cx="1685880" cy="26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La JD ha decidido iniciar un nuevo proyecto de ¨Bienes Raíces ¨ que incluye: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) Construcción – Venta casas residenciales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b) Compra – Alquiler- Vent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5" name="Text Box 27"/>
            <p:cNvSpPr/>
            <p:nvPr/>
          </p:nvSpPr>
          <p:spPr>
            <a:xfrm>
              <a:off x="2142000" y="1892880"/>
              <a:ext cx="16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Implicacion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6" name="Text Box 28"/>
            <p:cNvSpPr/>
            <p:nvPr/>
          </p:nvSpPr>
          <p:spPr>
            <a:xfrm>
              <a:off x="2082960" y="2286360"/>
              <a:ext cx="1731240" cy="41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Posibles Pérdidas derivadas de: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Inexperiencia en este tipo de construcción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Costos de construir pocas casas es más alto que para otras constructoras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Costos financieros adicionales en caso de no vender oportunamente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7" name="Text Box 29"/>
            <p:cNvSpPr/>
            <p:nvPr/>
          </p:nvSpPr>
          <p:spPr>
            <a:xfrm>
              <a:off x="3920760" y="2279880"/>
              <a:ext cx="1579320" cy="32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Sistemas de Controles presupuestarios aún en proceso de diseño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Políticas y procedimientos específicos de C/I no definidos (incluyendo políticas de no conflicto de intereses)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8" name="Text Box 30"/>
            <p:cNvSpPr/>
            <p:nvPr/>
          </p:nvSpPr>
          <p:spPr>
            <a:xfrm>
              <a:off x="578556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9" name="Text Box 31"/>
            <p:cNvSpPr/>
            <p:nvPr/>
          </p:nvSpPr>
          <p:spPr>
            <a:xfrm>
              <a:off x="625248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70" name="Text Box 32"/>
            <p:cNvSpPr/>
            <p:nvPr/>
          </p:nvSpPr>
          <p:spPr>
            <a:xfrm>
              <a:off x="7105680" y="2373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71" name="Text Box 33"/>
            <p:cNvSpPr/>
            <p:nvPr/>
          </p:nvSpPr>
          <p:spPr>
            <a:xfrm>
              <a:off x="755064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667836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73" name="Text Box 35"/>
            <p:cNvSpPr/>
            <p:nvPr/>
          </p:nvSpPr>
          <p:spPr>
            <a:xfrm>
              <a:off x="8446320" y="2373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74" name="Text Box 36"/>
            <p:cNvSpPr/>
            <p:nvPr/>
          </p:nvSpPr>
          <p:spPr>
            <a:xfrm>
              <a:off x="7973280" y="23731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hacemos el análisis de riesgo en los procesos?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76" name="Rectangle 3"/>
          <p:cNvSpPr/>
          <p:nvPr/>
        </p:nvSpPr>
        <p:spPr>
          <a:xfrm>
            <a:off x="0" y="97632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Construcción de matrices de riesg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677" name="Group 4"/>
          <p:cNvGrpSpPr/>
          <p:nvPr/>
        </p:nvGrpSpPr>
        <p:grpSpPr>
          <a:xfrm>
            <a:off x="387360" y="1817640"/>
            <a:ext cx="8262360" cy="4854600"/>
            <a:chOff x="387360" y="1817640"/>
            <a:chExt cx="8262360" cy="4854600"/>
          </a:xfrm>
        </p:grpSpPr>
        <p:sp>
          <p:nvSpPr>
            <p:cNvPr id="678" name="Rectangle 5"/>
            <p:cNvSpPr/>
            <p:nvPr/>
          </p:nvSpPr>
          <p:spPr>
            <a:xfrm>
              <a:off x="389160" y="1817640"/>
              <a:ext cx="8184240" cy="4854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114ffb"/>
              </a:solidFill>
              <a:miter/>
            </a:ln>
            <a:effectLst>
              <a:outerShdw dist="91658" dir="3382340" blurRad="0" rotWithShape="0">
                <a:srgbClr val="ff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79" name="Rectangle 6"/>
            <p:cNvSpPr/>
            <p:nvPr/>
          </p:nvSpPr>
          <p:spPr>
            <a:xfrm>
              <a:off x="389160" y="1817640"/>
              <a:ext cx="8184240" cy="4194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0" name="Line 7"/>
            <p:cNvSpPr/>
            <p:nvPr/>
          </p:nvSpPr>
          <p:spPr>
            <a:xfrm>
              <a:off x="212148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1" name="Line 8"/>
            <p:cNvSpPr/>
            <p:nvPr/>
          </p:nvSpPr>
          <p:spPr>
            <a:xfrm>
              <a:off x="381600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2" name="Line 9"/>
            <p:cNvSpPr/>
            <p:nvPr/>
          </p:nvSpPr>
          <p:spPr>
            <a:xfrm>
              <a:off x="731520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3" name="Line 10"/>
            <p:cNvSpPr/>
            <p:nvPr/>
          </p:nvSpPr>
          <p:spPr>
            <a:xfrm>
              <a:off x="77317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4" name="Line 11"/>
            <p:cNvSpPr/>
            <p:nvPr/>
          </p:nvSpPr>
          <p:spPr>
            <a:xfrm>
              <a:off x="815040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5" name="Line 12"/>
            <p:cNvSpPr/>
            <p:nvPr/>
          </p:nvSpPr>
          <p:spPr>
            <a:xfrm>
              <a:off x="856728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6" name="Line 13"/>
            <p:cNvSpPr/>
            <p:nvPr/>
          </p:nvSpPr>
          <p:spPr>
            <a:xfrm>
              <a:off x="68965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7" name="Line 14"/>
            <p:cNvSpPr/>
            <p:nvPr/>
          </p:nvSpPr>
          <p:spPr>
            <a:xfrm>
              <a:off x="648144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8" name="Line 15"/>
            <p:cNvSpPr/>
            <p:nvPr/>
          </p:nvSpPr>
          <p:spPr>
            <a:xfrm>
              <a:off x="60631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9" name="Line 16"/>
            <p:cNvSpPr/>
            <p:nvPr/>
          </p:nvSpPr>
          <p:spPr>
            <a:xfrm>
              <a:off x="556308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0" name="Text Box 17"/>
            <p:cNvSpPr/>
            <p:nvPr/>
          </p:nvSpPr>
          <p:spPr>
            <a:xfrm>
              <a:off x="387360" y="1877760"/>
              <a:ext cx="173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Riesg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1" name="Text Box 18"/>
            <p:cNvSpPr/>
            <p:nvPr/>
          </p:nvSpPr>
          <p:spPr>
            <a:xfrm>
              <a:off x="3889440" y="1892880"/>
              <a:ext cx="15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ontrol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2" name="Text Box 19"/>
            <p:cNvSpPr/>
            <p:nvPr/>
          </p:nvSpPr>
          <p:spPr>
            <a:xfrm>
              <a:off x="5632560" y="18360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P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3" name="Text Box 20"/>
            <p:cNvSpPr/>
            <p:nvPr/>
          </p:nvSpPr>
          <p:spPr>
            <a:xfrm>
              <a:off x="6095520" y="185436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4" name="Text Box 21"/>
            <p:cNvSpPr/>
            <p:nvPr/>
          </p:nvSpPr>
          <p:spPr>
            <a:xfrm>
              <a:off x="6512040" y="1854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5" name="Text Box 22"/>
            <p:cNvSpPr/>
            <p:nvPr/>
          </p:nvSpPr>
          <p:spPr>
            <a:xfrm>
              <a:off x="6939720" y="18543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U1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6" name="Text Box 23"/>
            <p:cNvSpPr/>
            <p:nvPr/>
          </p:nvSpPr>
          <p:spPr>
            <a:xfrm>
              <a:off x="7347960" y="185436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SA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7" name="Text Box 24"/>
            <p:cNvSpPr/>
            <p:nvPr/>
          </p:nvSpPr>
          <p:spPr>
            <a:xfrm>
              <a:off x="7764120" y="1854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8" name="Text Box 25"/>
            <p:cNvSpPr/>
            <p:nvPr/>
          </p:nvSpPr>
          <p:spPr>
            <a:xfrm>
              <a:off x="8181000" y="18543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U2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9" name="Text Box 26"/>
            <p:cNvSpPr/>
            <p:nvPr/>
          </p:nvSpPr>
          <p:spPr>
            <a:xfrm>
              <a:off x="491400" y="2277000"/>
              <a:ext cx="1623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dquisición o arrendamiento de locales no apropiados para …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0" name="Text Box 27"/>
            <p:cNvSpPr/>
            <p:nvPr/>
          </p:nvSpPr>
          <p:spPr>
            <a:xfrm>
              <a:off x="2170080" y="1892880"/>
              <a:ext cx="15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Implicacion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1" name="Text Box 28"/>
            <p:cNvSpPr/>
            <p:nvPr/>
          </p:nvSpPr>
          <p:spPr>
            <a:xfrm>
              <a:off x="2113200" y="2286360"/>
              <a:ext cx="166680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2" name="Text Box 29"/>
            <p:cNvSpPr/>
            <p:nvPr/>
          </p:nvSpPr>
          <p:spPr>
            <a:xfrm>
              <a:off x="3882960" y="2279880"/>
              <a:ext cx="152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3" name="Text Box 30"/>
            <p:cNvSpPr/>
            <p:nvPr/>
          </p:nvSpPr>
          <p:spPr>
            <a:xfrm>
              <a:off x="567432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4" name="Text Box 31"/>
            <p:cNvSpPr/>
            <p:nvPr/>
          </p:nvSpPr>
          <p:spPr>
            <a:xfrm>
              <a:off x="612360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5" name="Text Box 32"/>
            <p:cNvSpPr/>
            <p:nvPr/>
          </p:nvSpPr>
          <p:spPr>
            <a:xfrm>
              <a:off x="6944760" y="2373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6" name="Text Box 33"/>
            <p:cNvSpPr/>
            <p:nvPr/>
          </p:nvSpPr>
          <p:spPr>
            <a:xfrm>
              <a:off x="737424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7" name="Text Box 34"/>
            <p:cNvSpPr/>
            <p:nvPr/>
          </p:nvSpPr>
          <p:spPr>
            <a:xfrm>
              <a:off x="653364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8" name="Text Box 35"/>
            <p:cNvSpPr/>
            <p:nvPr/>
          </p:nvSpPr>
          <p:spPr>
            <a:xfrm>
              <a:off x="8233920" y="2373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9" name="Text Box 36"/>
            <p:cNvSpPr/>
            <p:nvPr/>
          </p:nvSpPr>
          <p:spPr>
            <a:xfrm>
              <a:off x="7779240" y="23731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MCBD07306_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528560" cy="18273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sylvester-animated"/>
          <p:cNvPicPr/>
          <p:nvPr/>
        </p:nvPicPr>
        <p:blipFill>
          <a:blip r:embed="rId2"/>
          <a:stretch/>
        </p:blipFill>
        <p:spPr>
          <a:xfrm rot="19672800">
            <a:off x="3059280" y="1341360"/>
            <a:ext cx="3019320" cy="35053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4"/>
          <p:cNvSpPr/>
          <p:nvPr/>
        </p:nvSpPr>
        <p:spPr>
          <a:xfrm>
            <a:off x="0" y="2133720"/>
            <a:ext cx="9144000" cy="4724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720720" y="2743200"/>
            <a:ext cx="7719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7e4d1"/>
                </a:solidFill>
                <a:latin typeface="Lucida Sans Unicode"/>
              </a:rPr>
              <a:t>Cómo implementar un adecuado Sistema de Gestión de riesgos en la organización</a:t>
            </a:r>
            <a:endParaRPr b="1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pic>
        <p:nvPicPr>
          <p:cNvPr id="714" name="Picture 11" descr="MPj03093930000[1]"/>
          <p:cNvPicPr/>
          <p:nvPr/>
        </p:nvPicPr>
        <p:blipFill>
          <a:blip r:embed="rId3"/>
          <a:stretch/>
        </p:blipFill>
        <p:spPr>
          <a:xfrm>
            <a:off x="2682720" y="4456080"/>
            <a:ext cx="3657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2"/>
          <p:cNvSpPr/>
          <p:nvPr/>
        </p:nvSpPr>
        <p:spPr>
          <a:xfrm>
            <a:off x="428760" y="15084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Univers 65 Bold"/>
              </a:rPr>
              <a:t>Desarrollo del criterio para evaluar el Riesg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16" name="Rectangle 3"/>
          <p:cNvSpPr/>
          <p:nvPr/>
        </p:nvSpPr>
        <p:spPr>
          <a:xfrm>
            <a:off x="7050240" y="1789200"/>
            <a:ext cx="874440" cy="46879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17" name="Text Box 4"/>
          <p:cNvSpPr/>
          <p:nvPr/>
        </p:nvSpPr>
        <p:spPr>
          <a:xfrm rot="10805400">
            <a:off x="7345440" y="2799360"/>
            <a:ext cx="42372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MONITOREO Y REVISIÓN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990720" y="1841400"/>
            <a:ext cx="920520" cy="448488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19" name="Text Box 6"/>
          <p:cNvSpPr/>
          <p:nvPr/>
        </p:nvSpPr>
        <p:spPr>
          <a:xfrm rot="10800000">
            <a:off x="1260000" y="2610720"/>
            <a:ext cx="423720" cy="31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COMUNICACIÓN Y CONSULT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2627280" y="2124000"/>
            <a:ext cx="3700440" cy="51588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2934360" y="2243160"/>
            <a:ext cx="283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ESTABLECER EL CONTEXT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646360" y="3027240"/>
            <a:ext cx="3714840" cy="50004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3" name="Text Box 10"/>
          <p:cNvSpPr/>
          <p:nvPr/>
        </p:nvSpPr>
        <p:spPr>
          <a:xfrm>
            <a:off x="2872440" y="3130560"/>
            <a:ext cx="310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IDENTIFICACIÓN DE RIESGOS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4" name="Rectangle 11"/>
          <p:cNvSpPr/>
          <p:nvPr/>
        </p:nvSpPr>
        <p:spPr>
          <a:xfrm>
            <a:off x="2655720" y="3936960"/>
            <a:ext cx="3691080" cy="50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5" name="Text Box 12"/>
          <p:cNvSpPr/>
          <p:nvPr/>
        </p:nvSpPr>
        <p:spPr>
          <a:xfrm>
            <a:off x="3211200" y="4011480"/>
            <a:ext cx="239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ANÁLISIS DE RIESGOS 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6" name="Rectangle 13"/>
          <p:cNvSpPr/>
          <p:nvPr/>
        </p:nvSpPr>
        <p:spPr>
          <a:xfrm>
            <a:off x="2639880" y="4802040"/>
            <a:ext cx="3710160" cy="51444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7" name="Text Box 14"/>
          <p:cNvSpPr/>
          <p:nvPr/>
        </p:nvSpPr>
        <p:spPr>
          <a:xfrm>
            <a:off x="3096360" y="4919760"/>
            <a:ext cx="278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EVALUACIÓN DEL RIESGO 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8" name="Rectangle 15"/>
          <p:cNvSpPr/>
          <p:nvPr/>
        </p:nvSpPr>
        <p:spPr>
          <a:xfrm>
            <a:off x="2643120" y="5694480"/>
            <a:ext cx="3697200" cy="51264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9" name="Text Box 16"/>
          <p:cNvSpPr/>
          <p:nvPr/>
        </p:nvSpPr>
        <p:spPr>
          <a:xfrm>
            <a:off x="3364920" y="5811840"/>
            <a:ext cx="20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TRATAR EL RIESG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0" name="Line 17"/>
          <p:cNvSpPr/>
          <p:nvPr/>
        </p:nvSpPr>
        <p:spPr>
          <a:xfrm>
            <a:off x="6330960" y="236520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1" name="Line 18"/>
          <p:cNvSpPr/>
          <p:nvPr/>
        </p:nvSpPr>
        <p:spPr>
          <a:xfrm>
            <a:off x="6362640" y="322596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2" name="Line 19"/>
          <p:cNvSpPr/>
          <p:nvPr/>
        </p:nvSpPr>
        <p:spPr>
          <a:xfrm>
            <a:off x="6367320" y="427680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3" name="Line 20"/>
          <p:cNvSpPr/>
          <p:nvPr/>
        </p:nvSpPr>
        <p:spPr>
          <a:xfrm>
            <a:off x="6362640" y="505152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4" name="Line 21"/>
          <p:cNvSpPr/>
          <p:nvPr/>
        </p:nvSpPr>
        <p:spPr>
          <a:xfrm>
            <a:off x="6356520" y="595476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5" name="Line 22"/>
          <p:cNvSpPr/>
          <p:nvPr/>
        </p:nvSpPr>
        <p:spPr>
          <a:xfrm>
            <a:off x="1930320" y="239868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6" name="Line 23"/>
          <p:cNvSpPr/>
          <p:nvPr/>
        </p:nvSpPr>
        <p:spPr>
          <a:xfrm>
            <a:off x="1951200" y="328788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7" name="Line 24"/>
          <p:cNvSpPr/>
          <p:nvPr/>
        </p:nvSpPr>
        <p:spPr>
          <a:xfrm>
            <a:off x="1944720" y="41799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8" name="Line 25"/>
          <p:cNvSpPr/>
          <p:nvPr/>
        </p:nvSpPr>
        <p:spPr>
          <a:xfrm>
            <a:off x="1951200" y="505476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9" name="Line 26"/>
          <p:cNvSpPr/>
          <p:nvPr/>
        </p:nvSpPr>
        <p:spPr>
          <a:xfrm>
            <a:off x="1957320" y="597204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0" name="Line 27"/>
          <p:cNvSpPr/>
          <p:nvPr/>
        </p:nvSpPr>
        <p:spPr>
          <a:xfrm flipV="1">
            <a:off x="7518240" y="1676520"/>
            <a:ext cx="0" cy="13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1" name="Line 28"/>
          <p:cNvSpPr/>
          <p:nvPr/>
        </p:nvSpPr>
        <p:spPr>
          <a:xfrm flipH="1">
            <a:off x="4386240" y="1690560"/>
            <a:ext cx="3132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2" name="Line 29"/>
          <p:cNvSpPr/>
          <p:nvPr/>
        </p:nvSpPr>
        <p:spPr>
          <a:xfrm>
            <a:off x="4400640" y="1706400"/>
            <a:ext cx="0" cy="4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3" name="Line 30"/>
          <p:cNvSpPr/>
          <p:nvPr/>
        </p:nvSpPr>
        <p:spPr>
          <a:xfrm>
            <a:off x="4438800" y="2660760"/>
            <a:ext cx="0" cy="36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4" name="Line 31"/>
          <p:cNvSpPr/>
          <p:nvPr/>
        </p:nvSpPr>
        <p:spPr>
          <a:xfrm>
            <a:off x="4430880" y="3535200"/>
            <a:ext cx="0" cy="370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5" name="Line 32"/>
          <p:cNvSpPr/>
          <p:nvPr/>
        </p:nvSpPr>
        <p:spPr>
          <a:xfrm>
            <a:off x="4398840" y="4440240"/>
            <a:ext cx="0" cy="36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6" name="Line 33"/>
          <p:cNvSpPr/>
          <p:nvPr/>
        </p:nvSpPr>
        <p:spPr>
          <a:xfrm>
            <a:off x="4392720" y="5327640"/>
            <a:ext cx="0" cy="36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7" name="Line 34"/>
          <p:cNvSpPr/>
          <p:nvPr/>
        </p:nvSpPr>
        <p:spPr>
          <a:xfrm>
            <a:off x="4387680" y="620244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8" name="Line 35"/>
          <p:cNvSpPr/>
          <p:nvPr/>
        </p:nvSpPr>
        <p:spPr>
          <a:xfrm>
            <a:off x="4413240" y="6629400"/>
            <a:ext cx="311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9" name="Line 36"/>
          <p:cNvSpPr/>
          <p:nvPr/>
        </p:nvSpPr>
        <p:spPr>
          <a:xfrm>
            <a:off x="7531200" y="6480000"/>
            <a:ext cx="0" cy="149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"/>
          <p:cNvSpPr/>
          <p:nvPr/>
        </p:nvSpPr>
        <p:spPr>
          <a:xfrm>
            <a:off x="4091040" y="1698480"/>
            <a:ext cx="560160" cy="41119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1" name="Text Box 3"/>
          <p:cNvSpPr/>
          <p:nvPr/>
        </p:nvSpPr>
        <p:spPr>
          <a:xfrm rot="10805400">
            <a:off x="4210200" y="2872800"/>
            <a:ext cx="36288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MONITOREO Y REVIS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206280" y="1744560"/>
            <a:ext cx="590760" cy="393408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3" name="Text Box 5"/>
          <p:cNvSpPr/>
          <p:nvPr/>
        </p:nvSpPr>
        <p:spPr>
          <a:xfrm rot="10800000">
            <a:off x="304920" y="1752120"/>
            <a:ext cx="36288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COMUNICACIÓN Y CONSULT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4" name="Rectangle 6"/>
          <p:cNvSpPr/>
          <p:nvPr/>
        </p:nvSpPr>
        <p:spPr>
          <a:xfrm>
            <a:off x="1255680" y="1992240"/>
            <a:ext cx="2371680" cy="45252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5" name="Text Box 7"/>
          <p:cNvSpPr/>
          <p:nvPr/>
        </p:nvSpPr>
        <p:spPr>
          <a:xfrm>
            <a:off x="1290600" y="207648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STABLECER EL CONTEX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6" name="Rectangle 8"/>
          <p:cNvSpPr/>
          <p:nvPr/>
        </p:nvSpPr>
        <p:spPr>
          <a:xfrm>
            <a:off x="1268280" y="2784600"/>
            <a:ext cx="2381400" cy="4381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7" name="Text Box 9"/>
          <p:cNvSpPr/>
          <p:nvPr/>
        </p:nvSpPr>
        <p:spPr>
          <a:xfrm>
            <a:off x="1266840" y="28494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IDENTIFICACIÓN DE RIESG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8" name="Rectangle 10"/>
          <p:cNvSpPr/>
          <p:nvPr/>
        </p:nvSpPr>
        <p:spPr>
          <a:xfrm>
            <a:off x="1273320" y="3583080"/>
            <a:ext cx="2366640" cy="4395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9" name="Text Box 11"/>
          <p:cNvSpPr/>
          <p:nvPr/>
        </p:nvSpPr>
        <p:spPr>
          <a:xfrm>
            <a:off x="1422360" y="367668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ANÁLISIS DE RIESGO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0" name="Rectangle 12"/>
          <p:cNvSpPr/>
          <p:nvPr/>
        </p:nvSpPr>
        <p:spPr>
          <a:xfrm>
            <a:off x="1263600" y="4341960"/>
            <a:ext cx="2378160" cy="4507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1" name="Text Box 13"/>
          <p:cNvSpPr/>
          <p:nvPr/>
        </p:nvSpPr>
        <p:spPr>
          <a:xfrm>
            <a:off x="1341360" y="4438800"/>
            <a:ext cx="21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VALUACIÓN DEL RIESGO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2" name="Rectangle 14"/>
          <p:cNvSpPr/>
          <p:nvPr/>
        </p:nvSpPr>
        <p:spPr>
          <a:xfrm>
            <a:off x="1265400" y="5122800"/>
            <a:ext cx="2369880" cy="45108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3" name="Text Box 15"/>
          <p:cNvSpPr/>
          <p:nvPr/>
        </p:nvSpPr>
        <p:spPr>
          <a:xfrm>
            <a:off x="1521000" y="5230800"/>
            <a:ext cx="15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TRATAR EL RIESG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4" name="Line 16"/>
          <p:cNvSpPr/>
          <p:nvPr/>
        </p:nvSpPr>
        <p:spPr>
          <a:xfrm>
            <a:off x="3629160" y="220500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5" name="Line 17"/>
          <p:cNvSpPr/>
          <p:nvPr/>
        </p:nvSpPr>
        <p:spPr>
          <a:xfrm>
            <a:off x="3649680" y="2959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6" name="Line 18"/>
          <p:cNvSpPr/>
          <p:nvPr/>
        </p:nvSpPr>
        <p:spPr>
          <a:xfrm>
            <a:off x="3652920" y="387972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7" name="Line 19"/>
          <p:cNvSpPr/>
          <p:nvPr/>
        </p:nvSpPr>
        <p:spPr>
          <a:xfrm>
            <a:off x="3649680" y="4559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8" name="Line 20"/>
          <p:cNvSpPr/>
          <p:nvPr/>
        </p:nvSpPr>
        <p:spPr>
          <a:xfrm>
            <a:off x="3646440" y="5351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9" name="Line 21"/>
          <p:cNvSpPr/>
          <p:nvPr/>
        </p:nvSpPr>
        <p:spPr>
          <a:xfrm>
            <a:off x="808200" y="2233440"/>
            <a:ext cx="460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0" name="Line 22"/>
          <p:cNvSpPr/>
          <p:nvPr/>
        </p:nvSpPr>
        <p:spPr>
          <a:xfrm>
            <a:off x="822240" y="3013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1" name="Line 23"/>
          <p:cNvSpPr/>
          <p:nvPr/>
        </p:nvSpPr>
        <p:spPr>
          <a:xfrm>
            <a:off x="817560" y="37958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2" name="Line 24"/>
          <p:cNvSpPr/>
          <p:nvPr/>
        </p:nvSpPr>
        <p:spPr>
          <a:xfrm>
            <a:off x="822240" y="456264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3" name="Line 25"/>
          <p:cNvSpPr/>
          <p:nvPr/>
        </p:nvSpPr>
        <p:spPr>
          <a:xfrm>
            <a:off x="825480" y="53672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4" name="Line 26"/>
          <p:cNvSpPr/>
          <p:nvPr/>
        </p:nvSpPr>
        <p:spPr>
          <a:xfrm flipV="1">
            <a:off x="4390920" y="1600200"/>
            <a:ext cx="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5" name="Line 27"/>
          <p:cNvSpPr/>
          <p:nvPr/>
        </p:nvSpPr>
        <p:spPr>
          <a:xfrm flipH="1">
            <a:off x="2382840" y="1598760"/>
            <a:ext cx="2008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6" name="Line 28"/>
          <p:cNvSpPr/>
          <p:nvPr/>
        </p:nvSpPr>
        <p:spPr>
          <a:xfrm>
            <a:off x="2392200" y="1612800"/>
            <a:ext cx="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7" name="Line 29"/>
          <p:cNvSpPr/>
          <p:nvPr/>
        </p:nvSpPr>
        <p:spPr>
          <a:xfrm>
            <a:off x="2416320" y="24638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8" name="Line 30"/>
          <p:cNvSpPr/>
          <p:nvPr/>
        </p:nvSpPr>
        <p:spPr>
          <a:xfrm>
            <a:off x="2411280" y="323064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9" name="Line 31"/>
          <p:cNvSpPr/>
          <p:nvPr/>
        </p:nvSpPr>
        <p:spPr>
          <a:xfrm>
            <a:off x="2390760" y="40244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0" name="Line 32"/>
          <p:cNvSpPr/>
          <p:nvPr/>
        </p:nvSpPr>
        <p:spPr>
          <a:xfrm>
            <a:off x="2387520" y="480204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1" name="Line 33"/>
          <p:cNvSpPr/>
          <p:nvPr/>
        </p:nvSpPr>
        <p:spPr>
          <a:xfrm>
            <a:off x="2384280" y="556884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2" name="Line 34"/>
          <p:cNvSpPr/>
          <p:nvPr/>
        </p:nvSpPr>
        <p:spPr>
          <a:xfrm>
            <a:off x="2400480" y="5943600"/>
            <a:ext cx="199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3" name="Line 35"/>
          <p:cNvSpPr/>
          <p:nvPr/>
        </p:nvSpPr>
        <p:spPr>
          <a:xfrm>
            <a:off x="4398840" y="5813280"/>
            <a:ext cx="0" cy="130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4" name="Text Box 36"/>
          <p:cNvSpPr/>
          <p:nvPr/>
        </p:nvSpPr>
        <p:spPr>
          <a:xfrm>
            <a:off x="4952880" y="1600200"/>
            <a:ext cx="3962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Establecer el contexto estratégic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Establecer el contexto Organizacional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Establecer el contexto de Gestión de riesg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Definir los criterios de la evaluación de riesgo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Definir la estructura de riesgo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5" name="Rectangle 37"/>
          <p:cNvSpPr/>
          <p:nvPr/>
        </p:nvSpPr>
        <p:spPr>
          <a:xfrm>
            <a:off x="214200" y="6305400"/>
            <a:ext cx="87631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7e4d1"/>
                </a:solidFill>
                <a:latin typeface="Lucida Sans Unicode"/>
              </a:rPr>
              <a:t>El respaldo de la alta dirección es un elemento clave.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6" name="Rectangle 38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Univers 65 Bold"/>
              </a:rPr>
              <a:t>Desarrollo del criterio para evaluar el Riesg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152280" y="6095880"/>
            <a:ext cx="8763120" cy="66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7e4d1"/>
                </a:solidFill>
                <a:latin typeface="Lucida Sans Unicode"/>
              </a:rPr>
              <a:t>La identificación requiere un proceso amplio, sistemático y estructurado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8" name="Text Box 3"/>
          <p:cNvSpPr/>
          <p:nvPr/>
        </p:nvSpPr>
        <p:spPr>
          <a:xfrm>
            <a:off x="4952880" y="1600200"/>
            <a:ext cx="3962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Realizar un análisis de lo que puede suceder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Analizar como puede suceder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Definir las herramientas y técnicas para la identificación (listas de verificación, experiencia, registros, lluvia de ideas, etc)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Univers 65 Bold"/>
              </a:rPr>
              <a:t>Desarrollo del criterio para evaluar el Riesg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4091040" y="1698480"/>
            <a:ext cx="560160" cy="41119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1" name="Text Box 6"/>
          <p:cNvSpPr/>
          <p:nvPr/>
        </p:nvSpPr>
        <p:spPr>
          <a:xfrm rot="10805400">
            <a:off x="4210200" y="2872800"/>
            <a:ext cx="36288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MONITOREO Y REVIS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206280" y="1744560"/>
            <a:ext cx="590760" cy="393408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3" name="Text Box 8"/>
          <p:cNvSpPr/>
          <p:nvPr/>
        </p:nvSpPr>
        <p:spPr>
          <a:xfrm rot="10800000">
            <a:off x="304920" y="1752120"/>
            <a:ext cx="36288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COMUNICACIÓN Y CONSULT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4" name="Rectangle 9"/>
          <p:cNvSpPr/>
          <p:nvPr/>
        </p:nvSpPr>
        <p:spPr>
          <a:xfrm>
            <a:off x="1255680" y="1992240"/>
            <a:ext cx="2371680" cy="452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5" name="Text Box 10"/>
          <p:cNvSpPr/>
          <p:nvPr/>
        </p:nvSpPr>
        <p:spPr>
          <a:xfrm>
            <a:off x="1290600" y="207648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STABLECER EL CONTEX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6" name="Rectangle 11"/>
          <p:cNvSpPr/>
          <p:nvPr/>
        </p:nvSpPr>
        <p:spPr>
          <a:xfrm>
            <a:off x="1268280" y="2784600"/>
            <a:ext cx="2381400" cy="43812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7" name="Text Box 12"/>
          <p:cNvSpPr/>
          <p:nvPr/>
        </p:nvSpPr>
        <p:spPr>
          <a:xfrm>
            <a:off x="1266840" y="28494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IDENTIFICACIÓN DE RIESG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8" name="Rectangle 13"/>
          <p:cNvSpPr/>
          <p:nvPr/>
        </p:nvSpPr>
        <p:spPr>
          <a:xfrm>
            <a:off x="1273320" y="3583080"/>
            <a:ext cx="2366640" cy="4395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9" name="Text Box 14"/>
          <p:cNvSpPr/>
          <p:nvPr/>
        </p:nvSpPr>
        <p:spPr>
          <a:xfrm>
            <a:off x="1422360" y="367668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ANÁLISIS DE RIESGO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0" name="Rectangle 15"/>
          <p:cNvSpPr/>
          <p:nvPr/>
        </p:nvSpPr>
        <p:spPr>
          <a:xfrm>
            <a:off x="1263600" y="4341960"/>
            <a:ext cx="2378160" cy="4507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1" name="Text Box 16"/>
          <p:cNvSpPr/>
          <p:nvPr/>
        </p:nvSpPr>
        <p:spPr>
          <a:xfrm>
            <a:off x="1341360" y="4438800"/>
            <a:ext cx="21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VALUACIÓN DEL RIESGO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2" name="Rectangle 17"/>
          <p:cNvSpPr/>
          <p:nvPr/>
        </p:nvSpPr>
        <p:spPr>
          <a:xfrm>
            <a:off x="1265400" y="5122800"/>
            <a:ext cx="2369880" cy="45108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3" name="Text Box 18"/>
          <p:cNvSpPr/>
          <p:nvPr/>
        </p:nvSpPr>
        <p:spPr>
          <a:xfrm>
            <a:off x="1521000" y="5230800"/>
            <a:ext cx="15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TRATAR EL RIESG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4" name="Line 19"/>
          <p:cNvSpPr/>
          <p:nvPr/>
        </p:nvSpPr>
        <p:spPr>
          <a:xfrm>
            <a:off x="3629160" y="220500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5" name="Line 20"/>
          <p:cNvSpPr/>
          <p:nvPr/>
        </p:nvSpPr>
        <p:spPr>
          <a:xfrm>
            <a:off x="3649680" y="2959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6" name="Line 21"/>
          <p:cNvSpPr/>
          <p:nvPr/>
        </p:nvSpPr>
        <p:spPr>
          <a:xfrm>
            <a:off x="3652920" y="387972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7" name="Line 22"/>
          <p:cNvSpPr/>
          <p:nvPr/>
        </p:nvSpPr>
        <p:spPr>
          <a:xfrm>
            <a:off x="3649680" y="4559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8" name="Line 23"/>
          <p:cNvSpPr/>
          <p:nvPr/>
        </p:nvSpPr>
        <p:spPr>
          <a:xfrm>
            <a:off x="3646440" y="5351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9" name="Line 24"/>
          <p:cNvSpPr/>
          <p:nvPr/>
        </p:nvSpPr>
        <p:spPr>
          <a:xfrm>
            <a:off x="808200" y="2233440"/>
            <a:ext cx="460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0" name="Line 25"/>
          <p:cNvSpPr/>
          <p:nvPr/>
        </p:nvSpPr>
        <p:spPr>
          <a:xfrm>
            <a:off x="822240" y="3013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1" name="Line 26"/>
          <p:cNvSpPr/>
          <p:nvPr/>
        </p:nvSpPr>
        <p:spPr>
          <a:xfrm>
            <a:off x="817560" y="37958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2" name="Line 27"/>
          <p:cNvSpPr/>
          <p:nvPr/>
        </p:nvSpPr>
        <p:spPr>
          <a:xfrm>
            <a:off x="822240" y="456264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3" name="Line 28"/>
          <p:cNvSpPr/>
          <p:nvPr/>
        </p:nvSpPr>
        <p:spPr>
          <a:xfrm>
            <a:off x="825480" y="53672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4" name="Line 29"/>
          <p:cNvSpPr/>
          <p:nvPr/>
        </p:nvSpPr>
        <p:spPr>
          <a:xfrm flipV="1">
            <a:off x="4390920" y="1600200"/>
            <a:ext cx="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5" name="Line 30"/>
          <p:cNvSpPr/>
          <p:nvPr/>
        </p:nvSpPr>
        <p:spPr>
          <a:xfrm flipH="1">
            <a:off x="2382840" y="1598760"/>
            <a:ext cx="2008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6" name="Line 31"/>
          <p:cNvSpPr/>
          <p:nvPr/>
        </p:nvSpPr>
        <p:spPr>
          <a:xfrm>
            <a:off x="2392200" y="1612800"/>
            <a:ext cx="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7" name="Line 32"/>
          <p:cNvSpPr/>
          <p:nvPr/>
        </p:nvSpPr>
        <p:spPr>
          <a:xfrm>
            <a:off x="2416320" y="24638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8" name="Line 33"/>
          <p:cNvSpPr/>
          <p:nvPr/>
        </p:nvSpPr>
        <p:spPr>
          <a:xfrm>
            <a:off x="2411280" y="323064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9" name="Line 34"/>
          <p:cNvSpPr/>
          <p:nvPr/>
        </p:nvSpPr>
        <p:spPr>
          <a:xfrm>
            <a:off x="2390760" y="40244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0" name="Line 35"/>
          <p:cNvSpPr/>
          <p:nvPr/>
        </p:nvSpPr>
        <p:spPr>
          <a:xfrm>
            <a:off x="2387520" y="480204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1" name="Line 36"/>
          <p:cNvSpPr/>
          <p:nvPr/>
        </p:nvSpPr>
        <p:spPr>
          <a:xfrm>
            <a:off x="2384280" y="556884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2" name="Line 37"/>
          <p:cNvSpPr/>
          <p:nvPr/>
        </p:nvSpPr>
        <p:spPr>
          <a:xfrm>
            <a:off x="2400480" y="5943600"/>
            <a:ext cx="199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3" name="Line 38"/>
          <p:cNvSpPr/>
          <p:nvPr/>
        </p:nvSpPr>
        <p:spPr>
          <a:xfrm>
            <a:off x="4398840" y="5813280"/>
            <a:ext cx="0" cy="130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152280" y="6095880"/>
            <a:ext cx="8763120" cy="66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7e4d1"/>
                </a:solidFill>
                <a:latin typeface="Lucida Sans Unicode"/>
              </a:rPr>
              <a:t>El análisis resulta de la combinación de cálculos de consecuencia y posibilidad en el contexto de las medidas de control existentes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5" name="Text Box 3"/>
          <p:cNvSpPr/>
          <p:nvPr/>
        </p:nvSpPr>
        <p:spPr>
          <a:xfrm>
            <a:off x="4876920" y="1828800"/>
            <a:ext cx="4190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Definir las herramientas y técnicas para el análisis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Analizar los controles existente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Realizar un análisis de consecuencia y probabilidad o posibilidad 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Definir el tipo de análisis (cualitativo y/o cuantitativo)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6" name="Rectangle 4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Univers 65 Bold"/>
              </a:rPr>
              <a:t>Desarrollo del criterio para evaluar el Riesg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7" name="Rectangle 5"/>
          <p:cNvSpPr/>
          <p:nvPr/>
        </p:nvSpPr>
        <p:spPr>
          <a:xfrm>
            <a:off x="4091040" y="1698480"/>
            <a:ext cx="560160" cy="41119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8" name="Text Box 6"/>
          <p:cNvSpPr/>
          <p:nvPr/>
        </p:nvSpPr>
        <p:spPr>
          <a:xfrm rot="10805400">
            <a:off x="4210200" y="2872800"/>
            <a:ext cx="36288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MONITOREO Y REVIS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9" name="Rectangle 7"/>
          <p:cNvSpPr/>
          <p:nvPr/>
        </p:nvSpPr>
        <p:spPr>
          <a:xfrm>
            <a:off x="206280" y="1744560"/>
            <a:ext cx="590760" cy="393408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0" name="Text Box 8"/>
          <p:cNvSpPr/>
          <p:nvPr/>
        </p:nvSpPr>
        <p:spPr>
          <a:xfrm rot="10800000">
            <a:off x="304920" y="1752120"/>
            <a:ext cx="36288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COMUNICACIÓN Y CONSULT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1" name="Rectangle 9"/>
          <p:cNvSpPr/>
          <p:nvPr/>
        </p:nvSpPr>
        <p:spPr>
          <a:xfrm>
            <a:off x="1255680" y="1992240"/>
            <a:ext cx="2371680" cy="452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2" name="Text Box 10"/>
          <p:cNvSpPr/>
          <p:nvPr/>
        </p:nvSpPr>
        <p:spPr>
          <a:xfrm>
            <a:off x="1290600" y="207648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STABLECER EL CONTEX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3" name="Rectangle 11"/>
          <p:cNvSpPr/>
          <p:nvPr/>
        </p:nvSpPr>
        <p:spPr>
          <a:xfrm>
            <a:off x="1268280" y="2784600"/>
            <a:ext cx="2381400" cy="4381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4" name="Text Box 12"/>
          <p:cNvSpPr/>
          <p:nvPr/>
        </p:nvSpPr>
        <p:spPr>
          <a:xfrm>
            <a:off x="1266840" y="28494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IDENTIFICACIÓN DE RIESG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5" name="Rectangle 13"/>
          <p:cNvSpPr/>
          <p:nvPr/>
        </p:nvSpPr>
        <p:spPr>
          <a:xfrm>
            <a:off x="1273320" y="3583080"/>
            <a:ext cx="2366640" cy="43956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6" name="Text Box 14"/>
          <p:cNvSpPr/>
          <p:nvPr/>
        </p:nvSpPr>
        <p:spPr>
          <a:xfrm>
            <a:off x="1422360" y="367668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ANÁLISIS DE RIESGO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7" name="Rectangle 15"/>
          <p:cNvSpPr/>
          <p:nvPr/>
        </p:nvSpPr>
        <p:spPr>
          <a:xfrm>
            <a:off x="1263600" y="4341960"/>
            <a:ext cx="2378160" cy="4507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8" name="Text Box 16"/>
          <p:cNvSpPr/>
          <p:nvPr/>
        </p:nvSpPr>
        <p:spPr>
          <a:xfrm>
            <a:off x="1341360" y="4438800"/>
            <a:ext cx="21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VALUACIÓN DEL RIESGO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9" name="Rectangle 17"/>
          <p:cNvSpPr/>
          <p:nvPr/>
        </p:nvSpPr>
        <p:spPr>
          <a:xfrm>
            <a:off x="1265400" y="5122800"/>
            <a:ext cx="2369880" cy="45108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0" name="Text Box 18"/>
          <p:cNvSpPr/>
          <p:nvPr/>
        </p:nvSpPr>
        <p:spPr>
          <a:xfrm>
            <a:off x="1521000" y="5230800"/>
            <a:ext cx="15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TRATAR EL RIESG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1" name="Line 19"/>
          <p:cNvSpPr/>
          <p:nvPr/>
        </p:nvSpPr>
        <p:spPr>
          <a:xfrm>
            <a:off x="3629160" y="220500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2" name="Line 20"/>
          <p:cNvSpPr/>
          <p:nvPr/>
        </p:nvSpPr>
        <p:spPr>
          <a:xfrm>
            <a:off x="3649680" y="2959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3" name="Line 21"/>
          <p:cNvSpPr/>
          <p:nvPr/>
        </p:nvSpPr>
        <p:spPr>
          <a:xfrm>
            <a:off x="3652920" y="387972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4" name="Line 22"/>
          <p:cNvSpPr/>
          <p:nvPr/>
        </p:nvSpPr>
        <p:spPr>
          <a:xfrm>
            <a:off x="3649680" y="4559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5" name="Line 23"/>
          <p:cNvSpPr/>
          <p:nvPr/>
        </p:nvSpPr>
        <p:spPr>
          <a:xfrm>
            <a:off x="3646440" y="5351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6" name="Line 24"/>
          <p:cNvSpPr/>
          <p:nvPr/>
        </p:nvSpPr>
        <p:spPr>
          <a:xfrm>
            <a:off x="808200" y="2233440"/>
            <a:ext cx="460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7" name="Line 25"/>
          <p:cNvSpPr/>
          <p:nvPr/>
        </p:nvSpPr>
        <p:spPr>
          <a:xfrm>
            <a:off x="822240" y="3013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8" name="Line 26"/>
          <p:cNvSpPr/>
          <p:nvPr/>
        </p:nvSpPr>
        <p:spPr>
          <a:xfrm>
            <a:off x="817560" y="37958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9" name="Line 27"/>
          <p:cNvSpPr/>
          <p:nvPr/>
        </p:nvSpPr>
        <p:spPr>
          <a:xfrm>
            <a:off x="822240" y="456264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0" name="Line 28"/>
          <p:cNvSpPr/>
          <p:nvPr/>
        </p:nvSpPr>
        <p:spPr>
          <a:xfrm>
            <a:off x="825480" y="53672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1" name="Line 29"/>
          <p:cNvSpPr/>
          <p:nvPr/>
        </p:nvSpPr>
        <p:spPr>
          <a:xfrm flipV="1">
            <a:off x="4390920" y="1600200"/>
            <a:ext cx="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2" name="Line 30"/>
          <p:cNvSpPr/>
          <p:nvPr/>
        </p:nvSpPr>
        <p:spPr>
          <a:xfrm flipH="1">
            <a:off x="2382840" y="1598760"/>
            <a:ext cx="2008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3" name="Line 31"/>
          <p:cNvSpPr/>
          <p:nvPr/>
        </p:nvSpPr>
        <p:spPr>
          <a:xfrm>
            <a:off x="2392200" y="1612800"/>
            <a:ext cx="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4" name="Line 32"/>
          <p:cNvSpPr/>
          <p:nvPr/>
        </p:nvSpPr>
        <p:spPr>
          <a:xfrm>
            <a:off x="2416320" y="24638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5" name="Line 33"/>
          <p:cNvSpPr/>
          <p:nvPr/>
        </p:nvSpPr>
        <p:spPr>
          <a:xfrm>
            <a:off x="2411280" y="323064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6" name="Line 34"/>
          <p:cNvSpPr/>
          <p:nvPr/>
        </p:nvSpPr>
        <p:spPr>
          <a:xfrm>
            <a:off x="2390760" y="40244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7" name="Line 35"/>
          <p:cNvSpPr/>
          <p:nvPr/>
        </p:nvSpPr>
        <p:spPr>
          <a:xfrm>
            <a:off x="2387520" y="480204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8" name="Line 36"/>
          <p:cNvSpPr/>
          <p:nvPr/>
        </p:nvSpPr>
        <p:spPr>
          <a:xfrm>
            <a:off x="2384280" y="556884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9" name="Line 37"/>
          <p:cNvSpPr/>
          <p:nvPr/>
        </p:nvSpPr>
        <p:spPr>
          <a:xfrm>
            <a:off x="2400480" y="5943600"/>
            <a:ext cx="199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0" name="Line 38"/>
          <p:cNvSpPr/>
          <p:nvPr/>
        </p:nvSpPr>
        <p:spPr>
          <a:xfrm>
            <a:off x="4398840" y="5813280"/>
            <a:ext cx="0" cy="130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0"/>
          <p:cNvGrpSpPr/>
          <p:nvPr/>
        </p:nvGrpSpPr>
        <p:grpSpPr>
          <a:xfrm>
            <a:off x="300960" y="2094480"/>
            <a:ext cx="8594640" cy="4574520"/>
            <a:chOff x="300960" y="2094480"/>
            <a:chExt cx="8594640" cy="4574520"/>
          </a:xfrm>
        </p:grpSpPr>
        <p:sp>
          <p:nvSpPr>
            <p:cNvPr id="55" name="Freeform 2"/>
            <p:cNvSpPr/>
            <p:nvPr/>
          </p:nvSpPr>
          <p:spPr>
            <a:xfrm>
              <a:off x="3580920" y="2565360"/>
              <a:ext cx="2366280" cy="3768840"/>
            </a:xfrm>
            <a:custGeom>
              <a:avLst/>
              <a:gdLst>
                <a:gd name="textAreaLeft" fmla="*/ 0 w 2366280"/>
                <a:gd name="textAreaRight" fmla="*/ 2366280 w 2366280"/>
                <a:gd name="textAreaTop" fmla="*/ 0 h 3768840"/>
                <a:gd name="textAreaBottom" fmla="*/ 3769200 h 3768840"/>
              </a:gdLst>
              <a:ahLst/>
              <a:rect l="textAreaLeft" t="textAreaTop" r="textAreaRight" b="textAreaBottom"/>
              <a:pathLst>
                <a:path w="1431" h="2374">
                  <a:moveTo>
                    <a:pt x="0" y="780"/>
                  </a:moveTo>
                  <a:lnTo>
                    <a:pt x="1431" y="0"/>
                  </a:lnTo>
                  <a:lnTo>
                    <a:pt x="1431" y="2374"/>
                  </a:lnTo>
                  <a:lnTo>
                    <a:pt x="0" y="1586"/>
                  </a:lnTo>
                  <a:lnTo>
                    <a:pt x="0" y="78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6" name="Text Box 3"/>
            <p:cNvSpPr/>
            <p:nvPr/>
          </p:nvSpPr>
          <p:spPr>
            <a:xfrm>
              <a:off x="6018480" y="2389680"/>
              <a:ext cx="2090160" cy="4279320"/>
            </a:xfrm>
            <a:prstGeom prst="rect">
              <a:avLst/>
            </a:prstGeom>
            <a:solidFill>
              <a:srgbClr val="cc0000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spAutoFit/>
            </a:bodyPr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Operacione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Finanza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Tecnología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Capital</a:t>
              </a:r>
              <a:r>
                <a:rPr b="1" lang="en-US" sz="18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Humano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Competencia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Regulació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Medio ambiente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9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Crecimiento</a:t>
              </a:r>
              <a:r>
                <a:rPr b="1" lang="en-US" sz="18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Global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Univers 45 Light"/>
                </a:rPr>
                <a:t>Reputa</a:t>
              </a: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c</a:t>
              </a:r>
              <a:r>
                <a:rPr b="1" lang="en-US" sz="18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ó</a:t>
              </a:r>
              <a:r>
                <a:rPr b="1" lang="en-US" sz="18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" name="Text Box 4"/>
            <p:cNvSpPr/>
            <p:nvPr/>
          </p:nvSpPr>
          <p:spPr>
            <a:xfrm>
              <a:off x="300960" y="3182040"/>
              <a:ext cx="398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800" spc="-1" strike="noStrike">
                  <a:solidFill>
                    <a:srgbClr val="0000ff"/>
                  </a:solidFill>
                  <a:latin typeface="Univers 45 Light"/>
                </a:rPr>
                <a:t>Tradicional</a:t>
              </a:r>
              <a:r>
                <a:rPr b="1" i="1" lang="en-US" sz="1800" spc="-1" strike="noStrike">
                  <a:solidFill>
                    <a:srgbClr val="0000ff"/>
                  </a:solidFill>
                  <a:latin typeface="Univers 45 Light"/>
                </a:rPr>
                <a:t>: </a:t>
              </a:r>
              <a:r>
                <a:rPr b="1" i="1" lang="es-CO" sz="1800" spc="-1" strike="noStrike">
                  <a:solidFill>
                    <a:srgbClr val="0000ff"/>
                  </a:solidFill>
                  <a:latin typeface="Univers 45 Light"/>
                </a:rPr>
                <a:t>Perspectiva Financiera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" name="Text Box 5"/>
            <p:cNvSpPr/>
            <p:nvPr/>
          </p:nvSpPr>
          <p:spPr>
            <a:xfrm>
              <a:off x="5311800" y="2094480"/>
              <a:ext cx="35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800" spc="-1" strike="noStrike">
                  <a:solidFill>
                    <a:srgbClr val="0000ff"/>
                  </a:solidFill>
                  <a:latin typeface="Univers 45 Light"/>
                </a:rPr>
                <a:t>Perspectiva</a:t>
              </a:r>
              <a:r>
                <a:rPr b="1" i="1" lang="en-US" sz="1800" spc="-1" strike="noStrike">
                  <a:solidFill>
                    <a:srgbClr val="0000ff"/>
                  </a:solidFill>
                  <a:latin typeface="Univers 45 Light"/>
                </a:rPr>
                <a:t>: </a:t>
              </a:r>
              <a:r>
                <a:rPr b="1" i="1" lang="es-CO" sz="1800" spc="-1" strike="noStrike">
                  <a:solidFill>
                    <a:srgbClr val="0000ff"/>
                  </a:solidFill>
                  <a:latin typeface="Univers 45 Light"/>
                </a:rPr>
                <a:t>Visión Empresarial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" name="Text Box 6"/>
            <p:cNvSpPr/>
            <p:nvPr/>
          </p:nvSpPr>
          <p:spPr>
            <a:xfrm>
              <a:off x="794520" y="3809520"/>
              <a:ext cx="2678400" cy="1280520"/>
            </a:xfrm>
            <a:prstGeom prst="rect">
              <a:avLst/>
            </a:prstGeom>
            <a:solidFill>
              <a:srgbClr val="cc0000"/>
            </a:solidFill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Riesgos Financiero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iesgos de Seguro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Riesgo en Inversione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Riesgo Cambiario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1131840"/>
            <a:ext cx="8288640" cy="114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Univers 65 Bold"/>
              </a:rPr>
              <a:t>“</a:t>
            </a:r>
            <a:r>
              <a:rPr b="0" lang="es-CO" sz="2400" spc="-1" strike="noStrike">
                <a:solidFill>
                  <a:srgbClr val="ff0000"/>
                </a:solidFill>
                <a:latin typeface="Univers 65 Bold"/>
              </a:rPr>
              <a:t>Gestión de Riesgo</a:t>
            </a:r>
            <a:r>
              <a:rPr b="0" lang="en-US" sz="2400" spc="-1" strike="noStrike">
                <a:solidFill>
                  <a:srgbClr val="ff0000"/>
                </a:solidFill>
                <a:latin typeface="Univers 65 Bold"/>
              </a:rPr>
              <a:t>” </a:t>
            </a:r>
            <a:br>
              <a:rPr sz="2400"/>
            </a:br>
            <a:r>
              <a:rPr b="0" lang="es-CO" sz="2400" spc="-1" strike="noStrike">
                <a:solidFill>
                  <a:srgbClr val="ff0000"/>
                </a:solidFill>
                <a:latin typeface="Univers 65 Bold"/>
              </a:rPr>
              <a:t>Mayor cobertura del negocio</a:t>
            </a:r>
            <a:endParaRPr b="0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Enfoque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2"/>
          <p:cNvSpPr/>
          <p:nvPr/>
        </p:nvSpPr>
        <p:spPr>
          <a:xfrm>
            <a:off x="152280" y="6019920"/>
            <a:ext cx="8763120" cy="69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7e4d1"/>
                </a:solidFill>
                <a:latin typeface="Lucida Sans Unicode"/>
              </a:rPr>
              <a:t>Las decisiones del análisis deben dar cuenta de la consideración de tolerabilidad de los riesgos asumidos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2" name="Text Box 3"/>
          <p:cNvSpPr/>
          <p:nvPr/>
        </p:nvSpPr>
        <p:spPr>
          <a:xfrm>
            <a:off x="4952880" y="1887480"/>
            <a:ext cx="3886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Realizar análisis: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662040" indent="-181080">
              <a:lnSpc>
                <a:spcPct val="14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Cualitativ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662040" indent="-181080">
              <a:lnSpc>
                <a:spcPct val="14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Semi – cuantitativ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662040" indent="-181080">
              <a:lnSpc>
                <a:spcPct val="14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Cuantitativ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662040" indent="-181080">
              <a:lnSpc>
                <a:spcPct val="14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Análisis de sensibilidad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3" name="Rectangle 4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Univers 65 Bold"/>
              </a:rPr>
              <a:t>Desarrollo del criterio para evaluar el Riesg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4" name="Rectangle 5"/>
          <p:cNvSpPr/>
          <p:nvPr/>
        </p:nvSpPr>
        <p:spPr>
          <a:xfrm>
            <a:off x="4091040" y="1595520"/>
            <a:ext cx="560160" cy="411156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5" name="Text Box 6"/>
          <p:cNvSpPr/>
          <p:nvPr/>
        </p:nvSpPr>
        <p:spPr>
          <a:xfrm rot="10805400">
            <a:off x="4210200" y="2769480"/>
            <a:ext cx="36288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MONITOREO Y REVIS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206280" y="1641600"/>
            <a:ext cx="590760" cy="39337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7" name="Text Box 8"/>
          <p:cNvSpPr/>
          <p:nvPr/>
        </p:nvSpPr>
        <p:spPr>
          <a:xfrm rot="10800000">
            <a:off x="304920" y="1649520"/>
            <a:ext cx="3628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COMUNICACIÓN Y CONSULT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8" name="Rectangle 9"/>
          <p:cNvSpPr/>
          <p:nvPr/>
        </p:nvSpPr>
        <p:spPr>
          <a:xfrm>
            <a:off x="1255680" y="1889280"/>
            <a:ext cx="2371680" cy="4521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290600" y="197316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STABLECER EL CONTEX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0" name="Rectangle 11"/>
          <p:cNvSpPr/>
          <p:nvPr/>
        </p:nvSpPr>
        <p:spPr>
          <a:xfrm>
            <a:off x="1268280" y="2681280"/>
            <a:ext cx="2381400" cy="4381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1" name="Text Box 12"/>
          <p:cNvSpPr/>
          <p:nvPr/>
        </p:nvSpPr>
        <p:spPr>
          <a:xfrm>
            <a:off x="1266840" y="27464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IDENTIFICACIÓN DE RIESG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2" name="Rectangle 13"/>
          <p:cNvSpPr/>
          <p:nvPr/>
        </p:nvSpPr>
        <p:spPr>
          <a:xfrm>
            <a:off x="1273320" y="3479760"/>
            <a:ext cx="2366640" cy="4399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3" name="Text Box 14"/>
          <p:cNvSpPr/>
          <p:nvPr/>
        </p:nvSpPr>
        <p:spPr>
          <a:xfrm>
            <a:off x="1422360" y="357336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ANÁLISIS DE RIESGO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4" name="Rectangle 15"/>
          <p:cNvSpPr/>
          <p:nvPr/>
        </p:nvSpPr>
        <p:spPr>
          <a:xfrm>
            <a:off x="1263600" y="4238640"/>
            <a:ext cx="2378160" cy="45072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5" name="Text Box 16"/>
          <p:cNvSpPr/>
          <p:nvPr/>
        </p:nvSpPr>
        <p:spPr>
          <a:xfrm>
            <a:off x="1341360" y="4335480"/>
            <a:ext cx="21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VALUACIÓN DEL RIESGO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6" name="Rectangle 17"/>
          <p:cNvSpPr/>
          <p:nvPr/>
        </p:nvSpPr>
        <p:spPr>
          <a:xfrm>
            <a:off x="1265400" y="5019840"/>
            <a:ext cx="2369880" cy="4507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7" name="Text Box 18"/>
          <p:cNvSpPr/>
          <p:nvPr/>
        </p:nvSpPr>
        <p:spPr>
          <a:xfrm>
            <a:off x="1521000" y="5127480"/>
            <a:ext cx="15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TRATAR EL RIESG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8" name="Line 19"/>
          <p:cNvSpPr/>
          <p:nvPr/>
        </p:nvSpPr>
        <p:spPr>
          <a:xfrm>
            <a:off x="3629160" y="210168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9" name="Line 20"/>
          <p:cNvSpPr/>
          <p:nvPr/>
        </p:nvSpPr>
        <p:spPr>
          <a:xfrm>
            <a:off x="3649680" y="285588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0" name="Line 21"/>
          <p:cNvSpPr/>
          <p:nvPr/>
        </p:nvSpPr>
        <p:spPr>
          <a:xfrm>
            <a:off x="3652920" y="377676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1" name="Line 22"/>
          <p:cNvSpPr/>
          <p:nvPr/>
        </p:nvSpPr>
        <p:spPr>
          <a:xfrm>
            <a:off x="3649680" y="445608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2" name="Line 23"/>
          <p:cNvSpPr/>
          <p:nvPr/>
        </p:nvSpPr>
        <p:spPr>
          <a:xfrm>
            <a:off x="3646440" y="524844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3" name="Line 24"/>
          <p:cNvSpPr/>
          <p:nvPr/>
        </p:nvSpPr>
        <p:spPr>
          <a:xfrm>
            <a:off x="808200" y="2130480"/>
            <a:ext cx="460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4" name="Line 25"/>
          <p:cNvSpPr/>
          <p:nvPr/>
        </p:nvSpPr>
        <p:spPr>
          <a:xfrm>
            <a:off x="822240" y="290988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5" name="Line 26"/>
          <p:cNvSpPr/>
          <p:nvPr/>
        </p:nvSpPr>
        <p:spPr>
          <a:xfrm>
            <a:off x="817560" y="369252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6" name="Line 27"/>
          <p:cNvSpPr/>
          <p:nvPr/>
        </p:nvSpPr>
        <p:spPr>
          <a:xfrm>
            <a:off x="822240" y="445932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7" name="Line 28"/>
          <p:cNvSpPr/>
          <p:nvPr/>
        </p:nvSpPr>
        <p:spPr>
          <a:xfrm>
            <a:off x="825480" y="526428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8" name="Line 29"/>
          <p:cNvSpPr/>
          <p:nvPr/>
        </p:nvSpPr>
        <p:spPr>
          <a:xfrm flipV="1">
            <a:off x="4390920" y="1496880"/>
            <a:ext cx="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9" name="Line 30"/>
          <p:cNvSpPr/>
          <p:nvPr/>
        </p:nvSpPr>
        <p:spPr>
          <a:xfrm flipH="1">
            <a:off x="2382840" y="1495440"/>
            <a:ext cx="2008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0" name="Line 31"/>
          <p:cNvSpPr/>
          <p:nvPr/>
        </p:nvSpPr>
        <p:spPr>
          <a:xfrm>
            <a:off x="2392200" y="1509840"/>
            <a:ext cx="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1" name="Line 32"/>
          <p:cNvSpPr/>
          <p:nvPr/>
        </p:nvSpPr>
        <p:spPr>
          <a:xfrm>
            <a:off x="2416320" y="236052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2" name="Line 33"/>
          <p:cNvSpPr/>
          <p:nvPr/>
        </p:nvSpPr>
        <p:spPr>
          <a:xfrm>
            <a:off x="2411280" y="312732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3" name="Line 34"/>
          <p:cNvSpPr/>
          <p:nvPr/>
        </p:nvSpPr>
        <p:spPr>
          <a:xfrm>
            <a:off x="2390760" y="392112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4" name="Line 35"/>
          <p:cNvSpPr/>
          <p:nvPr/>
        </p:nvSpPr>
        <p:spPr>
          <a:xfrm>
            <a:off x="2387520" y="469908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5" name="Line 36"/>
          <p:cNvSpPr/>
          <p:nvPr/>
        </p:nvSpPr>
        <p:spPr>
          <a:xfrm>
            <a:off x="2384280" y="546588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6" name="Line 37"/>
          <p:cNvSpPr/>
          <p:nvPr/>
        </p:nvSpPr>
        <p:spPr>
          <a:xfrm>
            <a:off x="2400480" y="5840280"/>
            <a:ext cx="199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7" name="Line 38"/>
          <p:cNvSpPr/>
          <p:nvPr/>
        </p:nvSpPr>
        <p:spPr>
          <a:xfrm>
            <a:off x="4398840" y="5710320"/>
            <a:ext cx="0" cy="129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Univers 65 Bold"/>
              </a:rPr>
              <a:t>Desarrollo del criterio para evaluar el Riesg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9" name="Rectangle 3"/>
          <p:cNvSpPr/>
          <p:nvPr/>
        </p:nvSpPr>
        <p:spPr>
          <a:xfrm>
            <a:off x="4091040" y="1698480"/>
            <a:ext cx="560160" cy="41119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0" name="Text Box 4"/>
          <p:cNvSpPr/>
          <p:nvPr/>
        </p:nvSpPr>
        <p:spPr>
          <a:xfrm rot="10805400">
            <a:off x="4210200" y="2872800"/>
            <a:ext cx="36288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MONITOREO Y REVIS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206280" y="1744560"/>
            <a:ext cx="590760" cy="393408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2" name="Text Box 6"/>
          <p:cNvSpPr/>
          <p:nvPr/>
        </p:nvSpPr>
        <p:spPr>
          <a:xfrm rot="10800000">
            <a:off x="304920" y="1752120"/>
            <a:ext cx="36288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COMUNICACIÓN Y CONSULT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3" name="Rectangle 7"/>
          <p:cNvSpPr/>
          <p:nvPr/>
        </p:nvSpPr>
        <p:spPr>
          <a:xfrm>
            <a:off x="1255680" y="1992240"/>
            <a:ext cx="2371680" cy="452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4" name="Text Box 8"/>
          <p:cNvSpPr/>
          <p:nvPr/>
        </p:nvSpPr>
        <p:spPr>
          <a:xfrm>
            <a:off x="1290600" y="207648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STABLECER EL CONTEX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5" name="Rectangle 9"/>
          <p:cNvSpPr/>
          <p:nvPr/>
        </p:nvSpPr>
        <p:spPr>
          <a:xfrm>
            <a:off x="1268280" y="2784600"/>
            <a:ext cx="2381400" cy="4381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1266840" y="28494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IDENTIFICACIÓN DE RIESG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7" name="Rectangle 11"/>
          <p:cNvSpPr/>
          <p:nvPr/>
        </p:nvSpPr>
        <p:spPr>
          <a:xfrm>
            <a:off x="1273320" y="3583080"/>
            <a:ext cx="2366640" cy="4395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8" name="Text Box 12"/>
          <p:cNvSpPr/>
          <p:nvPr/>
        </p:nvSpPr>
        <p:spPr>
          <a:xfrm>
            <a:off x="1422360" y="367668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ANÁLISIS DE RIESGO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9" name="Rectangle 13"/>
          <p:cNvSpPr/>
          <p:nvPr/>
        </p:nvSpPr>
        <p:spPr>
          <a:xfrm>
            <a:off x="1263600" y="4341960"/>
            <a:ext cx="2378160" cy="4507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1341360" y="4438800"/>
            <a:ext cx="21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VALUACIÓN DEL RIESGO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1" name="Rectangle 15"/>
          <p:cNvSpPr/>
          <p:nvPr/>
        </p:nvSpPr>
        <p:spPr>
          <a:xfrm>
            <a:off x="1265400" y="5122800"/>
            <a:ext cx="2369880" cy="45108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2" name="Text Box 16"/>
          <p:cNvSpPr/>
          <p:nvPr/>
        </p:nvSpPr>
        <p:spPr>
          <a:xfrm>
            <a:off x="1521000" y="5230800"/>
            <a:ext cx="15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TRATAR EL RIESG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3" name="Line 17"/>
          <p:cNvSpPr/>
          <p:nvPr/>
        </p:nvSpPr>
        <p:spPr>
          <a:xfrm>
            <a:off x="3629160" y="220500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4" name="Line 18"/>
          <p:cNvSpPr/>
          <p:nvPr/>
        </p:nvSpPr>
        <p:spPr>
          <a:xfrm>
            <a:off x="3649680" y="2959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5" name="Line 19"/>
          <p:cNvSpPr/>
          <p:nvPr/>
        </p:nvSpPr>
        <p:spPr>
          <a:xfrm>
            <a:off x="3652920" y="387972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6" name="Line 20"/>
          <p:cNvSpPr/>
          <p:nvPr/>
        </p:nvSpPr>
        <p:spPr>
          <a:xfrm>
            <a:off x="3649680" y="4559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7" name="Line 21"/>
          <p:cNvSpPr/>
          <p:nvPr/>
        </p:nvSpPr>
        <p:spPr>
          <a:xfrm>
            <a:off x="3646440" y="5351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8" name="Line 22"/>
          <p:cNvSpPr/>
          <p:nvPr/>
        </p:nvSpPr>
        <p:spPr>
          <a:xfrm>
            <a:off x="808200" y="2233440"/>
            <a:ext cx="460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9" name="Line 23"/>
          <p:cNvSpPr/>
          <p:nvPr/>
        </p:nvSpPr>
        <p:spPr>
          <a:xfrm>
            <a:off x="822240" y="3013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0" name="Line 24"/>
          <p:cNvSpPr/>
          <p:nvPr/>
        </p:nvSpPr>
        <p:spPr>
          <a:xfrm>
            <a:off x="817560" y="37958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1" name="Line 25"/>
          <p:cNvSpPr/>
          <p:nvPr/>
        </p:nvSpPr>
        <p:spPr>
          <a:xfrm>
            <a:off x="822240" y="456264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2" name="Line 26"/>
          <p:cNvSpPr/>
          <p:nvPr/>
        </p:nvSpPr>
        <p:spPr>
          <a:xfrm>
            <a:off x="825480" y="53672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3" name="Line 27"/>
          <p:cNvSpPr/>
          <p:nvPr/>
        </p:nvSpPr>
        <p:spPr>
          <a:xfrm flipV="1">
            <a:off x="4390920" y="1600200"/>
            <a:ext cx="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4" name="Line 28"/>
          <p:cNvSpPr/>
          <p:nvPr/>
        </p:nvSpPr>
        <p:spPr>
          <a:xfrm flipH="1">
            <a:off x="2382840" y="1598760"/>
            <a:ext cx="2008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5" name="Line 29"/>
          <p:cNvSpPr/>
          <p:nvPr/>
        </p:nvSpPr>
        <p:spPr>
          <a:xfrm>
            <a:off x="2392200" y="1612800"/>
            <a:ext cx="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6" name="Line 30"/>
          <p:cNvSpPr/>
          <p:nvPr/>
        </p:nvSpPr>
        <p:spPr>
          <a:xfrm>
            <a:off x="2416320" y="24638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7" name="Line 31"/>
          <p:cNvSpPr/>
          <p:nvPr/>
        </p:nvSpPr>
        <p:spPr>
          <a:xfrm>
            <a:off x="2411280" y="323064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8" name="Line 32"/>
          <p:cNvSpPr/>
          <p:nvPr/>
        </p:nvSpPr>
        <p:spPr>
          <a:xfrm>
            <a:off x="2390760" y="40244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9" name="Line 33"/>
          <p:cNvSpPr/>
          <p:nvPr/>
        </p:nvSpPr>
        <p:spPr>
          <a:xfrm>
            <a:off x="2387520" y="480204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0" name="Line 34"/>
          <p:cNvSpPr/>
          <p:nvPr/>
        </p:nvSpPr>
        <p:spPr>
          <a:xfrm>
            <a:off x="2384280" y="556884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1" name="Line 35"/>
          <p:cNvSpPr/>
          <p:nvPr/>
        </p:nvSpPr>
        <p:spPr>
          <a:xfrm>
            <a:off x="2400480" y="5943600"/>
            <a:ext cx="199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2" name="Line 36"/>
          <p:cNvSpPr/>
          <p:nvPr/>
        </p:nvSpPr>
        <p:spPr>
          <a:xfrm>
            <a:off x="4398840" y="5813280"/>
            <a:ext cx="0" cy="130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3" name="Text Box 37"/>
          <p:cNvSpPr/>
          <p:nvPr/>
        </p:nvSpPr>
        <p:spPr>
          <a:xfrm>
            <a:off x="4876920" y="1352520"/>
            <a:ext cx="4190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Identificar opciones para el tratamiento de riesgos (Evitar, reducir probabilidad, reducir consecuencia, transferir, retener)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Evaluar opciones de tratamiento (costo / beneficio)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Preparar planes de tratamient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Implementar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4" name="Rectangle 38"/>
          <p:cNvSpPr/>
          <p:nvPr/>
        </p:nvSpPr>
        <p:spPr>
          <a:xfrm>
            <a:off x="184320" y="6127920"/>
            <a:ext cx="8762760" cy="66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7e4d1"/>
                </a:solidFill>
                <a:latin typeface="Lucida Sans Unicode"/>
              </a:rPr>
              <a:t>Si los riesgos no encajan en la categoría medios o bajos deberán analizarse el tratamiento apropiad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 txBox="1"/>
          <p:nvPr/>
        </p:nvSpPr>
        <p:spPr>
          <a:xfrm>
            <a:off x="711360" y="28987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Univers 65 Bold"/>
              </a:rPr>
              <a:t>MAPA DE RIESGOS</a:t>
            </a:r>
            <a:endParaRPr b="0" lang="en-US" sz="40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2"/>
          <p:cNvSpPr/>
          <p:nvPr/>
        </p:nvSpPr>
        <p:spPr>
          <a:xfrm>
            <a:off x="360360" y="1752480"/>
            <a:ext cx="84614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una herramienta para la evaluación de riesgos, que permite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presentar gráficamente el impact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severidad)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y la frecuenci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probabilidad de ocurrencia) de los riesgo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una guía visual que facilita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asignar prioridades en la atención de determinados riesgo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mapa de riesgos simple puede contener sólo 4 cuadrantes: 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o impacto/alta probabilidad de ocurrencia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ajo impacto/alta probabilidad de ocurrencia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o impacto/baja probabilidad de ocurrencia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ajo impacto/baja probabilidad de ocurrencia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8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Mapa de Riesgos </a:t>
            </a:r>
            <a:br>
              <a:rPr sz="3200"/>
            </a:b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¿Qué es?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40" name="Line 6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ransition spd="med"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Tahoma"/>
              </a:rPr>
              <a:t>El Mapa de Riesg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42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304920" y="1295280"/>
            <a:ext cx="86104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ahoma"/>
              </a:rPr>
              <a:t>Busca evaluar los eventos tomando en cuenta su </a:t>
            </a:r>
            <a:r>
              <a:rPr b="1" lang="es-PE" sz="2400" spc="-1" strike="noStrike">
                <a:solidFill>
                  <a:srgbClr val="0000d5"/>
                </a:solidFill>
                <a:latin typeface="Tahoma"/>
              </a:rPr>
              <a:t>probabilidad de ocurrencia y su impacto</a:t>
            </a:r>
            <a:r>
              <a:rPr b="1" lang="es-PE" sz="2500" spc="-1" strike="noStrike">
                <a:solidFill>
                  <a:srgbClr val="000000"/>
                </a:solidFill>
                <a:latin typeface="Arial"/>
              </a:rPr>
              <a:t>.  Esto permite que la administración elija qué riesgos merecen ser tratados y establecer prioridades para su tratamiento.</a:t>
            </a:r>
            <a:r>
              <a:rPr b="1" lang="es-PE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  <p:graphicFrame>
        <p:nvGraphicFramePr>
          <p:cNvPr id="944" name="Object 5"/>
          <p:cNvGraphicFramePr/>
          <p:nvPr/>
        </p:nvGraphicFramePr>
        <p:xfrm>
          <a:off x="1981080" y="3124080"/>
          <a:ext cx="563904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124080"/>
                    <a:ext cx="563904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6" name="Text Box 6"/>
          <p:cNvSpPr/>
          <p:nvPr/>
        </p:nvSpPr>
        <p:spPr>
          <a:xfrm>
            <a:off x="228600" y="5715000"/>
            <a:ext cx="8763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000000"/>
                </a:solidFill>
                <a:latin typeface="Arial"/>
              </a:rPr>
              <a:t>En general, un riesgo de baja probabilidad de ocurrencia y bajo impacto no merece consideración adicional.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77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770" fill="hold"/>
                                        <p:tgtEl>
                                          <p:spTgt spid="9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2"/>
          <p:cNvSpPr/>
          <p:nvPr/>
        </p:nvSpPr>
        <p:spPr>
          <a:xfrm>
            <a:off x="609480" y="1447920"/>
            <a:ext cx="789012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rve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para evaluar los riesgos y tomar decisiones para enfrentarl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 utilidad del mapa de riesgos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dependerá obviamente de la calidad y relevancia de la informació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que utilicemos para elaborarlo. Podemos usar información cuantitativa y/o cualitativa. 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 utilidad también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dependerá del modelo que utilicemos para estimar impacto y probabilidad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ocurrencia: de nuestra capacidad de aproximarnos a estas variables razonablemente. El modelo no tiene porque ser sofisticado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l consenso de un grupo de personas con conocimiento y sentido común, puede generar un mapa igual o más útil que una estimación econométric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48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49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Mapa de Riesgos </a:t>
            </a:r>
            <a:br>
              <a:rPr sz="3200"/>
            </a:b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¿Para qué sirve?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1" name="Line 6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1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609480" y="1676520"/>
            <a:ext cx="8001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mapa de riesgos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sólo es útil si se elabora en el contexto de un proceso bien definido de administración de riesg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Para ello es necesario que se cumplan al menos tres condiciones: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Que los riesgos sean examinados en función a su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relación con los objetivos estratégic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de la empresa o institución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Que la evaluación de riesgos sea utilizada efectivamente para 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elaborar el plan de acció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la empresa sobre cómo enfrentar los riesgos (asignación de prioridades y recursos)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Que el mapa de riesgos esté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alineado con el “apetito por el riesgo”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l banc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3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4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Mapa de Riesgos </a:t>
            </a:r>
            <a:br>
              <a:rPr sz="3200"/>
            </a:b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¿Para qué sirve?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6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2"/>
          <p:cNvSpPr/>
          <p:nvPr/>
        </p:nvSpPr>
        <p:spPr>
          <a:xfrm>
            <a:off x="539640" y="2209680"/>
            <a:ext cx="769644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de las dimensiones del mapa de riesgos es el impacto del riesgo: es fundamental tener claro impacto ¿sobre qué?  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bre el logro de los objetivos estratégicos. Por ejemplo: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banco puede presentar el </a:t>
            </a:r>
            <a:r>
              <a:rPr b="1" lang="es-ES_tradnl" sz="2400" spc="-1" strike="noStrike">
                <a:solidFill>
                  <a:srgbClr val="0000d5"/>
                </a:solidFill>
                <a:latin typeface="Arial"/>
              </a:rPr>
              <a:t>impacto de sus riesgos sobre las utilidades o el patrimonio de sus accionista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8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9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90440" y="53172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Tahoma"/>
              </a:rPr>
              <a:t>Mapa de Riesgos: </a:t>
            </a:r>
            <a:r>
              <a:rPr b="0" lang="es-PE" sz="3600" spc="-1" strike="noStrike">
                <a:solidFill>
                  <a:srgbClr val="669900"/>
                </a:solidFill>
                <a:latin typeface="Tahoma"/>
              </a:rPr>
              <a:t>relacionado a objetivos estratégicos</a:t>
            </a:r>
            <a:r>
              <a:rPr b="0" lang="es-PE" sz="2800" spc="-1" strike="noStrike">
                <a:solidFill>
                  <a:srgbClr val="669900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1" name="Line 6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"/>
          <p:cNvSpPr/>
          <p:nvPr/>
        </p:nvSpPr>
        <p:spPr>
          <a:xfrm>
            <a:off x="609480" y="1752480"/>
            <a:ext cx="7696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banco puede utilizar su mapa de riesgos para tomar decisiones sobre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ómo enfrentar sus riesgos críticos y mejorar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 administración de riesgo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 SB puede utilizar el mapa de riesgos de un banco para decidir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e aspectos críticos resaltar en la supervisió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ese banco particular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ternativamente, la SB puede usar un mapa de riesgos del sistema financiero par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dentificar los bancos con mayor probabilidad de insolvencia e impacto sobre la estabilidad del sistema financier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Esto puede servir para asignar los recursos escasos de supervisión a los bancos con mayor impacto y probabilidad de insolvencia, más eficientemente, y para diseñar un plan de acción para cada entidad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3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Tahoma"/>
              </a:rPr>
              <a:t>Mapa de Riesgos: </a:t>
            </a:r>
            <a:r>
              <a:rPr b="0" lang="es-PE" sz="4000" spc="-1" strike="noStrike">
                <a:solidFill>
                  <a:srgbClr val="669900"/>
                </a:solidFill>
                <a:latin typeface="Tahoma"/>
              </a:rPr>
              <a:t>base para elaborar el plan de acció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6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2"/>
          <p:cNvSpPr/>
          <p:nvPr/>
        </p:nvSpPr>
        <p:spPr>
          <a:xfrm>
            <a:off x="609480" y="1676520"/>
            <a:ext cx="77724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Paso 1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tablecer los objetivo(s) estratégico(s) sobre los que evaluaremos el impacto de los riesgos. 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Paso 2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identificar los eventos que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pueden afectar la implementación de la estrategia o el logro de objetivos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Paso 3: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inir el modelo para el mapa de riesgos: el método para asignar probabilidades e impactos a cada uno de los riesgos y los niveles de “aversión al riesgo”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Paso 4: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imar el modelo...asignar probabilidades de ocurrencia e impacto a cada uno de los riesgos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Paso 5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construir el mapa de riesgos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Paso 6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identificar las posibles respuestas para cada uno de los  riesgos, elaborar planes de acción e implementarlos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8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9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Tahoma"/>
              </a:rPr>
              <a:t>El proceso de elaboración de un Mapa de Riesgos</a:t>
            </a:r>
            <a:endParaRPr b="0" lang="en-US" sz="4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1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2" name="Text Box 7"/>
          <p:cNvSpPr/>
          <p:nvPr/>
        </p:nvSpPr>
        <p:spPr>
          <a:xfrm>
            <a:off x="304920" y="581184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cc00"/>
                </a:solidFill>
                <a:latin typeface="Tahoma"/>
              </a:rPr>
              <a:t>...</a:t>
            </a:r>
            <a:r>
              <a:rPr b="1" lang="es-PE" sz="2000" spc="-1" strike="noStrike">
                <a:solidFill>
                  <a:srgbClr val="0000ff"/>
                </a:solidFill>
                <a:latin typeface="Tahoma"/>
              </a:rPr>
              <a:t>Proceso iterativo: repetir pasos 4 al 6 luego de implementar el plan de acción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RM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3" name="Line 3"/>
          <p:cNvSpPr/>
          <p:nvPr/>
        </p:nvSpPr>
        <p:spPr>
          <a:xfrm>
            <a:off x="6350040" y="1863720"/>
            <a:ext cx="0" cy="4470480"/>
          </a:xfrm>
          <a:prstGeom prst="line">
            <a:avLst/>
          </a:prstGeom>
          <a:ln w="12600">
            <a:solidFill>
              <a:srgbClr val="c4a6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662360" y="1863720"/>
            <a:ext cx="0" cy="4470480"/>
          </a:xfrm>
          <a:prstGeom prst="line">
            <a:avLst/>
          </a:prstGeom>
          <a:ln w="12600">
            <a:solidFill>
              <a:srgbClr val="c4a6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0" y="1370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atriz de madurez del riesgo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417840" y="1914480"/>
            <a:ext cx="81792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Reactiv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149080" y="1920960"/>
            <a:ext cx="71568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Táctic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796080" y="1913040"/>
            <a:ext cx="101268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Estratégic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021120" y="2205000"/>
            <a:ext cx="15904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1" lang="es-ES_tradnl" sz="1200" spc="-1" strike="noStrike">
                <a:solidFill>
                  <a:srgbClr val="ff0000"/>
                </a:solidFill>
                <a:latin typeface="Arial Narrow"/>
              </a:rPr>
              <a:t>Reactivo a los riesgos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”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721400" y="2212920"/>
            <a:ext cx="1574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1" lang="es-ES_tradnl" sz="1200" spc="-1" strike="noStrike">
                <a:solidFill>
                  <a:srgbClr val="ff0000"/>
                </a:solidFill>
                <a:latin typeface="Arial Narrow"/>
              </a:rPr>
              <a:t>Preparado para los riesgos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”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6657840" y="2214720"/>
            <a:ext cx="12448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1" lang="es-ES_tradnl" sz="1200" spc="-1" strike="noStrike">
                <a:solidFill>
                  <a:srgbClr val="ff0000"/>
                </a:solidFill>
                <a:latin typeface="Arial Narrow"/>
              </a:rPr>
              <a:t>Anticipa los riesgos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”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006720" y="2562120"/>
            <a:ext cx="51116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ercamiento para asociar y manejar riesgos basado en los objetivos y estrategias corporativas.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009960" y="3333600"/>
            <a:ext cx="51084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ercamiento para soportar y asegurar la estrategia y responsabilidades de los riesgos.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3009960" y="5657760"/>
            <a:ext cx="510840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ar riesgos potenciales contra Oportunidades dentro del portafolio establecido basado en la disposición o apetito y capacidad de aceptar el riesg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3011400" y="4122720"/>
            <a:ext cx="51292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s para identificación, asesorar y categorizar riesgos a través de la compañía.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3014640" y="4954680"/>
            <a:ext cx="510372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ecimiento del criterio de medición y el proceso continuo de medición y mejoramiento del trabajo.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77" name="Group 17"/>
          <p:cNvGrpSpPr/>
          <p:nvPr/>
        </p:nvGrpSpPr>
        <p:grpSpPr>
          <a:xfrm>
            <a:off x="1108080" y="2523960"/>
            <a:ext cx="1806120" cy="3681360"/>
            <a:chOff x="1108080" y="2523960"/>
            <a:chExt cx="1806120" cy="3681360"/>
          </a:xfrm>
        </p:grpSpPr>
        <p:sp>
          <p:nvSpPr>
            <p:cNvPr id="78" name="AutoShape 18"/>
            <p:cNvSpPr/>
            <p:nvPr/>
          </p:nvSpPr>
          <p:spPr>
            <a:xfrm>
              <a:off x="1108080" y="3299400"/>
              <a:ext cx="1806120" cy="502200"/>
            </a:xfrm>
            <a:custGeom>
              <a:avLst/>
              <a:gdLst>
                <a:gd name="textAreaLeft" fmla="*/ 0 w 1806120"/>
                <a:gd name="textAreaRight" fmla="*/ 1806480 w 180612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36" y="0"/>
                  </a:lnTo>
                  <a:lnTo>
                    <a:pt x="21600" y="10800"/>
                  </a:lnTo>
                  <a:lnTo>
                    <a:pt x="1983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9" name="AutoShape 19"/>
            <p:cNvSpPr/>
            <p:nvPr/>
          </p:nvSpPr>
          <p:spPr>
            <a:xfrm>
              <a:off x="1108080" y="4089240"/>
              <a:ext cx="1806120" cy="502200"/>
            </a:xfrm>
            <a:custGeom>
              <a:avLst/>
              <a:gdLst>
                <a:gd name="textAreaLeft" fmla="*/ 0 w 1806120"/>
                <a:gd name="textAreaRight" fmla="*/ 1806480 w 180612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36" y="0"/>
                  </a:lnTo>
                  <a:lnTo>
                    <a:pt x="21600" y="10800"/>
                  </a:lnTo>
                  <a:lnTo>
                    <a:pt x="1983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80" name="AutoShape 20"/>
            <p:cNvSpPr/>
            <p:nvPr/>
          </p:nvSpPr>
          <p:spPr>
            <a:xfrm>
              <a:off x="1108080" y="4914360"/>
              <a:ext cx="1806120" cy="502560"/>
            </a:xfrm>
            <a:custGeom>
              <a:avLst/>
              <a:gdLst>
                <a:gd name="textAreaLeft" fmla="*/ 0 w 1806120"/>
                <a:gd name="textAreaRight" fmla="*/ 1806480 w 180612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36" y="0"/>
                  </a:lnTo>
                  <a:lnTo>
                    <a:pt x="21600" y="10800"/>
                  </a:lnTo>
                  <a:lnTo>
                    <a:pt x="1983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81" name="AutoShape 21"/>
            <p:cNvSpPr/>
            <p:nvPr/>
          </p:nvSpPr>
          <p:spPr>
            <a:xfrm>
              <a:off x="1108080" y="5702760"/>
              <a:ext cx="1806120" cy="502560"/>
            </a:xfrm>
            <a:custGeom>
              <a:avLst/>
              <a:gdLst>
                <a:gd name="textAreaLeft" fmla="*/ 0 w 1806120"/>
                <a:gd name="textAreaRight" fmla="*/ 1806480 w 180612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36" y="0"/>
                  </a:lnTo>
                  <a:lnTo>
                    <a:pt x="21600" y="10800"/>
                  </a:lnTo>
                  <a:lnTo>
                    <a:pt x="1983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82" name="AutoShape 22"/>
            <p:cNvSpPr/>
            <p:nvPr/>
          </p:nvSpPr>
          <p:spPr>
            <a:xfrm>
              <a:off x="1108080" y="2523960"/>
              <a:ext cx="1806120" cy="502200"/>
            </a:xfrm>
            <a:custGeom>
              <a:avLst/>
              <a:gdLst>
                <a:gd name="textAreaLeft" fmla="*/ 0 w 1806120"/>
                <a:gd name="textAreaRight" fmla="*/ 1806480 w 180612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36" y="0"/>
                  </a:lnTo>
                  <a:lnTo>
                    <a:pt x="21600" y="10800"/>
                  </a:lnTo>
                  <a:lnTo>
                    <a:pt x="1983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83" name="Text Box 24"/>
          <p:cNvSpPr/>
          <p:nvPr/>
        </p:nvSpPr>
        <p:spPr>
          <a:xfrm>
            <a:off x="1219320" y="2505240"/>
            <a:ext cx="150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strategia de Riesg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1212840" y="3295800"/>
            <a:ext cx="151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structura del riesg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1222200" y="4071960"/>
            <a:ext cx="14986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ortafoli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" name="Text Box 27"/>
          <p:cNvSpPr/>
          <p:nvPr/>
        </p:nvSpPr>
        <p:spPr>
          <a:xfrm>
            <a:off x="1236600" y="4944960"/>
            <a:ext cx="147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" name="Text Box 28"/>
          <p:cNvSpPr/>
          <p:nvPr/>
        </p:nvSpPr>
        <p:spPr>
          <a:xfrm>
            <a:off x="1268280" y="5745240"/>
            <a:ext cx="140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Optimizac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" name="Rectangle 29"/>
          <p:cNvSpPr/>
          <p:nvPr/>
        </p:nvSpPr>
        <p:spPr>
          <a:xfrm>
            <a:off x="3009960" y="1863720"/>
            <a:ext cx="5108400" cy="445788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" name="Text Box 30"/>
          <p:cNvSpPr/>
          <p:nvPr/>
        </p:nvSpPr>
        <p:spPr>
          <a:xfrm>
            <a:off x="1189080" y="4838760"/>
            <a:ext cx="149868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edición y monitore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2"/>
          <p:cNvSpPr/>
          <p:nvPr/>
        </p:nvSpPr>
        <p:spPr>
          <a:xfrm>
            <a:off x="539640" y="1679400"/>
            <a:ext cx="777240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os objetivos pueden ser cuantitativo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mantener el capital por encima del límite legal, mantener un ROE mayor a 5%)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o cualitativo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continuidad de operaciones, aumentar la confianza del público).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Uno o varios objetivos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e.g. mantener el capital por encima del límite legal a la vez que aumentar la confianza del público). 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ando hay más de un objetivo, hay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roblemas de agrega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, ya que un riesgo puede afectar de distinta manera ambos objetivos, y los impactos pueden no ser independientes entre sí.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4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1:</a:t>
            </a:r>
            <a:r>
              <a:rPr b="0" lang="es-PE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Establecer objetivo(s) estratégico(s) sobre los que evaluaremos el impacto de los riesgos</a:t>
            </a:r>
            <a:endParaRPr b="0" lang="en-US" sz="29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6" name="Line 6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8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9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ff0000"/>
                </a:solidFill>
                <a:latin typeface="Tahoma"/>
              </a:rPr>
              <a:t>Paso 2:</a:t>
            </a:r>
            <a:r>
              <a:rPr b="0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Identificar los eventos que </a:t>
            </a:r>
            <a:r>
              <a:rPr b="0" lang="es-PE" sz="2600" spc="-1" strike="noStrike">
                <a:solidFill>
                  <a:srgbClr val="000000"/>
                </a:solidFill>
                <a:latin typeface="Tahoma"/>
              </a:rPr>
              <a:t>pueden afectar la implementación de la estrategia o el logro de objetivos</a:t>
            </a:r>
            <a:endParaRPr b="0" lang="en-US" sz="2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1" name="Line 6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2" name="Rectangle 7"/>
          <p:cNvSpPr/>
          <p:nvPr/>
        </p:nvSpPr>
        <p:spPr>
          <a:xfrm>
            <a:off x="179280" y="1704960"/>
            <a:ext cx="8736120" cy="40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Técnicas para identificar eventos: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ventarios de eventos pasados,  talleres para identificar eventos a partir de la experiencia del personal, agrupar a los eventos en categorías, definir “gatillos” por encima de los cuales se considera un evento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Selectividad</a:t>
            </a:r>
            <a:r>
              <a:rPr b="1" lang="es-PE" sz="20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Aunque muchos eventos pueden afectar a los bancos, sólo algunos afectarán sus objetivos estratégicos u operativos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Eventos esperados y no esperado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: Se debe considerar los </a:t>
            </a: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eventos esperado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(recurrentes, familiares) y los </a:t>
            </a: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eventos no esperado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(de baja probabilidad de ocurrencia pero que, de materializarse, pueden tener un fuerte impacto)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4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2:</a:t>
            </a:r>
            <a:r>
              <a:rPr b="1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dentificar los eventos que 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pueden afectar la implementación de la estrategia o el logro de objetivos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6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aphicFrame>
        <p:nvGraphicFramePr>
          <p:cNvPr id="987" name="Object 7"/>
          <p:cNvGraphicFramePr/>
          <p:nvPr/>
        </p:nvGraphicFramePr>
        <p:xfrm>
          <a:off x="762120" y="1981080"/>
          <a:ext cx="80010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001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9" name="Rectangle 8"/>
          <p:cNvSpPr/>
          <p:nvPr/>
        </p:nvSpPr>
        <p:spPr>
          <a:xfrm>
            <a:off x="7560" y="1461960"/>
            <a:ext cx="26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cc00"/>
                </a:solidFill>
                <a:latin typeface="Tahoma"/>
              </a:rPr>
              <a:t>....un ejemplo:</a:t>
            </a:r>
            <a:endParaRPr b="1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1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3:</a:t>
            </a:r>
            <a:r>
              <a:rPr b="1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el modelo para elaborar el mapa de riesgos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4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5" name="Rectangle 7"/>
          <p:cNvSpPr/>
          <p:nvPr/>
        </p:nvSpPr>
        <p:spPr>
          <a:xfrm>
            <a:off x="380880" y="2057400"/>
            <a:ext cx="84582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Para establecer la importancia de los riesgos (probabilidad e impacto) se puede usar una </a:t>
            </a: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combinación de técnicas cuantitativas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precisas, complejas, sofisticadas) </a:t>
            </a: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y cualitativas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prácticas, económicas). 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A veces no es posible (o es muy costoso) estimar la probabilidad de ocurrencia o su impacto, y se puede optar por </a:t>
            </a: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aproximaciones cualitativas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a éstos: e.g. Evaluar si la probabilidad o el impacto son ALTO, MEDIO o BAJO. Esta evaluación puede resultar del consenso de un grupo informado, o de estándares preestablecidos en los manuales de operación. 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Los resultados dependerán fundamentalmente de </a:t>
            </a: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la calidad de la información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, de los supuestos y del modelo utilizado para la estimación. A veces es útil evaluar la sensibilidad de los resultados a cambios en la especificación del modelo o en los supuestos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Lo más importante: ....buena información y simplicidad ante todo.....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9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3:</a:t>
            </a:r>
            <a:r>
              <a:rPr b="1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el modelo del mapa de riesgos</a:t>
            </a:r>
            <a:r>
              <a:rPr b="0" lang="es-PE" sz="36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600"/>
            </a:br>
            <a:r>
              <a:rPr b="0" lang="es-PE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Técnicas cuantitativas</a:t>
            </a:r>
            <a:endParaRPr b="0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 fontScale="99000"/>
          </a:bodyPr>
          <a:p>
            <a:pPr marL="4244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marL="424440" indent="-42444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Entre las técnicas cuantitativas más comunes podemos citar:</a:t>
            </a: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906480" indent="-36900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ff"/>
                </a:solidFill>
                <a:latin typeface="Arial"/>
              </a:rPr>
              <a:t>Benchmarking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: Técnica en la que varios participantes de un mercado (o personas) comparten información de eventos, valoraciones o precios para generar métricas comunes. Se puede usar para estimar probabilidades de ocurrencia e impactos de un determinado evento a nivel de mercado o en una institución. </a:t>
            </a: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906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906480" indent="-36900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ff"/>
                </a:solidFill>
                <a:latin typeface="Arial"/>
              </a:rPr>
              <a:t>Modelos probabilísticos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: Asocian rangos de eventos e impacto resultante a una probabilidad de ocurrencia, sobre la base de ciertos supuestos, basados en información histórica o simulada. Algunos ejemplos son los modelos de valor en riesgo o ganancia en riesgo, o las estimaciones de probabilidad de no pago de un deudor. Estos modelos pueden ser usados para comparar impactos de eventos esperados con aquellos de eventos extremos o de baja probabilidad. </a:t>
            </a: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906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906480" indent="-36900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ff"/>
                </a:solidFill>
                <a:latin typeface="Arial"/>
              </a:rPr>
              <a:t>Modelos no probabilísticos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: Utilizan supuestos ad-hoc para determinar el impacto de ciertos eventos sin estimar su probabilidad de ocurrencia. Algunos ejemplos son los análisis de sensibilidad, estrés tests o análisis de escenarios. </a:t>
            </a: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906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marL="424440" indent="-42444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La elección de la técnica dependerá de la necesidad de precisión, de la cultura de quien efectúa el análisis, etc. Pero no se debe perder de vista que </a:t>
            </a:r>
            <a:r>
              <a:rPr b="0" lang="es-PE" sz="1600" spc="-1" strike="noStrike">
                <a:solidFill>
                  <a:srgbClr val="0000ff"/>
                </a:solidFill>
                <a:latin typeface="Arial"/>
              </a:rPr>
              <a:t>el fin último es  facilitar la evaluación de los riesgos.</a:t>
            </a: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8" name="Line 4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" dur="2000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70"/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770" fill="hold"/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" dur="770" fill="hold"/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0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1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0000"/>
                </a:solidFill>
                <a:latin typeface="Tahoma"/>
              </a:rPr>
              <a:t>Paso 4:</a:t>
            </a: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Estimar el modelo... asignar impactos y probabilidades de ocurrencia a cada uno de los riesgos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3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4" name="Text Box 7"/>
          <p:cNvSpPr/>
          <p:nvPr/>
        </p:nvSpPr>
        <p:spPr>
          <a:xfrm>
            <a:off x="152280" y="160020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ffcc00"/>
                </a:solidFill>
                <a:latin typeface="Arial"/>
              </a:rPr>
              <a:t>....un ejemplo: 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  <p:graphicFrame>
        <p:nvGraphicFramePr>
          <p:cNvPr id="1005" name="Object 8"/>
          <p:cNvGraphicFramePr/>
          <p:nvPr/>
        </p:nvGraphicFramePr>
        <p:xfrm>
          <a:off x="47520" y="2133720"/>
          <a:ext cx="9096480" cy="45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2133720"/>
                    <a:ext cx="90964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8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9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4:</a:t>
            </a:r>
            <a:r>
              <a:rPr b="1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Estimar el modelo... asignar grados de importancia a los riesgos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11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12" name="Text Box 7"/>
          <p:cNvSpPr/>
          <p:nvPr/>
        </p:nvSpPr>
        <p:spPr>
          <a:xfrm>
            <a:off x="152280" y="160020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ffcc00"/>
                </a:solidFill>
                <a:latin typeface="Arial"/>
              </a:rPr>
              <a:t>....un ejemplo: 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  <p:graphicFrame>
        <p:nvGraphicFramePr>
          <p:cNvPr id="1013" name="Object 8"/>
          <p:cNvGraphicFramePr/>
          <p:nvPr/>
        </p:nvGraphicFramePr>
        <p:xfrm>
          <a:off x="380880" y="2286000"/>
          <a:ext cx="556272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55627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5" name="Text Box 9"/>
          <p:cNvSpPr/>
          <p:nvPr/>
        </p:nvSpPr>
        <p:spPr>
          <a:xfrm>
            <a:off x="6553080" y="2286000"/>
            <a:ext cx="2286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ffcc00"/>
                </a:solidFill>
                <a:latin typeface="Tahoma"/>
              </a:rPr>
              <a:t>A mayor riesgo ...corresponde una mayor </a:t>
            </a:r>
            <a:r>
              <a:rPr b="1" lang="es-PE" sz="2500" spc="-1" strike="noStrike">
                <a:solidFill>
                  <a:srgbClr val="ffcc00"/>
                </a:solidFill>
                <a:latin typeface="Arial"/>
              </a:rPr>
              <a:t>urgencia</a:t>
            </a:r>
            <a:r>
              <a:rPr b="1" lang="es-PE" sz="2500" spc="-1" strike="noStrike">
                <a:solidFill>
                  <a:srgbClr val="ffcc00"/>
                </a:solidFill>
                <a:latin typeface="Tahoma"/>
              </a:rPr>
              <a:t> o intensidad de  respuesta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17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18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5:</a:t>
            </a:r>
            <a:r>
              <a:rPr b="1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Construir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el mapa de riesgos del banco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aphicFrame>
        <p:nvGraphicFramePr>
          <p:cNvPr id="1021" name="Object 7"/>
          <p:cNvGraphicFramePr/>
          <p:nvPr/>
        </p:nvGraphicFramePr>
        <p:xfrm>
          <a:off x="0" y="1523880"/>
          <a:ext cx="70866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70866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3" name="Text Box 8"/>
          <p:cNvSpPr/>
          <p:nvPr/>
        </p:nvSpPr>
        <p:spPr>
          <a:xfrm>
            <a:off x="7238880" y="1905120"/>
            <a:ext cx="175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Cada número corresponde a un riesgo: los riesgos 1 y 6 son de alta prioridad; los riesgos 8,17 y 19 son de prioridad media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25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26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0000"/>
                </a:solidFill>
                <a:latin typeface="Tahoma"/>
              </a:rPr>
              <a:t>Paso 6:</a:t>
            </a: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dentificar respuestas, elaborar planes de acción e implementarlos.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28" name="Line 6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29" name="Rectangle 7"/>
          <p:cNvSpPr/>
          <p:nvPr/>
        </p:nvSpPr>
        <p:spPr>
          <a:xfrm>
            <a:off x="152280" y="1828800"/>
            <a:ext cx="8915400" cy="49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Identificar posibles respuestas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 para reducir probabilidad o impacto de los riesgos de acuerdo a su prioridad: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Evitar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: salir de la línea de negocio, del producto, del sector, de la zona que genera el riesgo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Reducir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: ej. pedir más garantías, reducir la exposición con un deudor, reducir montos máximos para aprobación de créditos, mejorar el calce de tasas de interés, desconcentrar depósitos, introducir nuevos controles. 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Compartir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 (transferir): tomar un seguro, operaciones de cobertura (“hedging”), créditos sindicados, etc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Aceptar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:  no tomar acción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Evaluar las respuestas posibles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Evaluar el efecto de la medida sobre la probabilidad de ocurrencia y sobre el impacto del riesgo: ¿nos coloca dentro de los niveles de tolerancia al riesgo aceptables? 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Evaluar costos y beneficios de la medid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Seleccionar una respuesta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: hacer un plan para su adopción e implementar el plan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Proceso iterativo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  ..........evaluar riesgo residual y volver a empezar..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30" name="Text Box 8"/>
          <p:cNvSpPr/>
          <p:nvPr/>
        </p:nvSpPr>
        <p:spPr>
          <a:xfrm>
            <a:off x="76320" y="1371600"/>
            <a:ext cx="9067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6666ff"/>
                </a:solidFill>
                <a:latin typeface="Arial"/>
              </a:rPr>
              <a:t>...Lo que el banco puede hacer: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32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33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6:</a:t>
            </a:r>
            <a:r>
              <a:rPr b="1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dentificar posibles respuestas, elaborar planes de acción e implementarlos.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35" name="Line 6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aphicFrame>
        <p:nvGraphicFramePr>
          <p:cNvPr id="1036" name="Object 7"/>
          <p:cNvGraphicFramePr/>
          <p:nvPr/>
        </p:nvGraphicFramePr>
        <p:xfrm>
          <a:off x="152280" y="1752480"/>
          <a:ext cx="89154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8915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Rectangle 8"/>
          <p:cNvSpPr/>
          <p:nvPr/>
        </p:nvSpPr>
        <p:spPr>
          <a:xfrm>
            <a:off x="79200" y="1295280"/>
            <a:ext cx="492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6666ff"/>
                </a:solidFill>
                <a:latin typeface="Arial"/>
              </a:rPr>
              <a:t>...Lo que el banco puede hacer: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2760" y="1179360"/>
            <a:ext cx="8288280" cy="114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Univers 65 Bold"/>
              </a:rPr>
              <a:t>La estrategia de riesgos lleva a la respuesta corporativa de riesgos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2082960" y="3094200"/>
            <a:ext cx="1027080" cy="3308040"/>
            <a:chOff x="2082960" y="3094200"/>
            <a:chExt cx="1027080" cy="3308040"/>
          </a:xfrm>
        </p:grpSpPr>
        <p:sp>
          <p:nvSpPr>
            <p:cNvPr id="92" name="Line 4"/>
            <p:cNvSpPr/>
            <p:nvPr/>
          </p:nvSpPr>
          <p:spPr>
            <a:xfrm>
              <a:off x="3110040" y="3094200"/>
              <a:ext cx="0" cy="33080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2082960" y="3094200"/>
              <a:ext cx="0" cy="33080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94" name="Text Box 6"/>
          <p:cNvSpPr/>
          <p:nvPr/>
        </p:nvSpPr>
        <p:spPr>
          <a:xfrm>
            <a:off x="1100160" y="3552840"/>
            <a:ext cx="31068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101600" y="414504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116000" y="4737240"/>
            <a:ext cx="310824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1112760" y="3094200"/>
            <a:ext cx="3105360" cy="3873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384800" y="5581800"/>
            <a:ext cx="180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99" name="Group 11"/>
          <p:cNvGrpSpPr/>
          <p:nvPr/>
        </p:nvGrpSpPr>
        <p:grpSpPr>
          <a:xfrm>
            <a:off x="2225520" y="5383080"/>
            <a:ext cx="1027440" cy="244440"/>
            <a:chOff x="2225520" y="5383080"/>
            <a:chExt cx="1027440" cy="244440"/>
          </a:xfrm>
        </p:grpSpPr>
        <p:sp>
          <p:nvSpPr>
            <p:cNvPr id="100" name="Line 12"/>
            <p:cNvSpPr/>
            <p:nvPr/>
          </p:nvSpPr>
          <p:spPr>
            <a:xfrm>
              <a:off x="3252960" y="538308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01" name="Line 13"/>
            <p:cNvSpPr/>
            <p:nvPr/>
          </p:nvSpPr>
          <p:spPr>
            <a:xfrm>
              <a:off x="2225520" y="538308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02" name="Text Box 14"/>
          <p:cNvSpPr/>
          <p:nvPr/>
        </p:nvSpPr>
        <p:spPr>
          <a:xfrm>
            <a:off x="1101600" y="592308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1106640" y="5329080"/>
            <a:ext cx="310032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401840" y="2344680"/>
            <a:ext cx="253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triz de madurez del riesg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1173240" y="3568680"/>
            <a:ext cx="29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trategia de riesgo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06" name="Group 18"/>
          <p:cNvGrpSpPr/>
          <p:nvPr/>
        </p:nvGrpSpPr>
        <p:grpSpPr>
          <a:xfrm>
            <a:off x="911160" y="3146400"/>
            <a:ext cx="3298680" cy="318600"/>
            <a:chOff x="911160" y="3146400"/>
            <a:chExt cx="3298680" cy="318600"/>
          </a:xfrm>
        </p:grpSpPr>
        <p:sp>
          <p:nvSpPr>
            <p:cNvPr id="107" name="Text Box 19"/>
            <p:cNvSpPr/>
            <p:nvPr/>
          </p:nvSpPr>
          <p:spPr>
            <a:xfrm>
              <a:off x="1144080" y="3146400"/>
              <a:ext cx="81792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Reactiv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08" name="Text Box 20"/>
            <p:cNvSpPr/>
            <p:nvPr/>
          </p:nvSpPr>
          <p:spPr>
            <a:xfrm>
              <a:off x="2196720" y="3147840"/>
              <a:ext cx="715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Táct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09" name="Text Box 21"/>
            <p:cNvSpPr/>
            <p:nvPr/>
          </p:nvSpPr>
          <p:spPr>
            <a:xfrm>
              <a:off x="3197160" y="3146400"/>
              <a:ext cx="1012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Estrateg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10" name="Text Box 22"/>
            <p:cNvSpPr/>
            <p:nvPr/>
          </p:nvSpPr>
          <p:spPr>
            <a:xfrm>
              <a:off x="911160" y="3227040"/>
              <a:ext cx="96696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11" name="Text Box 23"/>
            <p:cNvSpPr/>
            <p:nvPr/>
          </p:nvSpPr>
          <p:spPr>
            <a:xfrm>
              <a:off x="1937520" y="3224160"/>
              <a:ext cx="9554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12" name="Text Box 24"/>
            <p:cNvSpPr/>
            <p:nvPr/>
          </p:nvSpPr>
          <p:spPr>
            <a:xfrm>
              <a:off x="2948760" y="3224160"/>
              <a:ext cx="10292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13" name="Text Box 25"/>
          <p:cNvSpPr/>
          <p:nvPr/>
        </p:nvSpPr>
        <p:spPr>
          <a:xfrm>
            <a:off x="4683240" y="2338560"/>
            <a:ext cx="43434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Las prácticas actuales incluyen</a:t>
            </a:r>
            <a:r>
              <a:rPr b="1" lang="en-US" sz="2200" spc="-1" strike="noStrike">
                <a:solidFill>
                  <a:srgbClr val="0000ff"/>
                </a:solidFill>
                <a:latin typeface="Univers 65 Bold"/>
              </a:rPr>
              <a:t>: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El riesgo es integrado con la planeación y el presupuesto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Las políticas de manejo de riesgos y procedimientos existen y son integrales a las operaciones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La junta y los directivos apoyan el acercamiento de ERM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7400" y="1236600"/>
            <a:ext cx="8288640" cy="114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Univers 65 Bold"/>
              </a:rPr>
              <a:t>La estructura de riesgos ayuda a asegurar la estrategia y las responsabilidades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1978200" y="3017880"/>
            <a:ext cx="1027080" cy="3333600"/>
            <a:chOff x="1978200" y="3017880"/>
            <a:chExt cx="1027080" cy="3333600"/>
          </a:xfrm>
        </p:grpSpPr>
        <p:sp>
          <p:nvSpPr>
            <p:cNvPr id="117" name="Line 4"/>
            <p:cNvSpPr/>
            <p:nvPr/>
          </p:nvSpPr>
          <p:spPr>
            <a:xfrm>
              <a:off x="3005280" y="301788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18" name="Line 5"/>
            <p:cNvSpPr/>
            <p:nvPr/>
          </p:nvSpPr>
          <p:spPr>
            <a:xfrm>
              <a:off x="1978200" y="301788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19" name="Text Box 6"/>
          <p:cNvSpPr/>
          <p:nvPr/>
        </p:nvSpPr>
        <p:spPr>
          <a:xfrm>
            <a:off x="852480" y="3502080"/>
            <a:ext cx="31068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853920" y="409428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868320" y="4686480"/>
            <a:ext cx="310824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879480" y="3043080"/>
            <a:ext cx="3105000" cy="3873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4137120" y="5530680"/>
            <a:ext cx="180720" cy="17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24" name="Group 11"/>
          <p:cNvGrpSpPr/>
          <p:nvPr/>
        </p:nvGrpSpPr>
        <p:grpSpPr>
          <a:xfrm>
            <a:off x="1978200" y="5332320"/>
            <a:ext cx="1027080" cy="244440"/>
            <a:chOff x="1978200" y="5332320"/>
            <a:chExt cx="1027080" cy="244440"/>
          </a:xfrm>
        </p:grpSpPr>
        <p:sp>
          <p:nvSpPr>
            <p:cNvPr id="125" name="Line 12"/>
            <p:cNvSpPr/>
            <p:nvPr/>
          </p:nvSpPr>
          <p:spPr>
            <a:xfrm>
              <a:off x="3005280" y="533232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>
              <a:off x="1978200" y="533232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27" name="Text Box 14"/>
          <p:cNvSpPr/>
          <p:nvPr/>
        </p:nvSpPr>
        <p:spPr>
          <a:xfrm>
            <a:off x="853920" y="587232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858960" y="5278320"/>
            <a:ext cx="310032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1154160" y="2293920"/>
            <a:ext cx="253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triz de madurez del riesg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941400" y="4114800"/>
            <a:ext cx="30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tructura de riesg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31" name="Group 18"/>
          <p:cNvGrpSpPr/>
          <p:nvPr/>
        </p:nvGrpSpPr>
        <p:grpSpPr>
          <a:xfrm>
            <a:off x="649440" y="3095640"/>
            <a:ext cx="3355560" cy="324000"/>
            <a:chOff x="649440" y="3095640"/>
            <a:chExt cx="3355560" cy="324000"/>
          </a:xfrm>
        </p:grpSpPr>
        <p:sp>
          <p:nvSpPr>
            <p:cNvPr id="132" name="Text Box 19"/>
            <p:cNvSpPr/>
            <p:nvPr/>
          </p:nvSpPr>
          <p:spPr>
            <a:xfrm>
              <a:off x="886680" y="3095640"/>
              <a:ext cx="81792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Reactiv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33" name="Text Box 20"/>
            <p:cNvSpPr/>
            <p:nvPr/>
          </p:nvSpPr>
          <p:spPr>
            <a:xfrm>
              <a:off x="1967040" y="3097080"/>
              <a:ext cx="715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Táct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34" name="Text Box 21"/>
            <p:cNvSpPr/>
            <p:nvPr/>
          </p:nvSpPr>
          <p:spPr>
            <a:xfrm>
              <a:off x="2992320" y="3095640"/>
              <a:ext cx="1012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Estratég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35" name="Text Box 22"/>
            <p:cNvSpPr/>
            <p:nvPr/>
          </p:nvSpPr>
          <p:spPr>
            <a:xfrm>
              <a:off x="649440" y="3181320"/>
              <a:ext cx="99000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36" name="Text Box 23"/>
            <p:cNvSpPr/>
            <p:nvPr/>
          </p:nvSpPr>
          <p:spPr>
            <a:xfrm>
              <a:off x="1701360" y="3178080"/>
              <a:ext cx="97920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37" name="Text Box 24"/>
            <p:cNvSpPr/>
            <p:nvPr/>
          </p:nvSpPr>
          <p:spPr>
            <a:xfrm>
              <a:off x="2737800" y="3178080"/>
              <a:ext cx="105588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38" name="Text Box 25"/>
          <p:cNvSpPr/>
          <p:nvPr/>
        </p:nvSpPr>
        <p:spPr>
          <a:xfrm>
            <a:off x="4378320" y="159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4595760" y="2317680"/>
            <a:ext cx="43988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Las prácticas actuales incluyen</a:t>
            </a:r>
            <a:r>
              <a:rPr b="1" lang="en-US" sz="2200" spc="-1" strike="noStrike">
                <a:solidFill>
                  <a:srgbClr val="0000ff"/>
                </a:solidFill>
                <a:latin typeface="Univers 65 Bold"/>
              </a:rPr>
              <a:t>: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Comité de riesgos unido a las actividades a lo largo del negocio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Evaluaciones de desempeño ligadas a las competencias en la administración de riesgos en toda la organización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Estructura/sistema formal de reporte de riesgos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1" name="AutoShape 2"/>
          <p:cNvCxnSpPr/>
          <p:nvPr/>
        </p:nvCxnSpPr>
        <p:spPr>
          <a:xfrm flipH="1">
            <a:off x="3690360" y="3031920"/>
            <a:ext cx="4356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3"/>
          <p:cNvCxnSpPr/>
          <p:nvPr/>
        </p:nvCxnSpPr>
        <p:spPr>
          <a:xfrm>
            <a:off x="5889240" y="4911480"/>
            <a:ext cx="87840" cy="802440"/>
          </a:xfrm>
          <a:prstGeom prst="bentConnector3">
            <a:avLst>
              <a:gd name="adj1" fmla="val 401234"/>
            </a:avLst>
          </a:prstGeom>
          <a:ln w="9360">
            <a:solidFill>
              <a:srgbClr val="f7e4d1"/>
            </a:solidFill>
            <a:miter/>
          </a:ln>
        </p:spPr>
      </p:cxnSp>
      <p:sp>
        <p:nvSpPr>
          <p:cNvPr id="143" name="Line 4"/>
          <p:cNvSpPr/>
          <p:nvPr/>
        </p:nvSpPr>
        <p:spPr>
          <a:xfrm flipV="1">
            <a:off x="3083040" y="4609800"/>
            <a:ext cx="0" cy="1508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4" name="Line 5"/>
          <p:cNvSpPr/>
          <p:nvPr/>
        </p:nvSpPr>
        <p:spPr>
          <a:xfrm flipV="1">
            <a:off x="4836960" y="4609800"/>
            <a:ext cx="0" cy="1508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0720" y="5340240"/>
            <a:ext cx="5526360" cy="1189080"/>
          </a:xfrm>
          <a:prstGeom prst="rect">
            <a:avLst/>
          </a:prstGeom>
          <a:solidFill>
            <a:srgbClr val="ffff5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dentificar, analizar, evaluar y optimizar los riesgos de los proceso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cer seguimiento a indicadore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portar riesg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ticipar en la definición e implantación de las acciones correctiva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alizar Autoevaluacione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ntener responsables de riesgos – “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ORDINADORES”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63600" y="4738680"/>
            <a:ext cx="1754280" cy="450720"/>
          </a:xfrm>
          <a:prstGeom prst="rect">
            <a:avLst/>
          </a:prstGeom>
          <a:solidFill>
            <a:srgbClr val="f7e4d1"/>
          </a:solidFill>
          <a:ln w="936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66"/>
                </a:solidFill>
                <a:latin typeface="Arial"/>
              </a:rPr>
              <a:t>Proceso 1</a:t>
            </a:r>
            <a:endParaRPr b="1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427800" y="1817640"/>
            <a:ext cx="2676600" cy="1446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0080" indent="-100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aff0a"/>
                </a:solidFill>
                <a:latin typeface="Arial"/>
              </a:rPr>
              <a:t>Comité de Control Intern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Informar a la Junta Directiva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Establecer prioridades de control intern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Supervisar las tareas realizadas por el dependencia de control intern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1474920" y="1847880"/>
            <a:ext cx="3313080" cy="1201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0080" indent="-100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Comité de Riesg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Aprobar política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Aprobar el perfil de riesgos de la entidad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Informar a la Junta directiva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Asignar recurs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379600" y="4761000"/>
            <a:ext cx="1492200" cy="450720"/>
          </a:xfrm>
          <a:prstGeom prst="rect">
            <a:avLst/>
          </a:prstGeom>
          <a:solidFill>
            <a:srgbClr val="f7e4d1"/>
          </a:solidFill>
          <a:ln w="936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66"/>
                </a:solidFill>
                <a:latin typeface="Arial"/>
              </a:rPr>
              <a:t>Proceso 2</a:t>
            </a:r>
            <a:endParaRPr b="1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4046400" y="4761000"/>
            <a:ext cx="1843200" cy="450720"/>
          </a:xfrm>
          <a:prstGeom prst="rect">
            <a:avLst/>
          </a:prstGeom>
          <a:solidFill>
            <a:srgbClr val="f7e4d1"/>
          </a:solidFill>
          <a:ln w="936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66"/>
                </a:solidFill>
                <a:latin typeface="Arial"/>
              </a:rPr>
              <a:t>Proceso n</a:t>
            </a:r>
            <a:endParaRPr b="1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67400" y="3838680"/>
            <a:ext cx="2600280" cy="2538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aff0a"/>
                </a:solidFill>
                <a:latin typeface="Arial"/>
              </a:rPr>
              <a:t>Control interno</a:t>
            </a:r>
            <a:endParaRPr b="1" lang="en-US" sz="15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Supervisar los procedimient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Coordinar y proveer input para la Autoevaluac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Revisar el sistema de reporte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Revisar el marco general de gest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Informar a la alta dirección y al comité de control intern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cxnSp>
        <p:nvCxnSpPr>
          <p:cNvPr id="152" name="AutoShape 13"/>
          <p:cNvCxnSpPr>
            <a:stCxn id="146" idx="1"/>
            <a:endCxn id="145" idx="1"/>
          </p:cNvCxnSpPr>
          <p:nvPr/>
        </p:nvCxnSpPr>
        <p:spPr>
          <a:xfrm flipH="1" flipV="1" rot="10800000">
            <a:off x="363240" y="4963680"/>
            <a:ext cx="87840" cy="975600"/>
          </a:xfrm>
          <a:prstGeom prst="bentConnector3">
            <a:avLst>
              <a:gd name="adj1" fmla="val -26172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Rectangle 14"/>
          <p:cNvSpPr/>
          <p:nvPr/>
        </p:nvSpPr>
        <p:spPr>
          <a:xfrm>
            <a:off x="187200" y="3247920"/>
            <a:ext cx="6053400" cy="13622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0080" indent="-100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ependencia para la Administración Integral de Riesg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Definir metodologías para la identificación, evaluación, monitoreo y reporte de riesgo.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Definir políticas 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Desarrollar programas de capacitación y sensibilizac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Establecer la necesidades de informac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Informar a la alta Direcc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4" name="Line 15"/>
          <p:cNvSpPr/>
          <p:nvPr/>
        </p:nvSpPr>
        <p:spPr>
          <a:xfrm flipV="1">
            <a:off x="801720" y="4581000"/>
            <a:ext cx="0" cy="1508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2994120" y="3049560"/>
            <a:ext cx="0" cy="3016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cxnSp>
        <p:nvCxnSpPr>
          <p:cNvPr id="156" name="AutoShape 17"/>
          <p:cNvCxnSpPr>
            <a:stCxn id="151" idx="0"/>
            <a:endCxn id="147" idx="2"/>
          </p:cNvCxnSpPr>
          <p:nvPr/>
        </p:nvCxnSpPr>
        <p:spPr>
          <a:xfrm flipV="1" rot="16200000">
            <a:off x="7478640" y="3549600"/>
            <a:ext cx="57564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57" name="Line 18"/>
          <p:cNvSpPr/>
          <p:nvPr/>
        </p:nvSpPr>
        <p:spPr>
          <a:xfrm>
            <a:off x="5889600" y="483552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1995480" y="1230480"/>
            <a:ext cx="536256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Univers 65 Bold"/>
              </a:rPr>
              <a:t>E s t r u c t u r a  d e  R i e s g o s</a:t>
            </a:r>
            <a:endParaRPr b="1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407880" y="115920"/>
            <a:ext cx="828828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61" name="Line 23"/>
          <p:cNvSpPr/>
          <p:nvPr/>
        </p:nvSpPr>
        <p:spPr>
          <a:xfrm flipV="1">
            <a:off x="1233360" y="5195880"/>
            <a:ext cx="0" cy="13176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62" name="Line 24"/>
          <p:cNvSpPr/>
          <p:nvPr/>
        </p:nvSpPr>
        <p:spPr>
          <a:xfrm flipV="1">
            <a:off x="3192480" y="5195880"/>
            <a:ext cx="0" cy="14616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63" name="Line 25"/>
          <p:cNvSpPr/>
          <p:nvPr/>
        </p:nvSpPr>
        <p:spPr>
          <a:xfrm flipV="1">
            <a:off x="4905360" y="5210280"/>
            <a:ext cx="0" cy="13176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9920" y="1177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Univers 65 Bold"/>
              </a:rPr>
              <a:t>Las técnicas de portafolio ayudan a observar los riesgos a lo largo de la organización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2008080" y="3017880"/>
            <a:ext cx="1027080" cy="3333600"/>
            <a:chOff x="2008080" y="3017880"/>
            <a:chExt cx="1027080" cy="3333600"/>
          </a:xfrm>
        </p:grpSpPr>
        <p:sp>
          <p:nvSpPr>
            <p:cNvPr id="166" name="Line 4"/>
            <p:cNvSpPr/>
            <p:nvPr/>
          </p:nvSpPr>
          <p:spPr>
            <a:xfrm>
              <a:off x="3035160" y="301788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67" name="Line 5"/>
            <p:cNvSpPr/>
            <p:nvPr/>
          </p:nvSpPr>
          <p:spPr>
            <a:xfrm>
              <a:off x="2008080" y="301788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68" name="Text Box 6"/>
          <p:cNvSpPr/>
          <p:nvPr/>
        </p:nvSpPr>
        <p:spPr>
          <a:xfrm>
            <a:off x="882720" y="3502080"/>
            <a:ext cx="31068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884160" y="409428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898560" y="4686480"/>
            <a:ext cx="310824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909720" y="3043080"/>
            <a:ext cx="3105000" cy="3873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167360" y="5530680"/>
            <a:ext cx="180720" cy="17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2008080" y="5332320"/>
            <a:ext cx="1027080" cy="244440"/>
            <a:chOff x="2008080" y="5332320"/>
            <a:chExt cx="1027080" cy="244440"/>
          </a:xfrm>
        </p:grpSpPr>
        <p:sp>
          <p:nvSpPr>
            <p:cNvPr id="174" name="Line 12"/>
            <p:cNvSpPr/>
            <p:nvPr/>
          </p:nvSpPr>
          <p:spPr>
            <a:xfrm>
              <a:off x="3035160" y="533232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>
              <a:off x="2008080" y="533232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76" name="Text Box 14"/>
          <p:cNvSpPr/>
          <p:nvPr/>
        </p:nvSpPr>
        <p:spPr>
          <a:xfrm>
            <a:off x="884160" y="587232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888840" y="5278320"/>
            <a:ext cx="310068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1184400" y="2293920"/>
            <a:ext cx="253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triz de madurez de riesgos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357120" y="4599000"/>
            <a:ext cx="424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t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lio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80" name="Group 18"/>
          <p:cNvGrpSpPr/>
          <p:nvPr/>
        </p:nvGrpSpPr>
        <p:grpSpPr>
          <a:xfrm>
            <a:off x="706320" y="3108240"/>
            <a:ext cx="3298680" cy="319320"/>
            <a:chOff x="706320" y="3108240"/>
            <a:chExt cx="3298680" cy="319320"/>
          </a:xfrm>
        </p:grpSpPr>
        <p:sp>
          <p:nvSpPr>
            <p:cNvPr id="181" name="Text Box 19"/>
            <p:cNvSpPr/>
            <p:nvPr/>
          </p:nvSpPr>
          <p:spPr>
            <a:xfrm>
              <a:off x="939240" y="3108240"/>
              <a:ext cx="81792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Reactiv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1991880" y="3109680"/>
              <a:ext cx="715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Táct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83" name="Text Box 21"/>
            <p:cNvSpPr/>
            <p:nvPr/>
          </p:nvSpPr>
          <p:spPr>
            <a:xfrm>
              <a:off x="2992320" y="3108240"/>
              <a:ext cx="1012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Estratég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84" name="Text Box 22"/>
            <p:cNvSpPr/>
            <p:nvPr/>
          </p:nvSpPr>
          <p:spPr>
            <a:xfrm>
              <a:off x="706320" y="3189240"/>
              <a:ext cx="96696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85" name="Text Box 23"/>
            <p:cNvSpPr/>
            <p:nvPr/>
          </p:nvSpPr>
          <p:spPr>
            <a:xfrm>
              <a:off x="1732680" y="3186000"/>
              <a:ext cx="9554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86" name="Text Box 24"/>
            <p:cNvSpPr/>
            <p:nvPr/>
          </p:nvSpPr>
          <p:spPr>
            <a:xfrm>
              <a:off x="2743920" y="3186000"/>
              <a:ext cx="10292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87" name="Text Box 25"/>
          <p:cNvSpPr/>
          <p:nvPr/>
        </p:nvSpPr>
        <p:spPr>
          <a:xfrm>
            <a:off x="4772160" y="183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4713120" y="2324160"/>
            <a:ext cx="4280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Univers 65 Bold"/>
              </a:rPr>
              <a:t>Las prácticas actuales incluyen: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Univers 65 Bold"/>
              </a:rPr>
              <a:t>Identificación del riesgo - asesoramiento de proces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Univers 65 Bold"/>
              </a:rPr>
              <a:t>Consistencia, criterio definido para la evaluación del riesgo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Univers 65 Bold"/>
              </a:rPr>
              <a:t>Apetito de riesgo definido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89" name="Rectangle 27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68120" y="2200320"/>
            <a:ext cx="8890200" cy="4241880"/>
          </a:xfrm>
          <a:prstGeom prst="rect">
            <a:avLst/>
          </a:prstGeom>
          <a:solidFill>
            <a:srgbClr val="ffff00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52440" y="4800600"/>
            <a:ext cx="8515440" cy="281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466b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52440" y="2158920"/>
            <a:ext cx="8515440" cy="281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466b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6067440" y="2171880"/>
            <a:ext cx="2771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Cumplimien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3171960" y="2158920"/>
            <a:ext cx="2819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Integridad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52440" y="2158920"/>
            <a:ext cx="2735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  <a:ea typeface="Times New Roman"/>
              </a:rPr>
              <a:t>Gobernabilidad</a:t>
            </a: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30200" y="2425680"/>
            <a:ext cx="21049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ratégic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centrac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cuentos sobre primas.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ímite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ditoría Intern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3236760" y="2425680"/>
            <a:ext cx="21686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aude de la gerenci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aude de los emplead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tos Ilícit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o no autorizado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6127920" y="2425680"/>
            <a:ext cx="273996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mpuest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lud y Seguridad Ambiental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ndo de Pensione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gal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3165480" y="2438280"/>
            <a:ext cx="2857320" cy="124488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352440" y="4829040"/>
            <a:ext cx="28195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  <a:ea typeface="Times New Roman"/>
              </a:rPr>
              <a:t>Manejo de la Información</a:t>
            </a: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3105000" y="4829040"/>
            <a:ext cx="2962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Manejo Financier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6062760" y="4829040"/>
            <a:ext cx="27478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Recursos Human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430200" y="3835440"/>
            <a:ext cx="21049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scripc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arifac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cias en condicione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2260440" y="3835440"/>
            <a:ext cx="13622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solescenci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rm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ficienci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dad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nologí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3660840" y="3835440"/>
            <a:ext cx="185580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e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product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allas del produc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ucro cesante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iclos de tiemp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5278320" y="3835440"/>
            <a:ext cx="230040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uficiencia de Reservas Técnica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ministración desempeñ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ptitud Recursos Human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ación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7348680" y="3835440"/>
            <a:ext cx="147312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ón y Mantenimien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s de Seguridad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tivac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407880" y="5087880"/>
            <a:ext cx="251136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 información  gerenci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encia de IT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fiabilidad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T extern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ceso/disponibilidad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idad/seguridad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plicabilidad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3238560" y="5100480"/>
            <a:ext cx="279072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uesto y planeac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ujo de caj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ción de inversione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es financier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mentos financier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sión de fond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ción contable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6110280" y="5087880"/>
            <a:ext cx="276228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nejo de RH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228600" indent="-22860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ptitude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228600" indent="-22860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clutamien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228600" indent="-22860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conocimiento/Conservación/Remunerac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228600" indent="-22860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nejo del desempeñ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228600" indent="-22860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de liderazgo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1" name="Line 23"/>
          <p:cNvSpPr/>
          <p:nvPr/>
        </p:nvSpPr>
        <p:spPr>
          <a:xfrm flipV="1">
            <a:off x="3171960" y="4800240"/>
            <a:ext cx="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2" name="Line 24"/>
          <p:cNvSpPr/>
          <p:nvPr/>
        </p:nvSpPr>
        <p:spPr>
          <a:xfrm flipV="1">
            <a:off x="6067440" y="4800240"/>
            <a:ext cx="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3" name="Line 25"/>
          <p:cNvSpPr/>
          <p:nvPr/>
        </p:nvSpPr>
        <p:spPr>
          <a:xfrm flipV="1">
            <a:off x="3171960" y="215892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4" name="Line 26"/>
          <p:cNvSpPr/>
          <p:nvPr/>
        </p:nvSpPr>
        <p:spPr>
          <a:xfrm flipV="1">
            <a:off x="6029280" y="215892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5" name="Rectangle 27"/>
          <p:cNvSpPr/>
          <p:nvPr/>
        </p:nvSpPr>
        <p:spPr>
          <a:xfrm>
            <a:off x="352440" y="3556080"/>
            <a:ext cx="8515440" cy="280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466b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828720" y="3568680"/>
            <a:ext cx="762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Operacional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7" name="Line 29"/>
          <p:cNvSpPr/>
          <p:nvPr/>
        </p:nvSpPr>
        <p:spPr>
          <a:xfrm>
            <a:off x="3179880" y="5089680"/>
            <a:ext cx="0" cy="135252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8" name="Line 30"/>
          <p:cNvSpPr/>
          <p:nvPr/>
        </p:nvSpPr>
        <p:spPr>
          <a:xfrm>
            <a:off x="6067440" y="5089680"/>
            <a:ext cx="0" cy="135252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7e4d1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20" name="Rectangle 32"/>
          <p:cNvSpPr/>
          <p:nvPr/>
        </p:nvSpPr>
        <p:spPr>
          <a:xfrm>
            <a:off x="272880" y="1274760"/>
            <a:ext cx="835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ff0000"/>
                </a:solidFill>
                <a:latin typeface="Univers 65 Bold"/>
              </a:rPr>
              <a:t>Identificar Riesgos que Amenazan el Objeto del Negocio y los Procesos</a:t>
            </a:r>
            <a:endParaRPr b="1" lang="en-US" sz="26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6T10:13:50Z</dcterms:created>
  <dc:creator>Carlos Gómez</dc:creator>
  <dc:description/>
  <dc:language>en-US</dc:language>
  <cp:lastModifiedBy>Javier Miranda</cp:lastModifiedBy>
  <cp:lastPrinted>2000-02-24T15:42:04Z</cp:lastPrinted>
  <dcterms:modified xsi:type="dcterms:W3CDTF">2015-08-25T20:59:47Z</dcterms:modified>
  <cp:revision>309</cp:revision>
  <dc:subject/>
  <dc:title>NDPPS Template Guide</dc:title>
</cp:coreProperties>
</file>